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7D0-FC75-482D-B219-369C0FD7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591-1388-45C1-BB94-93EBAE46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B86-A55A-445F-B0E6-A844945A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469-968D-464F-8032-121376F5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3FF4-02ED-464C-A2E5-61E7CEFB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04C5-5801-4C53-99A4-48DA81A9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C306-DA12-4ECF-B7A6-08663603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1CE1-6719-4F79-BDB1-4CAE1F79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E14C-1E82-4254-8AA7-5910B248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C78A-ACF1-47FB-93E0-0CDE5771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5FA6-F73C-4F4D-80C3-C1E9E5F3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2A1-9C70-4355-A5EF-0E8120B2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623C-5DC7-4357-872F-EF0AD590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F4FF-5A10-4995-8C65-4EBE80E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328C-3976-4E99-AFD1-70687567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3448-A84A-4663-808B-1831BDC7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1FC7-7C5C-42BD-BBAC-99755C94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EF1-E472-416A-BD9A-EEC835CD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906-BC7D-4B49-A2EE-172A3273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F7F-D68F-4CFD-973D-4D367963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D7B-6692-406C-B4E0-184AC559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2D1-7445-4485-91E1-EA967EEE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E07-E2C2-41EA-8954-5FC74375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116-5B56-4976-AF12-A16DEA5F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2236-5766-47D1-9CF1-201582D756CA}" type="slidenum">
              <a:rPr b="0" lang="en-US" sz="10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ecember 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7E0E-C56A-4D68-A09E-85E8DB4EBA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A-OPS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uthentication Profi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Genove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F team ES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rence Berkeley National Labor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uthentication pro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in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Federation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AF5-97A1-410E-9037-FE9CD40154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uthentication Profil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uthentication services will fragment the current global trust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we must allow for innovations in Authentication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PKI procrustean bed no longer wor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a draft GGF informational do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0B7-5F8B-44B1-8960-9588E23C6C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uthentication Profile what is in i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Services must provide basic information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vernance of authentication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membership and operational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ing model that Relying parties can tr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271-7735-47E9-9A90-D03D62106E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neral Federation Doc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tion definition -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 secu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ation and repository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s and compl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and confidenti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omise and disaster 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tion 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580-2788-4827-B134-0E5084A46E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w Federations that can be profil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Federation with common AuthN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PS - Site Integrated Prox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A examp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 SSL support - Host certificat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F - RADIUS Authentication Fa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Credential S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CFD-F2E0-4C7D-912F-FA882835C1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us of doc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ly guidance material being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name to reflect 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entication Federations for Gr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Federation tem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 Federation set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used by the Americas Grid PMA for charte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EE4-1217-4B88-813C-F18451897F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6T00:37:25Z</dcterms:created>
  <dc:creator>TonyG</dc:creator>
  <dc:description/>
  <dc:language>en-US</dc:language>
  <cp:lastModifiedBy>Tony</cp:lastModifiedBy>
  <dcterms:modified xsi:type="dcterms:W3CDTF">2005-03-11T00:35:46Z</dcterms:modified>
  <cp:revision>27</cp:revision>
  <dc:subject/>
  <dc:title>PKI Service changes</dc:title>
</cp:coreProperties>
</file>