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2E16-60D1-4675-8540-02C8540EB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3BD2-E42B-45B1-A1E0-06F322E7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3850-25DE-4816-8AA9-BC5E18F0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B9F9-E847-4DE8-86F7-2E339FFC1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EBAA-E688-43C6-93C4-C82D3F66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1B16-C942-4377-82FC-C4FBC7D3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DB9A-DEC8-4D7D-9BAA-D4F90849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1B74-3CD8-4D95-A1C2-B8445305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C5F2-59AD-4009-8F13-0D9DD541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662B-7546-47D7-91F4-FF5E85A6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9ED5-1C44-4789-9350-E12F516C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5DF1-24AF-44E0-8906-67BA0D3A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A82F-04A9-4077-8991-A13A57D2C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atus of CAOPS-WG –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Darcy (1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atus of Documents –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Darcy (5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CSP Requirements for OCSP –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Olle (20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uthentication Profiles –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Tony (20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uditing Topics for Grid CA’s –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Yoshio (20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of CAOPS-W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ristos Kanellopolous is now co-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ps to Tony for his mad sty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cond session, at 17:00-18:30 in Crystal Ballroom 3, that will concern itself with the International Grid Fe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id Security Area meeting, 19:00-20:30 in Sapphire Ballroom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of Doc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ill in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CSP Requirements for Grids –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Olle, Mike, Mi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uthentication Profiles –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 the editor queue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(kind of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rid PMA Model Charter –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Bob, Tony, Peter, M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ertificates for Automated Clients –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Steve, Ma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t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rid CA Common Naming –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Mike, T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rid Certificate Extension Profile –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Mike, David (out of retirement again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5:05:06Z</dcterms:created>
  <dc:creator>Darcy Quesnel</dc:creator>
  <dc:description/>
  <dc:language>en-US</dc:language>
  <cp:lastModifiedBy>Darcy Quesnel</cp:lastModifiedBy>
  <dcterms:modified xsi:type="dcterms:W3CDTF">2005-03-15T06:19:00Z</dcterms:modified>
  <cp:revision>4</cp:revision>
  <dc:subject/>
  <dc:title>Agenda</dc:title>
</cp:coreProperties>
</file>