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eugridpma-02v03trozo2" descr="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5791320" y="6597720"/>
            <a:ext cx="3097080" cy="260280"/>
            <a:chOff x="5791320" y="6597720"/>
            <a:chExt cx="3097080" cy="260280"/>
          </a:xfrm>
        </p:grpSpPr>
        <p:sp>
          <p:nvSpPr>
            <p:cNvPr id="3" name=""/>
            <p:cNvSpPr/>
            <p:nvPr/>
          </p:nvSpPr>
          <p:spPr>
            <a:xfrm>
              <a:off x="5791320" y="6597720"/>
              <a:ext cx="309708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791320" y="6597720"/>
              <a:ext cx="30970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IGF meeting, March 15 2005 - </a:t>
              </a:r>
              <a:fld id="{35E4D9AF-2D27-494F-9CA1-ED33A35F066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chair@eugridpma.o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eugridpma-02v02" descr="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49" name="eugridpma-02v03" descr=""/>
          <p:cNvPicPr/>
          <p:nvPr/>
        </p:nvPicPr>
        <p:blipFill>
          <a:blip r:embed="rId2"/>
          <a:stretch/>
        </p:blipFill>
        <p:spPr>
          <a:xfrm>
            <a:off x="1541520" y="118584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914400" algn="ctr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3" marL="1371600" algn="ctr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4" marL="1828800" algn="ctr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5120" y="3762360"/>
            <a:ext cx="8067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istribution Repository Structure</a:t>
            </a:r>
            <a:br>
              <a:rPr sz="3000"/>
            </a:br>
            <a:br>
              <a:rPr sz="3000"/>
            </a:br>
            <a:r>
              <a:rPr b="0" lang="en-GB" sz="2200" spc="-1" strike="noStrike">
                <a:solidFill>
                  <a:srgbClr val="000066"/>
                </a:solidFill>
                <a:latin typeface="Lucida Sans"/>
              </a:rPr>
              <a:t>David Groep, 2005.03.15</a:t>
            </a:r>
            <a:endParaRPr b="1" lang="en-US" sz="2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8" name=""/>
          <p:cNvSpPr/>
          <p:nvPr/>
        </p:nvSpPr>
        <p:spPr>
          <a:xfrm>
            <a:off x="573120" y="230040"/>
            <a:ext cx="8067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66"/>
                </a:solidFill>
                <a:latin typeface="Lucida Sans"/>
              </a:rPr>
              <a:t>http://www.eugridpma.org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Naming conventio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Authority will have an alias of 4-16 cha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PMA will have a shortnam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“eugridpma”, “apgridpma”, “tagpma”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profile will have a shortname for use in RPM specialisation and for the –with-profile= configure opti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lassic”: traditional, secured PKI CA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ips”: Site Integrated Proxy Servers, kCA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cs”: secured Active Certs Stores, NERSC-sty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xperimental”: testing and experimental authorities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f any kind that need distribut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est”: internal testing onl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irroring requirem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PMA will mirror all others &amp; the IG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web site / directory naming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ttp://www</a:t>
            </a: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.pmaname.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rg/distribution/mirror/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irror frequency: once dai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lso mirror yourself for consistency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o “/distribution/mirror” will be same everywhe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mplementation pla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Distribution of trust anchor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e PMA distributes a set of trust anchors for the community of all accredited C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lthough published via a secure web site, RPs are invited to cross-check the trust anchors against TACAR &amp;c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When using common auth profiles, RPs are likely to install all accredited authorities from all PM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eed simple, common mechanis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upport both simple tar-based installs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nd RPM/yum/apt (and debian?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Distribution item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P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e per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ncluding meta-data like CRL 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olicy” meta-RPMS for accredited author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ar bal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er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 combined tarball with configure/install scrip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urrent layout (one profile only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/distribution/current -&gt; 0.27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/distribution/0.27/..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RPMS/ca_NAME1-0.27-1.noarch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RPMS/ca_NAME2-0.27-1.noarch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tgz/ca_NAME.tar.gz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   /cabundle-eugridpma-accredited.tar.gz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ca_policy_eugridpma-0.27-1.noarch.rp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/distribution/0.27/headers/..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Proposed structure (multiple profiles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050840"/>
            <a:ext cx="8915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current -&gt; eugridpma/1.0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eugridpma/1.0/accredited/RPMS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RPMS/ca_NAME-1.0-1.noarch.rpm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RPMS/ca_policy_eugridpma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-classic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-1.0-1.noarch.rpm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RPMS/ca_policy_eugridpma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-acs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-1.0-1.noarch.rpm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tgz/ca_NAME.tar.gz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tgz/cabundle-eugridpma-accredited.tar.g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eugridpma/1.0/headers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apgridpma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pgridpma/current/accredited/ca_policy_apgridpma-classic-0.3-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tagpma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tagpma/current/accredited/ca_policy_tagpma-sips-1.2-1.noarch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eugridpma/current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igf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igf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current/accredited/RPMS/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ca_policy_igf-classic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-1.0-1.noarch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700" spc="-1" strike="noStrike">
                <a:solidFill>
                  <a:srgbClr val="000066"/>
                </a:solidFill>
                <a:latin typeface="Courier New"/>
              </a:rPr>
              <a:t>requires: ca_policy_</a:t>
            </a:r>
            <a:r>
              <a:rPr b="1" i="1" lang="en-US" sz="1700" spc="-1" strike="noStrike">
                <a:solidFill>
                  <a:srgbClr val="ff0000"/>
                </a:solidFill>
                <a:latin typeface="Courier New"/>
              </a:rPr>
              <a:t>eugridpma-classic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700" spc="-1" strike="noStrike">
                <a:solidFill>
                  <a:srgbClr val="000066"/>
                </a:solidFill>
                <a:latin typeface="Courier New"/>
              </a:rPr>
              <a:t>requires: ca_policy_</a:t>
            </a:r>
            <a:r>
              <a:rPr b="1" i="1" lang="en-US" sz="1700" spc="-1" strike="noStrike">
                <a:solidFill>
                  <a:srgbClr val="ff0000"/>
                </a:solidFill>
                <a:latin typeface="Courier New"/>
              </a:rPr>
              <a:t>apgridpma-classic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headers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66"/>
                </a:solidFill>
                <a:latin typeface="Courier New"/>
              </a:rPr>
              <a:t>*</a:t>
            </a:r>
            <a:r>
              <a:rPr b="0" lang="en-US" sz="1700" spc="-1" strike="noStrike">
                <a:solidFill>
                  <a:srgbClr val="000066"/>
                </a:solidFill>
                <a:latin typeface="Courier New"/>
              </a:rPr>
              <a:t>) ./configure --prefix=/etc/security/grid </a:t>
            </a:r>
            <a:r>
              <a:rPr b="0" lang="en-US" sz="1700" spc="-1" strike="noStrike">
                <a:solidFill>
                  <a:srgbClr val="ff0000"/>
                </a:solidFill>
                <a:latin typeface="Courier New"/>
              </a:rPr>
              <a:t>--with-profile=acs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66"/>
                </a:solidFill>
                <a:latin typeface="Courier New"/>
              </a:rPr>
              <a:t>make install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Using the RPM repositor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aving all PMA </a:t>
            </a: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current 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epositories mirrored under one root allows YUM/APT updates from a single sourc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f the “current” is mirrored and old files removed, manual installation is also unambiguou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irroring ensures getting always the latest from every PM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stall all “classic” CAs with a single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yum –y install ca_policy_igf-classic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ave an “overall” policy file that includes all profiles: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yum –y install ca_policy_ig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RPM dependenc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classic-2.3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authname = 2.3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3.4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classic = 3.4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sips = 3.4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acs = 3.4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classic-1.0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eugridpma-classic [no version!]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apgridpma-classic [no version!]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tagpma-classic [no version!]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1.0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classic = 1.0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sips = 1.0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acs = 1.0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A package cont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equired cont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rust anchor: 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0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 location: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crl_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amespace definition: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signing_polic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ptional cont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ERT location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ca_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 web page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ackage dependencies (RPM onl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for a hierarchical PKI the RPM name of the parent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posed cont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metadata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.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oc</a:t>
            </a:r>
            <a:br>
              <a:rPr sz="2000"/>
            </a:b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with: alias, full name, AuthProfile, email addresses, PDS, CP/CPS link, all as “attribute=value” pai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ar/Configure based installatio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P will download three tarbal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uns ./configure three tim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but same format for all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efix=path [default: /etc/grid-security/certificates]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with-profile=authprofilename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[default: all profiles]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 Groep</cp:lastModifiedBy>
  <dcterms:modified xsi:type="dcterms:W3CDTF">2005-03-13T06:57:38Z</dcterms:modified>
  <cp:revision>118</cp:revision>
  <dc:subject/>
  <dc:title>European Grid Policy Management Authority</dc:title>
</cp:coreProperties>
</file>