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1D9C-9B25-4E71-96C6-F924ED62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3F60-9A29-4B9E-A75B-F7A110B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1DEA-52B2-42B8-AE98-777E628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FF63-162E-41A1-865D-A14040F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9383-CC8C-4398-A3C6-38BD4AB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F75F-5F65-48F7-9FF7-A323FBA3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7F15-6757-4239-9234-38E6E5C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1680-D097-4123-BAEB-D0A1D81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6673-B5D0-4AED-90BE-9D3BF0F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7799-FCCC-4E11-B3C5-D9E0664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E5B6-35E4-4247-A01E-9B78A7DB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C594-5B01-4B74-9F72-C7AA800E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3D1-EFB9-40CC-81CF-D8AEDA306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</a:rPr>
              <a:t>Status and plans of the APGrid P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APGrid PMA: Asia Pacific Grid P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eneral Policy Management Authority in Asia Pacif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Launched on June 1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, 200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Defines minimum CA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approved that we accept two levels of C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xperimental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lternative of the Globus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Can be trusted within A-P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trict management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pected to be trusted by international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Members and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1200240"/>
          <a:ext cx="8964720" cy="5124240"/>
        </p:xfrm>
        <a:graphic>
          <a:graphicData uri="http://schemas.openxmlformats.org/drawingml/2006/table">
            <a:tbl>
              <a:tblPr/>
              <a:tblGrid>
                <a:gridCol w="1793880"/>
                <a:gridCol w="2309760"/>
                <a:gridCol w="1800360"/>
                <a:gridCol w="1873080"/>
                <a:gridCol w="118764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fil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mental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shio T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ic 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/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e-Hyuck Kw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i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xing 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I / 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hore Sakhar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lian Yu-Chung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aka U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umu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C /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on K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/ Hong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n Lin, El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f Hyd /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un Agarw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 / 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n Ya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PAC /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 Abram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Many members were inactiv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uld not have motivation for active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atisfy with using experimental CA (simple 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on experts of PKI/Security and have less interests for the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Situation is going to be chang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ome CAs have a plan for launching a 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HEP / China, CAS / China, NCHC / Taiwan, VPAC / Austral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U. of Tsukuba is involved in Lattice QC Grid project and it expects NAREGI CA to be trusted by European and American 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PGrid PMA should be able to help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membersh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no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 officio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obligation for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production-level 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experimental-level CAs in request b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Invite representatives of relying parties to the APGrid PM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accreditation proced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Now: voting using e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lan: have regular face-to-face meeting / VTC (regular meeting and request-bas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Define procedures for re-certify C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eer-audit or PMA (chair) will audit all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Should establish formal relationship with the other PM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SCC, IHEP should belong to only AP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has two main objectiv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e responsible as a regional PMA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fine minimum CA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ccredit and audit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upport CAs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elp / give advice to launch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nform the current status and future direction about our efforts (IG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It was less active, but the situation is going to be improv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e-organize the P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hanged the accreditation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have face-to-face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do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4T15:54:41Z</dcterms:modified>
  <cp:revision>102</cp:revision>
  <dc:subject/>
  <dc:title>スライド 1</dc:title>
</cp:coreProperties>
</file>