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B5E-F9DA-478E-8FEB-0B8A596D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AAE-3FCF-443D-9462-4CF99F5D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EDD-4AE6-4006-A588-50D7A6C6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F72-B6E9-428C-BB02-9521A953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019-57CC-45CA-9F2A-80174635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91F-1501-490A-9FDA-AD44C5B5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93F-2AC9-4E08-B8CB-2194355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E1C-8C6F-499E-9823-97C380D6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93A-B6AE-4CAB-9330-4D7DA56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76A-D650-4CEF-9C3E-6D12B70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DD0-FB7C-47A6-9E5F-085E9E6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0CD-50ED-413A-92B6-22437A5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58BB-146A-4B76-BFC5-64C7319420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OCSP Requirements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c479d"/>
                </a:solidFill>
                <a:latin typeface="Verdana"/>
              </a:rPr>
              <a:t>GGF13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Refreshener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OCSP = Online Certificate Status Protocol (RFC2560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Removes(?) burden of CRL distribution and update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ents still have to do path validation!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ightweight request/response (HTTP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hanges since last tim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Document “finish” applied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sections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re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s based on (marginal)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ast week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mments from Sp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280" y="1844640"/>
            <a:ext cx="4761000" cy="398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99548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6000" y="3027240"/>
            <a:ext cx="1644480" cy="7797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875120" y="1341360"/>
            <a:ext cx="2144880" cy="2111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75120" y="2421000"/>
            <a:ext cx="2144880" cy="11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645000"/>
            <a:ext cx="14702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or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5229360"/>
            <a:ext cx="2160720" cy="936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4707000"/>
            <a:ext cx="147168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793520" y="5149800"/>
            <a:ext cx="104940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200" y="3519360"/>
            <a:ext cx="1471680" cy="8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793520" y="3941280"/>
            <a:ext cx="1049400" cy="85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440" y="1876320"/>
            <a:ext cx="27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/organ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000" y="3429000"/>
            <a:ext cx="208764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83664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4149720"/>
            <a:ext cx="216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58136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473724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6800" y="4881600"/>
            <a:ext cx="164484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02596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17032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31324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877000"/>
            <a:ext cx="14716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836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iodic CRL downlo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CSP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7640" y="1413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640" y="981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51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3" idx="3"/>
          </p:cNvCxnSpPr>
          <p:nvPr/>
        </p:nvCxnSpPr>
        <p:spPr>
          <a:xfrm flipV="1" rot="16200000">
            <a:off x="3444480" y="420912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14" idx="0"/>
            <a:endCxn id="88" idx="3"/>
          </p:cNvCxnSpPr>
          <p:nvPr/>
        </p:nvCxnSpPr>
        <p:spPr>
          <a:xfrm flipH="1" flipV="1" rot="5400000">
            <a:off x="3971880" y="420948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Updated architectur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6560" y="990720"/>
            <a:ext cx="1981080" cy="2057400"/>
          </a:xfrm>
          <a:prstGeom prst="line">
            <a:avLst/>
          </a:prstGeom>
          <a:ln w="28440">
            <a:solidFill>
              <a:srgbClr val="47c16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1400">
            <a:off x="4497120" y="1750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c164"/>
                </a:solidFill>
                <a:latin typeface="Verdana"/>
              </a:rPr>
              <a:t>Push, Delta C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Outstanding issues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igned request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tronger differentiation on suspension vs revoc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Use of OCSP response extensions to convey additional (validation) inform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More wording on Delta CRL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Notion of a caution period (RFC3125)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Moving forward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Address the Spanish contributions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Move towards WG last cal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Have document in public comment before GGF14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27:48Z</dcterms:created>
  <dc:creator>Olle Mulmo</dc:creator>
  <dc:description/>
  <dc:language>en-US</dc:language>
  <cp:lastModifiedBy>Olle Mulmo</cp:lastModifiedBy>
  <dcterms:modified xsi:type="dcterms:W3CDTF">2005-03-15T05:40:07Z</dcterms:modified>
  <cp:revision>32</cp:revision>
  <dc:subject/>
  <dc:title>OCSP Confessions</dc:title>
</cp:coreProperties>
</file>