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390-CF1F-41E4-A44C-B8A906A0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15D-7819-4560-B4C9-D3872105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566-C1AF-42F8-A56B-CB212A84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0D3-636C-4AED-9671-526CCB87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D405-AE4D-4F1E-9ABF-D72FE28D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920D-9B7C-4C39-AA07-5375AB05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807C-E669-4988-99A1-0BF9ABC7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5994-91B5-4EF9-BBED-81C7671A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960F-C063-4A00-9AAD-105FDC36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2454-040F-451E-A845-5530D671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BD17-729E-43DB-9D90-AF2427D6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FF8-7EA3-4FDA-8723-67748B77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A4B9-EE1A-4EAB-BFC1-17DD4C0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516E-6AB7-43C5-869C-D30C563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1567-A3B9-4B8D-A2F9-36835B3F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8AF1-B73F-4618-A118-E739308E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6695-A5BB-4DEE-8AA1-CB0EC0C5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BC8-7A11-4AA0-A5A9-304BCD19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F2B-182E-4E90-90E1-AE4BC5F6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B4D-8D1E-490C-9E74-6F6FF4D1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A78-1C8C-4C4C-B5A6-4FEA3761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11F-C8D9-41B8-A32B-756D1BA8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946-9DE1-4F87-B315-0DBA254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133-B0A6-4592-9B23-1EDE06BD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D794-501E-4D74-B8A0-44BB2A761A9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D78F-B92F-454B-A51B-EF52CA9F7DD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ridpma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national Grid Fede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 up in March 2003 – the Tokyo accord. </a:t>
            </a:r>
            <a:r>
              <a:rPr b="0" lang="en-US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GridPMA.org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e trust peering between The Americas, European and Asian Pacific commun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U Grid Policy Management Author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GEE: Enabling Grids for E-science in Europ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ian Pacific Policy Management Author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PGrid: National Institute of Advanced Industrial Science and Technolog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mericas Grid PMA – n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nada and USA (DO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es the establishment of top level CA registri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usted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party repositories need for establishment of trus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oot CA certificates, CA repositories and CRL publishing poin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U Grid PMA registry – de facto  (CNRS: French National Center for Scientific Researc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ian Pacific CA registry (AP PM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RENA TACAR (TERENA Academic CA Reposit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Global Grid Forum for publishing Standards and community best practi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9:35:45Z</dcterms:created>
  <dc:creator>Tony</dc:creator>
  <dc:description/>
  <dc:language>en-US</dc:language>
  <cp:lastModifiedBy>Tony</cp:lastModifiedBy>
  <dcterms:modified xsi:type="dcterms:W3CDTF">2005-01-28T09:36:11Z</dcterms:modified>
  <cp:revision>1</cp:revision>
  <dc:subject/>
  <dc:title>International Grid Federation</dc:title>
</cp:coreProperties>
</file>