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FE62-809D-4EF8-B009-3A5AE9D9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2251-7866-46B2-AFA6-AD49503C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9385-704C-43A3-95BB-2D0E4487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7211-DB75-4E41-A3B9-E9590F5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1F3E-C491-4C53-9B5F-F5F9E7F0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FC92-D0E5-4714-9C4F-929851C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7CC4-A145-44A7-89B1-E6F87A88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9BBF-C3EB-4F11-945A-39F5D19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0E00-BE3F-4137-B09D-73A2F19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1E58-35F4-423E-920A-907E8BAE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AF43-1373-4707-B6BB-A22CBE22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B88B-ADD9-4852-9BE6-79DACF97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ECD-F94B-4627-A623-C310B9FE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www.cica.ca/" TargetMode="External"/><Relationship Id="rId8" Type="http://schemas.openxmlformats.org/officeDocument/2006/relationships/hyperlink" Target="http://www.aicpa.org/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posals for aud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ccredit/certify/audit authorit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A regional PMA shou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ccredit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re-certify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ordinate peer-review (peer-audit) of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ow a CA is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udit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Should PMA be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osed audit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NAREGI PKI WG has subjectively selected criteria for auditing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ICPA/CICA WebTrus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 Program for Certification Autho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inimum CA requirements of APGrid PMA and EU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Web Tru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ebTrust is a seal awarded to web sites that consistently adhere to certain business standards established by the Canadian Institute of Chartered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CICA.c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 and the American Institute of Certified Public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CP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n the program, “Web Trust Principles and Criteria for  Certification Authorities” lists criteria for C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ay too much for Grid C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6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1: CA Business Practices Disclos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discloses its key and certificate life cycle management business and information privacy practices and provides its services in accordance with its disclosed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2: Service Integr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criber information was properly authenticated (for the registration activities performed by ABC-CA)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grity of keys and certificates it manages is established and protected throughout their life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nciple 3: CA Environment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ber and relying party information is restricted to authorized individuals and protected from uses not specified in the CA's business practices disclosur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inuity of key and certificate life cycle management operations is maintained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 systems development, maintenance, and operation are properly authorized and performed to maintain CA systems integr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 and propos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 GRID CA will be audited by NAREGI CA according to the proposed criteria for audit in March 29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valuate its appropriat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will audit production-level CAs based on the proposed criter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The proposed criteria for audit can be a starting point to establish common criteria for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circulate the proposed criteria to the CAOPs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ay provide documents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ents and discussions are wel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5T03:46:35Z</dcterms:modified>
  <cp:revision>102</cp:revision>
  <dc:subject/>
  <dc:title>スライド 1</dc:title>
</cp:coreProperties>
</file>