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1A3D-579D-411A-A7A5-DCD665EA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9F82-8345-4114-9EE3-20C37FD9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1305-0139-4BC2-B5A3-BDB893115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E083-7BCE-484A-9941-23C3FA6F4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DCFB-3FCA-4040-A161-15EE6F01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4F6F-67F5-46E0-8411-62287161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3862-E7BA-4FD2-B24D-4A843E0E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A978-2CEF-411F-8347-ED9728FA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E574-52BB-4583-8094-9145F4F2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EC85-F0EB-477B-AA96-2FC197EF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FFFD-E7F3-41ED-9CDB-E328E829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C43B-C55D-46AD-B263-D0C14E6B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DE97-34F6-43A5-96EB-AC9D3DA37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86600" y="0"/>
            <a:ext cx="2057400" cy="1173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G Request to Regional P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GF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15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Cowles &amp; Dane Sk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reditation Pro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e or develop accepted standard pro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re approximate parity in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peer re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 for and arbitrate overl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 only non-overlapping CA signing policy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our participation as a relying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ying parties able to make known needs and raise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on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e information about accredited 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methods for relying parties to obtain automatic information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to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of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 Certif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to policies &amp; cont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other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ith standards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p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st remains decision of resource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nd to encourage reliance on IGF member accred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significant value as role of common service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accept this requested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8:03:05Z</dcterms:created>
  <dc:creator>Robert Cowles</dc:creator>
  <dc:description/>
  <dc:language>en-US</dc:language>
  <cp:lastModifiedBy>Robert Cowles</cp:lastModifiedBy>
  <dcterms:modified xsi:type="dcterms:W3CDTF">2005-03-15T08:33:48Z</dcterms:modified>
  <cp:revision>1</cp:revision>
  <dc:subject/>
  <dc:title>OSG Request to Regional PMA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96807805</vt:r8>
  </property>
  <property fmtid="{D5CDD505-2E9C-101B-9397-08002B2CF9AE}" pid="3" name="_AuthorEmail">
    <vt:lpwstr>rdc@slac.stanford.edu</vt:lpwstr>
  </property>
  <property fmtid="{D5CDD505-2E9C-101B-9397-08002B2CF9AE}" pid="4" name="_AuthorEmailDisplayName">
    <vt:lpwstr>Cowles, Robert D.</vt:lpwstr>
  </property>
  <property fmtid="{D5CDD505-2E9C-101B-9397-08002B2CF9AE}" pid="5" name="_EmailSubject">
    <vt:lpwstr>OSG Request to Regional PMAs.ppt</vt:lpwstr>
  </property>
  <property fmtid="{D5CDD505-2E9C-101B-9397-08002B2CF9AE}" pid="6" name="_NewReviewCycle">
    <vt:lpwstr/>
  </property>
</Properties>
</file>