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450-18F1-4272-A2DC-894DDD90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5000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EF4-FF58-4C26-BF11-BE4ED60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1FB-1FA7-4D42-8FD6-551B1EA9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532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532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E14-ECE1-43A5-A38F-88BCFD19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E73-736B-4ECF-A28E-810040EC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B9B-C3B8-46B1-B65A-C0CF77D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BFB-ECA6-45B4-8E76-40F32F39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449-D2BC-486B-B21F-C535EA01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630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4B2-043C-4FCE-850E-F220DA19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DFE-9906-42A9-82AF-6F5460C1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F74-7E5E-4A0A-81CE-B6CE780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257-B93C-4497-BECC-9409887B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209E2-E689-434A-A527-19ADA3AF0455}" type="slidenum"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bot Soap 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Jens Jensen &lt;j.jensen @ rl ac uk&gt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Science and Technology Facilities Counci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EU GridPMA Meeting May 2008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roject-own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ccess to private key can be shar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ingle person responsib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uck can be pas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ust inform CA when buck is pas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ok closer at use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isks, 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mens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936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In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ertificate 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160" y="3048120"/>
            <a:ext cx="37893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ut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 am a Robot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uthority chain, LoA, risk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Verified Subscriber infor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erified by CA/R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on-verified Subscriber infor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sserted by Us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(How to) make things Verifi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hat's the risk of non-Verifi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e-Tok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hould now work with OpenSC+PC/SC + Aladdin driver cross platform (P Millar, DESY)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penSC PKCS#15 suppor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ssert stored on Key Tok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2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3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4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ot yet certified but in process of certifi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ot certified, no process (?)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bots Nam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aming is in the D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obots name themselves (Robot:)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obots name their own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arm and Fuzzy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g files show it's a robo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g files show whose robot it wa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uthorisation by DN for robo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36840"/>
            <a:ext cx="77659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How to communic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am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.g. hierarchical scheme (Brian)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urrent hacky vers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equire middleware to parse OID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rrot?  Stick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xternal source, e.g. LDA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03120" indent="-303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How tightly do we need to manage usag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OMS, porta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owerful clients vs weaker cli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3120" indent="-303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How to move away from personal nam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onfus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nnot be inheri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nnot be shar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roject owned/manag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47</cp:lastModifiedBy>
  <cp:revision>0</cp:revision>
  <dc:subject/>
  <dc:title>PowerPoint Presentation</dc:title>
</cp:coreProperties>
</file>