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C45-FD60-4918-A4DD-7DA79CEE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7D2-B065-45CE-A317-55DEFEE9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8BF-0B98-44E7-BED3-14D0F2B6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0F0-4A6F-4A9D-96D2-058E081E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74A-C464-4F5C-B7EF-8C4613C0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335-DAFD-455D-9620-B871B4FE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697-4FCB-4259-87AD-46353105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64E-189E-4441-97DE-457659C6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435-C1A4-4C5F-92EA-12E97E39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9BA-5D5B-4BD0-B617-C18BE0E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5A2-85CD-4B10-83D8-3A00D3C9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24F-44F8-4391-8EFE-90D91084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1415-7E63-450C-AC98-DE82EAEBEC5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Copenha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May 200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isting IGTF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m new AuthZ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Large Grids (EGEE, OSG etc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G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Or mix of some/all of the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5A01-EEB1-46B3-A26B-EFCE18B9EC7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My personal preferences (not discussed ye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GTF defines the standar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thers do accredi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th IGTF memb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mportant to have feedback into standard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Large Grids or Coordination (call it EGI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 Global VO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nd run AA services for the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ccredited by IGTF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C6F8-DFCA-4098-A9D0-EEB9DA0A674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very VO should have a home Gr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uns the AA ser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GI AA service is accredited by IGTF or EGI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the VO 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epare draft profiles (AA and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a small number of global VO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eedback and improve profi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B76E-84D4-4CD5-8DD1-FA80C3B11FE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 valid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ocument from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Attribute Certificate Validation in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ike H to say mor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6E81-0CF5-41A6-8EB1-5FFF989CD63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s and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should start on the draft AA pro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eeds a small tea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n wider discuss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 propose to hold a worksho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arly autum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GEE’08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Joint with EU Grid PMA Lisbon meet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0988-592B-4C42-8D0F-B5069868329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6570-7E3C-4033-81BD-D13EB63673C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2D4E-5D6D-4727-8C01-44DB6C0336B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Virtual Organisation user and service membership manage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Attribute Authorities (AA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Virtual Organisations and their membership management procedur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ndate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positories and distribution of accredited AA roots of tru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echnical details of attribute signing and trust valid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recommend how IGTF could handle the definition of AuthZ policy and related accreditation during the next 3 to 5 years, taking into account the move towards a sustainable EU Grid Infrastructure and constituent national Gri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E53-3EC0-431A-8936-B14F838AD1A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ling list memb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2204640"/>
            <a:ext cx="3809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Altuna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Basn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V Ciaschin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 Cow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G Garzogli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Groe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Hel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 Imamagi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Kanellopoulo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6520" y="2204640"/>
            <a:ext cx="3810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els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 Koero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ouri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McNab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O’Callagha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Sov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Y Tanak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Triantafyllidi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W Weisz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Wolfr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0BC0-B04E-4905-9149-60AE4C66BFE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on man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veral suggestions receiv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First mandate for this WG should be to set up a list of all known AuthZ tools for the Grid environment available and in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Lucida Grande"/>
              </a:rPr>
              <a:t>To determine actual and near future best pract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Especially it should help to discern advantages and disadvantages of SAML assertions versus Attribute certificates versus attributes directly included in proxy certificat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This could guide us in the more theoretical aspects of the WG work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A09-9C7B-43C6-BD63-8E10FBA2000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Lucida Grande"/>
              </a:rPr>
              <a:t>Policy implications for VOs and VO service providers are essentially the same whatever signing and attribute/assertion technology is u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Perhaps there is scope for an AAOPS in OGF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need for implementations that work, as opposed to blue sky protocol desig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1172-4049-4947-BAC6-4F2493403245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030a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Lucida Grande"/>
              </a:rPr>
              <a:t>I agree that we may start with working on VOMS; however, staying implementation-independent, as much as possible, would help us in the long ru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How LoA of the underlying AuC assertions affect what AuZ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This leads to a sort of risk assessment framewor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If I have a precious resource, I need high quality AuC assertions underneath 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4519-0E11-4CFB-97A7-07A93107B57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olicy mode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Attribute Authority Service 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Based on VO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Can we make it technology independen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is should be writte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JSPG working on two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Registration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Membership Management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obably don’t need another one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7686-824B-4021-B973-BCCDB2EAD97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caling 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day in EGE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200 VOs (mix of global, international, regional, national, local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# VOMS servers (how many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eed to quantif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uture EGI/NGI worl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35 to 40 Grids in Euro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U Grid PM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~2 per meeting and reviews ~4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F3E-D3AB-4450-8DA3-7323F87D6CE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8-06-04T14:00:04Z</dcterms:modified>
  <cp:revision>62</cp:revision>
  <dc:subject/>
  <dc:title>Grid Security</dc:title>
</cp:coreProperties>
</file>