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D43-72EF-45DC-95DB-A7A5054D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014-258B-42CE-89A3-F2CE1D6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0AD-FA13-44B6-B7A5-27597D10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75B-A81E-4E62-AD5B-2E21C26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33E-0B50-49A8-8BB1-4A49C74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EFC-0418-4EFD-B61A-C750587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3F2-70D7-449C-89A2-A83459F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81D-4FEE-4F5C-ADBB-730933C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263-9B9A-481A-85E0-94273401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A5C-4020-4DEF-B7D7-52200D9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66C-1BB6-4BA1-8B3A-27BD542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D15-8EFF-4732-B7BF-989A674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508-E6CE-48F1-B8E2-6FD06DA7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rnath@sunserv.kfki.h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FKI RMKI CA Review</a:t>
            </a:r>
            <a:br>
              <a:rPr sz="4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UGridPMA May 26-28, Copenh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508280"/>
            <a:ext cx="57927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olcs Herná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TA KFKI RM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nath@sunserv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ki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esent Status &amp; Futur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assessment &amp;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ssons learned &amp;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cus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Background &amp;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hy 2 CAs in Hung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mmunity needed the servic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REN CA (NIIF) was planned, but no progress or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MKI had ~90% of LCG users &amp;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GridPMA in Brussels, Sept. 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FKI RMKI CA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demanded community agreement to preempt a 2 CA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. 2004: Community agreement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Hungarian grid community will endorse KFKI RMKI CA until the NIIF CA can setup an RA at KFKI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accepted the agreement, KFKI RMKI CA accr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tarted production in Jan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cent progress in the setup of NIIF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liable operation on Debian/Op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issued: 230 (6 for 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evoked: 126 (none comprom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alid: 47 (14 user, 33 h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host: 145 (68 DNs, even less ide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user: 79 (50 DNs, even less ident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CRLs: 120 (1 overdu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secure admin interface deployed &amp; tested (based on tok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User web interface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dP for NIIF AAI Federation in deployment (for user preau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contract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in production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ll probably keep the CA for local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ill rekey or extend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uld produce new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fter the NIIF RA is in production, will replace all grid c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ed to leave the club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k in progress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) CP/CPS is RFC 2527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7) Secure environment, access control &amp; log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9) Secure environment undocumented/unaudite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1) CA key protection B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0) Operational audit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1) List of personnel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2) Identity vetting (user)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3) Identity vetting (host) A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4) FQDN ownership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0) Record archival in auditable form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suffici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 long-term planning (was not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sing operat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scheduled’ paper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re is 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pecify everything as strict as 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rite all operational documents befor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ational audit/review ASAP (before 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ion of GRID namespace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ccreditation profile version should be recorded on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dit guidelines updates for AP changes? (versions for each AP versio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e audit guidelines for different AP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hank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53:10Z</dcterms:created>
  <dc:creator>Hernáth Szabolcs</dc:creator>
  <dc:description/>
  <dc:language>en-US</dc:language>
  <cp:lastModifiedBy>Hernáth Szabolcs</cp:lastModifiedBy>
  <dcterms:modified xsi:type="dcterms:W3CDTF">2008-05-28T07:43:03Z</dcterms:modified>
  <cp:revision>25</cp:revision>
  <dc:subject/>
  <dc:title>KFKI RMKI Grid Storage</dc:title>
</cp:coreProperties>
</file>