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66A3-E222-492D-977F-B6E391455C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128A-D906-4CF2-8E0F-EB1196C4DD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9403-BE5D-4A00-9D70-8B99D7BE6A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AE08-7B92-480A-AEA5-DF054E5007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5BF7-8394-4E8E-97D0-9601DE6FD4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3D27-721E-487F-86C8-B087652923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E51B-F154-4134-8C10-471ABCDC9F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1927-F4A6-4E71-8D5B-DEE808594D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CD7F-A7E4-4011-B8BC-E237E02179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2DC1-7E05-495E-AF2D-991D353EA2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7213-C3DA-43CE-9DD0-CFC07750D4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AFFB-532A-4AA8-AF03-CDD849E187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742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3657600"/>
            <a:ext cx="7620120" cy="5335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lIns="50760" rIns="142200" tIns="50760" bIns="50760" anchor="t">
            <a:normAutofit fontScale="12000"/>
          </a:bodyPr>
          <a:p>
            <a:pPr marL="4680" indent="-4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280" indent="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360" indent="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080" indent="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90720" y="6477120"/>
            <a:ext cx="13716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451296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F798-E9FF-4354-8B37-0518D12E7621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Group 2"/>
          <p:cNvGrpSpPr/>
          <p:nvPr/>
        </p:nvGrpSpPr>
        <p:grpSpPr>
          <a:xfrm>
            <a:off x="0" y="1066680"/>
            <a:ext cx="9144000" cy="76320"/>
            <a:chOff x="0" y="1066680"/>
            <a:chExt cx="9144000" cy="76320"/>
          </a:xfrm>
        </p:grpSpPr>
        <p:sp>
          <p:nvSpPr>
            <p:cNvPr id="41" name="Rectangle 3"/>
            <p:cNvSpPr/>
            <p:nvPr/>
          </p:nvSpPr>
          <p:spPr>
            <a:xfrm>
              <a:off x="0" y="1066680"/>
              <a:ext cx="9144000" cy="76320"/>
            </a:xfrm>
            <a:prstGeom prst="rect">
              <a:avLst/>
            </a:prstGeom>
            <a:solidFill>
              <a:srgbClr val="5da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"/>
            <p:cNvSpPr/>
            <p:nvPr/>
          </p:nvSpPr>
          <p:spPr>
            <a:xfrm>
              <a:off x="0" y="1066680"/>
              <a:ext cx="914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440" indent="11160">
              <a:spcBef>
                <a:spcPts val="700"/>
              </a:spcBef>
              <a:buClr>
                <a:srgbClr val="176d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6477120"/>
            <a:ext cx="13716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565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OPS-WG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520" y="3657600"/>
            <a:ext cx="7620120" cy="5335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ristos Kanellopoulos - Yoshio Tana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557000" y="4505400"/>
            <a:ext cx="2773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OPS-WG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th EUGrid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2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1F7B-A035-4239-895C-8C1E9110262C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CAOPS co-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ition to the Security Area as a Standard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CAOPS - IGTF 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3EAF-0C0B-4E40-A0B3-1CBE567D1C49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B0AB-AE8A-48B7-ABEE-DFDB5FA44E13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CAOPS co-chai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lcome Yoshio Tanaka as the new CAOPS co-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A192-2296-4F19-BE43-376C31E7ACF5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C3F7-FFA9-41B7-884C-F8C138772D12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OPS as a standards grou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be decided next week at OGF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group get better dissemination of the information to the user community, and get in CAOPS the opportunity to also publish recommendations-track documents and standard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group gets different oversight: from the security area in the standards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will need to update (actually: write) the group charter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workshops and informational sessions are still possi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CC62-0BA1-4752-92FE-AA38F637C16A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1F90-DC57-4680-AF08-B629DA993FA6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CAOPS - IGTF Workshop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Full day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mal CAOPS session (1 - 1,5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 of the day IGTF related discussion, food for thought both for IGTF &amp; CA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3D7D-2ACB-4D79-9CE5-62EF43D87AFB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A8D1-0A7C-4AFF-93CB-660BA465ABAA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st joint CAOPS - IGTF Worksho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GF 22, Boston, Feb 2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9570-5D56-4140-8925-C824B3E4DA18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866960" y="2158920"/>
            <a:ext cx="81039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08:30 - 09:00 nCiph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09:00 - 09:30  Kryp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09:30 - 10:00 Aladd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0:00 - 10:30 Safe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0:30 - 10:45 Q &amp; 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0:45 - 11:00 Coffee Brea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1:00 - 11:30 Private Key Prot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1:30 - 11:45 Certificate Renew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1:45 - 12:15 Higher Level CA Pro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2:15 - 13:15 Lun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3:15 - 13:30 Guidelines for Auditing 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3:30 - 14:00 Authentication Service Pro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4:00 - 14:30 Use Cases for Relying Party Enforced Namespace Constra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4:30 - 14:45 CP/CPS model templ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4:45 - 14:50 Election of new CAOPS co-chai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4:50 - 15:00 Coffee Brea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5:00 - 15:20 BalticGrid 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5:20 - 16:30 Robot Certifica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6:30 - 16:45 Coffee Brea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6:45 - 17:00 OpenCA + PRQP (PKI Resource Query Protoco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7:00 - 17:30 Identification in IGT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7:30 - 18:00 Distribution process docu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8:00 - 18:15 Discussion on SLCS (Revocati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1181160" y="2070000"/>
            <a:ext cx="406440" cy="4648320"/>
          </a:xfrm>
          <a:custGeom>
            <a:avLst/>
            <a:gdLst>
              <a:gd name="textAreaLeft" fmla="*/ 55800 w 406440"/>
              <a:gd name="textAreaRight" fmla="*/ 350640 w 406440"/>
              <a:gd name="textAreaTop" fmla="*/ 55800 h 4648320"/>
              <a:gd name="textAreaBottom" fmla="*/ 4592520 h 4648320"/>
            </a:gdLst>
            <a:ahLst/>
            <a:rect l="textAreaLeft" t="textAreaTop" r="textAreaRight" b="textAreaBottom"/>
            <a:pathLst>
              <a:path w="21600" h="246833">
                <a:moveTo>
                  <a:pt x="10125" y="0"/>
                </a:moveTo>
                <a:arcTo wR="10125" hR="10125" stAng="16200000" swAng="-5400000"/>
                <a:lnTo>
                  <a:pt x="0" y="236708"/>
                </a:lnTo>
                <a:arcTo wR="10125" hR="10125" stAng="10800000" swAng="-5400000"/>
                <a:lnTo>
                  <a:pt x="11475" y="246833"/>
                </a:lnTo>
                <a:arcTo wR="10125" hR="10125" stAng="5400000" swAng="-5400000"/>
                <a:lnTo>
                  <a:pt x="21600" y="10125"/>
                </a:lnTo>
                <a:arcTo wR="10125" hR="10125" stAng="0" swAng="-5400000"/>
                <a:close/>
              </a:path>
            </a:pathLst>
          </a:custGeom>
          <a:solidFill>
            <a:srgbClr val="5dad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 rot="16176000">
            <a:off x="1107360" y="2660760"/>
            <a:ext cx="44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16176000">
            <a:off x="1103040" y="3456000"/>
            <a:ext cx="45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GT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 rot="16176000">
            <a:off x="1023120" y="4381200"/>
            <a:ext cx="66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 rot="16176000">
            <a:off x="1103040" y="5538960"/>
            <a:ext cx="45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GT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1219320" y="5092560"/>
            <a:ext cx="330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1219320" y="3962520"/>
            <a:ext cx="330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1219320" y="3174840"/>
            <a:ext cx="330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37E7-8285-481B-847B-961EE3CDAF80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nd joint CAOPS IGTF Worksho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GF 23, Barcelona, June 4th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Top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3C63-3EA6-4F30-88A6-AED02619451B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8F4B-C168-4D76-8956-FEB883FC083D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ocuments currently under consideration by the CAOPS-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Audit Guidelines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: Yoshio Tanak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Provide guidelines for auditing C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Auditing Check Li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Authentication Service Profile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s: Christos Kanellopoulos, David Groep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efinition of what and Authentication Profile 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Requirements for writing Authentication Pro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this acts as the document template for the Authentication Profiles used in the IGT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Relying Party Defined Namespace Policies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s: David Groep, Olle Mulmo, Von Welch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Identify the requirements on the expression of the namespace constraints policy and on the processing and interpretation semantics of the policy by the relying par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ocument the existing signing_policy file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iscuss alternatives to thi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Stalled doc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OCSP requirements for Grids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s: Olle Mulmo, Mike Helm, Jesus Luna, Oscar Manso, Milan Sov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requirements on relying parties and responders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service architecture options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site caches, clearing house, high-level respond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71B0-FD13-42AB-901F-328B0C3AF8F1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91D6-BE92-492B-9EA9-B3062BE25D9E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s (cont’d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ocuments currently under consideration by the LoA-R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 </a:t>
            </a:r>
            <a:r>
              <a:rPr b="0" lang="en-US" sz="14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A gap analysis of current LoA definitions versus LoA requirements in e-Science/Grid context </a:t>
            </a:r>
            <a:r>
              <a:rPr b="0" i="1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: Mike Jones, et.al.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give an overview of current LoA definitions and the related efforts, and identify gaps between these definitions and the potential use of LoA in the e-Science/Grid con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Stalled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 </a:t>
            </a:r>
            <a:r>
              <a:rPr b="0" lang="en-US" sz="14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A risk analysis in relation to LoA and use case gathering in an e-Science context (Mike Hel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present a risk analysis from the prospective of relying parties (or service provid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C59F-3DE7-4748-B19A-2FDBB09F9215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Groep</dc:creator>
  <dc:description/>
  <cp:keywords/>
  <dc:language>en-US</dc:language>
  <cp:lastModifiedBy>Yoshio Tanaka</cp:lastModifiedBy>
  <dcterms:modified xsi:type="dcterms:W3CDTF">2008-05-27T12:39:18Z</dcterms:modified>
  <cp:revision>2</cp:revision>
  <dc:subject/>
  <dc:title>Security Area Review December 2006</dc:title>
</cp:coreProperties>
</file>