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C9B6D-47FF-4989-9A98-874C50816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F69E5-1555-45B0-AAF3-476C3ECB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29E41-E151-46A1-815D-A4B90E7EA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F9500-D7D5-4CF7-B6E1-EDDF7D447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C1154-FA3E-4B44-8503-7894DAAB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ACE49-7FF6-46AB-8C2C-A482E9ADF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356E6-05CB-44C4-BAE8-5050BE55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8939C-7EEF-444A-9375-CBA63E513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3DAB7-ADBC-4D1F-9E14-AB80043C5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519E-423C-4715-95DA-AC82768D8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DE29-0A31-42CD-9990-B4ECA6C5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AF5A-F8A6-496D-B32C-C6D1DBCFA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BC80-2723-498F-A155-B23F6A5D5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60" y="-27000"/>
            <a:ext cx="9180360" cy="6885000"/>
          </a:xfrm>
          <a:prstGeom prst="rect">
            <a:avLst/>
          </a:prstGeom>
          <a:ln w="0">
            <a:noFill/>
          </a:ln>
        </p:spPr>
      </p:pic>
      <p:sp>
        <p:nvSpPr>
          <p:cNvPr id="42" name="PlaceHolder 1"/>
          <p:cNvSpPr>
            <a:spLocks noGrp="1"/>
          </p:cNvSpPr>
          <p:nvPr>
            <p:ph type="title"/>
          </p:nvPr>
        </p:nvSpPr>
        <p:spPr>
          <a:xfrm>
            <a:off x="685800" y="227628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43" name="PlaceHolder 2"/>
          <p:cNvSpPr>
            <a:spLocks noGrp="1"/>
          </p:cNvSpPr>
          <p:nvPr>
            <p:ph type="subTitle"/>
          </p:nvPr>
        </p:nvSpPr>
        <p:spPr>
          <a:xfrm>
            <a:off x="900000" y="4292640"/>
            <a:ext cx="334512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lentin Pocotilenco</a:t>
            </a:r>
            <a:r>
              <a:rPr b="0" lang="en-US" sz="2000" spc="-1" strike="noStrike">
                <a:solidFill>
                  <a:srgbClr val="ffffff"/>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v@renam.md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 Associati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renam.md</a:t>
            </a:r>
            <a:endParaRPr b="0" lang="en-US" sz="2000" spc="-1" strike="noStrike">
              <a:solidFill>
                <a:srgbClr val="000000"/>
              </a:solidFill>
              <a:latin typeface="Arial"/>
            </a:endParaRPr>
          </a:p>
        </p:txBody>
      </p:sp>
      <p:pic>
        <p:nvPicPr>
          <p:cNvPr id="44" name="Picture 5" descr="logo"/>
          <p:cNvPicPr/>
          <p:nvPr/>
        </p:nvPicPr>
        <p:blipFill>
          <a:blip r:embed="rId2"/>
          <a:stretch/>
        </p:blipFill>
        <p:spPr>
          <a:xfrm>
            <a:off x="-36360" y="-27000"/>
            <a:ext cx="2195280" cy="139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The values of extensions in case of CA certificate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TRUE</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Certificate Sign, CRL Sign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CA key ID&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A, S/MIME CA, Object Signing CA</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4"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user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 Non-Repudita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Client Authentication, E-mail Protec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lt;user's email addres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690840" indent="-2656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lient, S/MIME, Object Signing</a:t>
            </a:r>
            <a:r>
              <a:rPr b="0" lang="ru-RU"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7"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host and service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Server Authenticatio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md-grid-ca@renam.md</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DNS:FDQ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r>
              <a:rPr b="0" lang="ru-RU" sz="1900" spc="-1" strike="noStrike">
                <a:solidFill>
                  <a:srgbClr val="000000"/>
                </a:solidFill>
                <a:latin typeface="Arial"/>
              </a:rPr>
              <a:t> </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Serv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24 bit or 2048 bit encryp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yea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sonal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al contac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card, passport or driving licens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rver/Service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host must have a valid DNS nam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already possess a valid personal MD Grid-CA Certific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provide a proof of his or her relation to the host itself.</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rtificate revocation list</a:t>
            </a:r>
            <a:r>
              <a:rPr b="0" lang="en-US" sz="1900" spc="-1" strike="noStrike">
                <a:solidFill>
                  <a:srgbClr val="000000"/>
                </a:solidFill>
                <a:latin typeface="Arial"/>
              </a:rPr>
              <a:t> (CR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 lifetime of the CRL: 30;</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at least 7 days before expir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CRL will be publish as soon as they are updat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stances for revocation</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A is informed that the Subscriber has ceased to be a member of or associated with a MREN program or activ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s private key is lost or suspected to be compromis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formation in the Subscriber’s certificate is wrong or inaccurate, or suspected to be wrong or inaccur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violates his/her obligation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does not need the certificate any more.</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    </a:t>
            </a:r>
            <a:r>
              <a:rPr b="1" lang="en-US" sz="1900" spc="-1" strike="noStrike">
                <a:solidFill>
                  <a:srgbClr val="000000"/>
                </a:solidFill>
                <a:latin typeface="Arial"/>
              </a:rPr>
              <a:t>Types of events recorded</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gin/logout/reboot of the signing machin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ach RA must keep log of the following</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9"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s of records archived</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ollowing data and files are recorded and archived by the CA:</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e-mail messages of correspondence between RA and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ch RA must keep log of the following:</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35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9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hysical controls</a:t>
            </a:r>
            <a:r>
              <a:rPr b="0" lang="ru-RU" sz="4800" spc="-1" strike="noStrike">
                <a:solidFill>
                  <a:srgbClr val="000000"/>
                </a:solidFill>
                <a:latin typeface="Arial"/>
              </a:rPr>
              <a:t> </a:t>
            </a:r>
            <a:endParaRPr b="0" lang="en-US" sz="48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MD-Grid CA will operate in a controlled and protected room located in Technical University of Moldova. At least one person employed by RENAM Association will always be present on premises 24 hours per day, 7 days per week.</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hysical access to the MD-Grid CA is restricted to authorized personnel only.</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echnical University of Moldova premises have a fire alarm system installed, secured access, provided by a particular organization and equipment is maintained in cooled rack’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rtification Authority</a:t>
            </a:r>
            <a:endParaRPr b="0" lang="en-US" sz="4400" spc="-1" strike="noStrike">
              <a:solidFill>
                <a:srgbClr val="000000"/>
              </a:solidFill>
              <a:latin typeface="Arial"/>
            </a:endParaRPr>
          </a:p>
        </p:txBody>
      </p:sp>
      <p:sp>
        <p:nvSpPr>
          <p:cNvPr id="9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act detail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0" lang="en-US" sz="1700" spc="-1" strike="noStrike">
                <a:solidFill>
                  <a:srgbClr val="000000"/>
                </a:solidFill>
                <a:latin typeface="Arial"/>
              </a:rPr>
              <a:t>Research and Educational Networking Association of Moldov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5, Academiei str. room 33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hishinau,</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ldova, Republic of.</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ne: </a:t>
            </a:r>
            <a:r>
              <a:rPr b="0" lang="en-US" sz="1700" spc="-1" strike="noStrike">
                <a:solidFill>
                  <a:srgbClr val="000000"/>
                </a:solidFill>
                <a:latin typeface="Arial"/>
              </a:rPr>
              <a:t>	</a:t>
            </a:r>
            <a:r>
              <a:rPr b="0" lang="en-US" sz="1700" spc="-1" strike="noStrike">
                <a:solidFill>
                  <a:srgbClr val="000000"/>
                </a:solidFill>
                <a:latin typeface="Arial"/>
              </a:rPr>
              <a:t>+373 22 739827</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Arial"/>
              </a:rPr>
              <a:t>Phone:             +373 22 234635</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739805</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288006</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md-grid-ca@renam.md</a:t>
            </a:r>
            <a:r>
              <a:rPr b="0" lang="ru-RU" sz="1700" spc="-1" strike="noStrike">
                <a:solidFill>
                  <a:srgbClr val="000000"/>
                </a:solidFill>
                <a:latin typeface="Arial"/>
              </a:rPr>
              <a:t> </a:t>
            </a:r>
            <a:r>
              <a:rPr b="0" i="1" lang="en-US" sz="1700" spc="-1" strike="noStrike">
                <a:solidFill>
                  <a:srgbClr val="000000"/>
                </a:solidFill>
                <a:latin typeface="Arial"/>
              </a:rPr>
              <a:t> </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lentin Pocotilenco</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pvv@renam.md</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RENAM </a:t>
            </a:r>
            <a:endParaRPr b="0" lang="en-US" sz="4400" spc="-1" strike="noStrike">
              <a:solidFill>
                <a:srgbClr val="000000"/>
              </a:solidFill>
              <a:latin typeface="Arial"/>
            </a:endParaRPr>
          </a:p>
        </p:txBody>
      </p:sp>
      <p:sp>
        <p:nvSpPr>
          <p:cNvPr id="47" name="PlaceHolder 2"/>
          <p:cNvSpPr>
            <a:spLocks noGrp="1"/>
          </p:cNvSpPr>
          <p:nvPr>
            <p:ph/>
          </p:nvPr>
        </p:nvSpPr>
        <p:spPr>
          <a:xfrm>
            <a:off x="519120" y="1844640"/>
            <a:ext cx="8229600" cy="45259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NAM (Research and Educational Networking Association of Moldov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s founded and registered by the Ministry of Justice of the Republic of Moldova in June 1999 under registration no. 1089.</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 a republican association with unlimited term of existence and develops its activities on the whole territory of Republic of Moldova, with the right to establish its branches both in the Republic and abroad.</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im of the Association is to establish and develop computer network and information services on a modern level mostly in higher and secondary education, research institutions, libraries and public collection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i="1" lang="en-US"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organization</a:t>
            </a:r>
            <a:endParaRPr b="0" lang="en-US" sz="4400" spc="-1" strike="noStrike">
              <a:solidFill>
                <a:srgbClr val="000000"/>
              </a:solidFill>
              <a:latin typeface="Arial"/>
            </a:endParaRPr>
          </a:p>
        </p:txBody>
      </p:sp>
      <p:sp>
        <p:nvSpPr>
          <p:cNvPr id="50" name=""/>
          <p:cNvSpPr txBox="1"/>
          <p:nvPr/>
        </p:nvSpPr>
        <p:spPr>
          <a:xfrm>
            <a:off x="457200" y="185580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RENAM Council consists of well-known scientists of Moldova, scientific administrators, information systems and networking specialists, which represents the Academy of Sciences of Moldova, Universities of Moldova, and other scientific and educational institutions.</a:t>
            </a:r>
            <a:endParaRPr b="0" lang="en-US" sz="19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ministrative and technical support of the network operation is organized within RENAM by RENAM Executive managers and Network Operating Center (NOC). The functions of NOC are deal with RENAM network associated projects elaboration and realization, network infrastructure maintenance, technical assistance and users suppor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lang="ru-RU"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etwork structure</a:t>
            </a:r>
            <a:endParaRPr b="0" lang="en-US" sz="4400" spc="-1" strike="noStrike">
              <a:solidFill>
                <a:srgbClr val="000000"/>
              </a:solidFill>
              <a:latin typeface="Arial"/>
            </a:endParaRPr>
          </a:p>
        </p:txBody>
      </p:sp>
      <p:sp>
        <p:nvSpPr>
          <p:cNvPr id="5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Association has built and permanently develops its own networking infrastructure that allowed creating 12 communication nodes in two main cities – Chisinau and Balti. 23 Institutes of Academy of Sciences, 10 leading Universities of Moldova, more than 10 colleges, 3 hospitals and some governmental establishments are connected now to RENAM infrastructure </a:t>
            </a:r>
            <a:r>
              <a:rPr b="0" lang="en-US" sz="1700" spc="-1" strike="noStrike">
                <a:solidFill>
                  <a:srgbClr val="000000"/>
                </a:solidFill>
                <a:latin typeface="Arial"/>
                <a:ea typeface="굴림"/>
              </a:rPr>
              <a:t>(</a:t>
            </a:r>
            <a:r>
              <a:rPr b="0" lang="en-US" sz="1700" spc="-1" strike="noStrike">
                <a:solidFill>
                  <a:srgbClr val="009999"/>
                </a:solidFill>
                <a:latin typeface="Arial"/>
                <a:ea typeface="굴림"/>
              </a:rPr>
              <a:t>http://www.terena.org/activities/compendium/2008/basicinfo.php?nrenid=30</a:t>
            </a:r>
            <a:r>
              <a:rPr b="0" lang="en-US" sz="1700" spc="-1" strike="noStrike">
                <a:solidFill>
                  <a:srgbClr val="000000"/>
                </a:solidFill>
                <a:latin typeface="Arial"/>
                <a:ea typeface="굴림"/>
              </a:rPr>
              <a:t>).</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network provides connectivity to about 5000 scientists and professors (75% of all researchers), 1000 Ph.D. students and more than 80 000 university and colleges students (85% of all students). RENAM infrastructure provides services to the universities and organizations placed in other localities of Moldova.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network node was realized in Balti State University, which joins also four technical colleges from Balti City.</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goals</a:t>
            </a:r>
            <a:endParaRPr b="0" lang="en-US" sz="4400" spc="-1" strike="noStrike">
              <a:solidFill>
                <a:srgbClr val="000000"/>
              </a:solidFill>
              <a:latin typeface="Arial"/>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main  goal  of  RENAM  network  consists  in continuous  development  of  a  modern  electronic communication  infrastructure  capable  to  connect  all research, educational, medical and cultural institutions from  Moldova,  and  to  provide  them  with  Internet access servic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Another  aim  of  RENAM  consists  in  continuous  and active  participation  in  the  work  of  international computer network organizations.</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e seminar and training events to help develop and use NREN infrastructur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ational Grid Initiative of Moldova (NGI)</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GI</a:t>
            </a:r>
            <a:endParaRPr b="0" lang="en-US" sz="4400" spc="-1" strike="noStrike">
              <a:solidFill>
                <a:srgbClr val="000000"/>
              </a:solidFill>
              <a:latin typeface="Arial"/>
            </a:endParaRPr>
          </a:p>
        </p:txBody>
      </p:sp>
      <p:sp>
        <p:nvSpPr>
          <p:cNvPr id="59" name="PlaceHolder 2"/>
          <p:cNvSpPr>
            <a:spLocks noGrp="1"/>
          </p:cNvSpPr>
          <p:nvPr>
            <p:ph/>
          </p:nvPr>
        </p:nvSpPr>
        <p:spPr>
          <a:xfrm>
            <a:off x="250560" y="1782720"/>
            <a:ext cx="8569080" cy="4525920"/>
          </a:xfrm>
          <a:prstGeom prst="rect">
            <a:avLst/>
          </a:prstGeom>
          <a:noFill/>
          <a:ln w="0">
            <a:noFill/>
          </a:ln>
        </p:spPr>
        <p:txBody>
          <a:bodyPr lIns="90000" rIns="90000" tIns="46800" bIns="46800" anchor="t">
            <a:normAutofit fontScale="96000"/>
          </a:bodyPr>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rPr>
              <a:t>MD-Grid - National Grid Initiative of Moldova was officially inaugurated on the plenary session “National Grid Initiative MD-Grid: presentation and inauguration” of RENAM Users Conference – 2007 on May, 14 2007 after receiving approval letters from Ministry of Information Development of Moldova and the Academy of Sciences of Moldova. The MD-Grid NGI Consortium governed by RENAM as its Coordinating NREN joins 6 research, education and industry institutions that expressed their intent to participate in the processes of National Grid Infrastructure building and using: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earch and Educational Networking Association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Mathematics and Computer Science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culty of Radioelectronics and Telecommunications of the Technical University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Geology and Seismology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Hydrometeorological Service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ool of Public Health, State Medical and Pharmaceutical University “N.Testemitan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involvement</a:t>
            </a:r>
            <a:endParaRPr b="0" lang="en-US" sz="4400" spc="-1" strike="noStrike">
              <a:solidFill>
                <a:srgbClr val="000000"/>
              </a:solidFill>
              <a:latin typeface="Arial"/>
            </a:endParaRPr>
          </a:p>
        </p:txBody>
      </p:sp>
      <p:sp>
        <p:nvSpPr>
          <p:cNvPr id="6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I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SC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sci.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Used document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omanianGRID C</a:t>
            </a:r>
            <a:r>
              <a:rPr b="0" lang="en-US" sz="1800" spc="-1" strike="noStrike">
                <a:solidFill>
                  <a:srgbClr val="000000"/>
                </a:solidFill>
                <a:latin typeface="Arial"/>
              </a:rPr>
              <a:t>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Grid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G.ACAD</a:t>
            </a:r>
            <a:r>
              <a:rPr b="0" lang="en-US" sz="1800" spc="-1" strike="noStrike">
                <a:solidFill>
                  <a:srgbClr val="000000"/>
                </a:solidFill>
                <a:latin typeface="Arial"/>
              </a:rPr>
              <a:t>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EN CA CP/CP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request to IANA is pending and I suppose we will obtain the OID in a few week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900" spc="-1" strike="noStrike">
                <a:solidFill>
                  <a:srgbClr val="000000"/>
                </a:solidFill>
                <a:latin typeface="Arial"/>
              </a:rPr>
              <a:t>Date: March 3-rd 2008</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Namin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CN=MD-Grid-C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jec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OU=XXX, CN=Subject-na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 Country = M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 Organization = RENA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 Organization Unit = Name of the institutio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N] Common Name = Name and surname of the person for the personal certificate, DNS name for </a:t>
            </a:r>
            <a:r>
              <a:rPr b="0" lang="sr-Latn-CS" sz="1900" spc="-1" strike="noStrike">
                <a:solidFill>
                  <a:srgbClr val="000000"/>
                </a:solidFill>
                <a:latin typeface="Arial"/>
              </a:rPr>
              <a:t>host or service certificat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a:t>
            </a:r>
            <a:r>
              <a:rPr b="0" lang="en-US" sz="1900" spc="-1" strike="noStrike">
                <a:solidFill>
                  <a:srgbClr val="000000"/>
                </a:solidFill>
                <a:latin typeface="Arial"/>
              </a:rPr>
              <a:t>In the last case the DNS FQDN may be prefixed by the value 'host' or the service name separated with a '/' from the DNS FQDN</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13:36Z</dcterms:created>
  <dc:creator>Admin</dc:creator>
  <dc:description/>
  <dc:language>en-US</dc:language>
  <cp:lastModifiedBy>Admin</cp:lastModifiedBy>
  <dcterms:modified xsi:type="dcterms:W3CDTF">2008-05-25T13:50:43Z</dcterms:modified>
  <cp:revision>18</cp:revision>
  <dc:subject/>
  <dc:title>MD Grid-CA</dc:title>
</cp:coreProperties>
</file>