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D95EEBD-9D55-408E-A3B1-6D8D5534EA2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0ADE6E8-9936-4C26-9B05-6E5ED88C7D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CA3270FA-7E64-4DD9-A13D-896E00D91AA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A7F66395-F8F3-4EB6-B87D-AEA0CDFFD52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B2B677E1-5309-444F-BD68-93AB2D05143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86F4BFC5-55F7-4B0B-AA3C-300DB03DE1E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221EE024-58B9-4009-96BB-D848C8A9F7A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C0584F0D-95F7-46AA-A1CB-BB7912958A0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1B413C9D-5A68-4DB2-9C81-6D74CF51113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580BB1F9-EBA7-4647-BC1E-D574AAABAD9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D4724FE5-19BA-48DE-9B32-792CDF0AC9E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3B1E6581-6D4E-4425-96D7-8519F9568B0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3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rd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TAGPMA ‘Austin’ meeting – Nov 2006 - </a:t>
              </a:r>
              <a:fld id="{619CD082-0DD3-4C15-828B-4DF899B9EC1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14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October 6-8, 2008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Lisbon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0452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lcome to Lisb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1"/>
          <a:stretch/>
        </p:blipFill>
        <p:spPr>
          <a:xfrm>
            <a:off x="0" y="1581120"/>
            <a:ext cx="9144000" cy="40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ues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528480" y="1566720"/>
            <a:ext cx="808704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Wednesda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0" y="2043000"/>
            <a:ext cx="9144000" cy="25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now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nutes from last meet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Mike and Ja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round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08-10-07T08:23:11Z</dcterms:modified>
  <cp:revision>468</cp:revision>
  <dc:subject/>
  <dc:title>European Grid Policy Management Authority</dc:title>
</cp:coreProperties>
</file>