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0BE0-36EE-4203-8F7B-F5390EE68823}" type="slidenum"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8A17-C54B-4D03-AAC0-B1E0A14C2539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8C42-DFDA-438F-9312-9FF984A4E4DC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38C4-9A2B-4B4F-B3A9-6BC62F738F4D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1CFF-97AC-412D-98DB-CE4C63C6E64E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5416-5CDD-4E91-95F0-3B4277219C16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0428-2E2B-4C1A-B398-5F9901181042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BBAA-2480-4E28-8293-BE4936F2BFE2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D603-59FA-42E1-8D8A-CE50F06351EC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3AB7-D21D-4087-AF96-F3D9FA0A78EB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DBA9-D436-4692-B082-DCAF35C58972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2BA8-3871-4DC4-B4D3-C64781AC3704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03434-39C6-4159-B286-C529D56D2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B61C4-F9B8-487A-B95D-69266981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0947D-82D8-4AF9-BD18-81FBD97E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02625-CD55-44F5-BA9E-3FF29107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06DEF-F2C0-4CE8-9CEE-4D2A2B0E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288D5-D7B6-4E9D-AE24-24BD60FB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E10D1-B2BB-401F-A6D4-1CBE7DFB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1CD04-707D-414A-BE06-D38A7215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B96A8-CE7D-4524-A67F-D8C47A01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6B678-225B-4DE9-A569-EC695926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88A15-D651-47F2-A9DE-8567A6C3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1588D9-87FC-41F2-8507-AA0E1D71F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3827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4th EUGridPMA Meeting, Oct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1640" y="6244920"/>
            <a:ext cx="331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>
            <a:off x="1187280" y="1125360"/>
            <a:ext cx="6697800" cy="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1332000" y="1197000"/>
            <a:ext cx="633708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0"/>
          <p:cNvSpPr/>
          <p:nvPr/>
        </p:nvSpPr>
        <p:spPr>
          <a:xfrm>
            <a:off x="1476360" y="1268280"/>
            <a:ext cx="604836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5" descr="IGTF-logo-300"/>
          <p:cNvPicPr/>
          <p:nvPr/>
        </p:nvPicPr>
        <p:blipFill>
          <a:blip r:embed="rId2"/>
          <a:stretch/>
        </p:blipFill>
        <p:spPr>
          <a:xfrm>
            <a:off x="468360" y="260280"/>
            <a:ext cx="1439640" cy="66672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6"/>
          <p:cNvSpPr/>
          <p:nvPr/>
        </p:nvSpPr>
        <p:spPr>
          <a:xfrm>
            <a:off x="651672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BFA0-2F9B-41D6-8B3E-F34A1552213C}" type="slidenum"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IGTF-logo-large"/>
          <p:cNvPicPr/>
          <p:nvPr/>
        </p:nvPicPr>
        <p:blipFill>
          <a:blip r:embed="rId2"/>
          <a:stretch/>
        </p:blipFill>
        <p:spPr>
          <a:xfrm>
            <a:off x="468360" y="404640"/>
            <a:ext cx="3166920" cy="1467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809E-D17C-4803-A27F-3C745CC24985}" type="slidenum"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dico.rnp.br/conferenceDisplay.py?confId=4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4.jpe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agpma.es.net/wiki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24360" y="333360"/>
            <a:ext cx="45338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14</a:t>
            </a:r>
            <a:r>
              <a:rPr b="0" lang="en-US" sz="4400" spc="-1" strike="noStrike" baseline="30000">
                <a:solidFill>
                  <a:srgbClr val="ff0000"/>
                </a:solidFill>
                <a:latin typeface="Impact"/>
              </a:rPr>
              <a:t>th</a:t>
            </a: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 EUGridPMA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Meeting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Update from TAGPMA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Impact"/>
              </a:rPr>
              <a:t>Jim Basne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8360" y="4436640"/>
            <a:ext cx="7983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Impact"/>
              </a:rPr>
              <a:t>Lisbon, Portugu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Impact"/>
              </a:rPr>
              <a:t>October 6-8, 20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468360" y="2647800"/>
            <a:ext cx="3527280" cy="1287000"/>
            <a:chOff x="468360" y="2647800"/>
            <a:chExt cx="3527280" cy="1287000"/>
          </a:xfrm>
        </p:grpSpPr>
        <p:sp>
          <p:nvSpPr>
            <p:cNvPr id="97" name="WordArt 5"/>
            <p:cNvSpPr txBox="1"/>
            <p:nvPr/>
          </p:nvSpPr>
          <p:spPr>
            <a:xfrm>
              <a:off x="522360" y="2647800"/>
              <a:ext cx="21812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GPM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8" name="Text Box 6"/>
            <p:cNvSpPr/>
            <p:nvPr/>
          </p:nvSpPr>
          <p:spPr>
            <a:xfrm>
              <a:off x="468360" y="3292200"/>
              <a:ext cx="35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Americas Gri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licy Management Authority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457200" y="6245280"/>
            <a:ext cx="382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4th EUGridPMA Meeting, Oc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4572000" y="6245280"/>
            <a:ext cx="331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Iss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harter (v 2.5 approval pend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Inactive Membership – impacts quoru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Two year term of office for elected pos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A accredi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uditing: Discussions on going, should cons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NIST 800-5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Webtrus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Others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ISO/IEC 27001:2005; ISO/IEC 17799:200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ob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A CP/CPS template : Minimum requirements and best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457200" y="6245280"/>
            <a:ext cx="382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4th EUGridPMA Meeting, Oc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4572000" y="6245280"/>
            <a:ext cx="331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F2F Meet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7th TAGPMA F2F in Oakland, U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F2F in Merida, Venezue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Was postponed due to expected lack of attendan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8th TAGPMA F2F in La Plata City, Argentin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November 6-8, 2008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indico.rnp.br/conferenceDisplay.py?confId=45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Fortnightly Video Conference Call on Tuesday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Next one is today, 11am CD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Video arrangements: Video ESNet 884483 or GDS 0011349884483 or phone 1-510-883-7860 884483#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457200" y="6245280"/>
            <a:ext cx="382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4th EUGridPMA Meeting, Oc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4572000" y="6245280"/>
            <a:ext cx="331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Verdana"/>
              </a:rPr>
              <a:t>TAGPMA Memb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492360" y="1484280"/>
            <a:ext cx="51832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CANARIE – Canad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DOEGrids (ESNet) – US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EELA – Internation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Fermi National Accelerator Laboratory -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HEBCA/USHER/Dartmouth College 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IBDS (ANSP) - Braz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LCG – Internation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NCSA 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NERSC 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Open Science Grid – Internation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Purdue University – US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REUNA – Chi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San Diego Supercomputer </a:t>
            </a: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Center </a:t>
            </a: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– US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TACC 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eraGrid – USA</a:t>
            </a: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exas High Energy Grid</a:t>
            </a: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University of Virginia – US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UFF – Braz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ULA – Venezuel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UNAM – Mexico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UNLP – Argentina</a:t>
            </a: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4" descr="The image “http://www.lib.utexas.edu/maps/americas/americas_pol96.jpg” cannot be displayed, because it contains errors."/>
          <p:cNvPicPr/>
          <p:nvPr/>
        </p:nvPicPr>
        <p:blipFill>
          <a:blip r:embed="rId22"/>
          <a:stretch/>
        </p:blipFill>
        <p:spPr>
          <a:xfrm>
            <a:off x="108000" y="1341360"/>
            <a:ext cx="3429000" cy="5173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6046920" y="5451480"/>
            <a:ext cx="281736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IGTF Accredited CA Op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CA Accreditation in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Interested in accredi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Relying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0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0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3"/>
          <p:cNvSpPr/>
          <p:nvPr/>
        </p:nvSpPr>
        <p:spPr>
          <a:xfrm>
            <a:off x="457200" y="6245280"/>
            <a:ext cx="382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4th EUGridPMA Meeting, Oc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4572000" y="6245280"/>
            <a:ext cx="331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Memb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35280" y="1484280"/>
            <a:ext cx="50515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21 Memb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7(+2) IGTF C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5 Classic, 1 SLCS, 1 M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5 CAs pend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2 Classic, 2 SLCS, 1M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Plus 3 more in the wor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6 Relying Part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Peru and Colombia expected to join so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4" descr="The image “http://www.lib.utexas.edu/maps/americas/americas_pol96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108000" y="1341360"/>
            <a:ext cx="3429000" cy="51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457200" y="6245280"/>
            <a:ext cx="382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4th EUGridPMA Meeting, Oc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4572000" y="6245280"/>
            <a:ext cx="331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Offic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(re-)Election held in July of 2008 – 1 year te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hai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Vinod Rebello (UFF – Brazi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Vice-Ch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Jim Marstellar (PSC – US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ecret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Margaret Murray (UT-Austin – US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rusted Introducer (nominat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Mike Helm (ESNet/LBL – US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457200" y="6245280"/>
            <a:ext cx="382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4th EUGridPMA Meeting, Oc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4572000" y="6245280"/>
            <a:ext cx="331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Administrative Chan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ANARIE was no longer willing to host TAGPMA Infrastru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ESnet offered to stand 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But ESnet undergoing large services overhau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Disruption to TAGPMA services in terms of availability and quality – Apolo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Moving/moved TAGPMA domain name, mailing lists and website to ESnet, as and when feasi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twiki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(s)://tagpma.es.net/wiki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To host TAGPMA information, tutorials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6245280"/>
            <a:ext cx="382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4th EUGridPMA Meeting, Oc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4572000" y="6245280"/>
            <a:ext cx="331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Incident Respon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None of the Accredited CAs were affected by the Debian 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OpenSSL vulnerability (CVE-2008-0166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However, there was significant fallout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Patchy communications and delayed responses due in part 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A manager inexperience/turno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Poorly organized communication infrastruc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leaned up existing mailing li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etup alternative dedicated mailing list with out-of-band secure commun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Private directory of membership with alternative contact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457200" y="6245280"/>
            <a:ext cx="382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4th EUGridPMA Meeting, Oc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4572000" y="6245280"/>
            <a:ext cx="331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Char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Version 2.4 of the Charter has been approv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Better reflects how the TAGPMA oper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2 year Membership: Letter of introduction/renew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Ties the representative (POC) to the soliciting Institu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Affirmed commitment by Institution to TAGPMA participation (F2F meetings, document development and reviewing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Extended inactivity will imply resign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457200" y="6245280"/>
            <a:ext cx="382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4th EUGridPMA Meeting, Oc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4572000" y="6245280"/>
            <a:ext cx="331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LCS Profile Stat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LCS Profile (Original Version 1.1, 15/11/2005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 two pronged revision process (Version 2.0 seri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Language 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Brought up to date and in line with alterations made to the other profile docu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Policy 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Lowered HSM operating mode to Level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Two recent security incidents posed the question of whether or not CRLs SHOULD be made a requirement/op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457200" y="6245280"/>
            <a:ext cx="3827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4th EUGridPMA Meeting, Oc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4572000" y="6245280"/>
            <a:ext cx="331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LCS Profile Stat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urrent version is 2.1, 18/08/20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RLs are requi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With exception for very short-lived certific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How short is short? Current consensus is 1 da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lthough approved by both EU and AP GridPMAs, awaiting acceptance from existing SLCS CA operator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NCSA o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SWITCH ?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23:38:54Z</dcterms:created>
  <dc:creator>Vinod Rebello</dc:creator>
  <dc:description/>
  <dc:language>en-US</dc:language>
  <cp:lastModifiedBy>Jim Basney</cp:lastModifiedBy>
  <dcterms:modified xsi:type="dcterms:W3CDTF">2008-10-03T20:23:00Z</dcterms:modified>
  <cp:revision>93</cp:revision>
  <dc:subject>TAGPMA@OGF24 2008</dc:subject>
  <dc:title>TAGPMA Updates</dc:title>
</cp:coreProperties>
</file>