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30535-EF89-42B2-B660-84E20A0B18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822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815640"/>
            <a:ext cx="822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E19C4-BC53-4B20-BD1E-2D84F87192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0560" y="132228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81564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0560" y="381564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029B3-817E-48A7-B909-46CD087D51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264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5960" y="1322280"/>
            <a:ext cx="264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8400" y="1322280"/>
            <a:ext cx="264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815640"/>
            <a:ext cx="264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5960" y="3815640"/>
            <a:ext cx="264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98400" y="3815640"/>
            <a:ext cx="264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9B8A8-2BB7-4787-BC72-80AE26391C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1322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6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40158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50560" y="1322280"/>
            <a:ext cx="40158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28400" y="256680"/>
            <a:ext cx="8334360" cy="288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6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50560" y="1322280"/>
            <a:ext cx="40158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381564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1322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6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1B4B2-9EF8-4CC2-B48B-2D85429ADA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40158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0560" y="132228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50560" y="381564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0560" y="132228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815640"/>
            <a:ext cx="822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822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3815640"/>
            <a:ext cx="822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0560" y="132228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381564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50560" y="381564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264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5960" y="1322280"/>
            <a:ext cx="264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8400" y="1322280"/>
            <a:ext cx="264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3815640"/>
            <a:ext cx="264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5960" y="3815640"/>
            <a:ext cx="264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8400" y="3815640"/>
            <a:ext cx="264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15413-2A29-4307-BCDF-B2A5A79E89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40158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0560" y="1322280"/>
            <a:ext cx="40158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9942A-A43D-40BF-84ED-776FCBAB22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285D0-F696-40F6-9D8C-1A9FA8B513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28400" y="256680"/>
            <a:ext cx="8334360" cy="288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6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56363-2CBC-47B9-8665-C3DF673E78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0560" y="1322280"/>
            <a:ext cx="40158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81564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2D00F-EFC4-457F-95D7-EEB0BDE443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40158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0560" y="132228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0560" y="381564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778EE-5D8B-434B-9579-0D384614E3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0560" y="1322280"/>
            <a:ext cx="40158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815640"/>
            <a:ext cx="822960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9B45D-4D2B-481B-807C-2833C4EC29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47d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322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49320" indent="-1872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8120" indent="-19836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16120" indent="-18720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716120" indent="-18720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716120" indent="-18720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858000" y="6391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24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2594C-E340-4BE0-9411-14FFA01D136C}" type="slidenum">
              <a:rPr b="0" lang="en-GB" sz="1400" spc="-1" strike="noStrike">
                <a:solidFill>
                  <a:srgbClr val="0024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75440" y="6388200"/>
            <a:ext cx="15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47d"/>
                </a:solidFill>
                <a:latin typeface="Arial"/>
              </a:rPr>
              <a:t>© 2008 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533520" y="6384960"/>
            <a:ext cx="252360" cy="30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9108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24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47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txBody>
          <a:bodyPr lIns="90000" rIns="90000" tIns="46800" bIns="450000" anchor="b">
            <a:noAutofit/>
          </a:bodyPr>
          <a:p>
            <a:pPr marL="4269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65520" y="3809880"/>
            <a:ext cx="4187880" cy="1200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rcRect l="10044" t="15722" r="14065" b="61081"/>
          <a:stretch/>
        </p:blipFill>
        <p:spPr>
          <a:xfrm>
            <a:off x="0" y="1752480"/>
            <a:ext cx="9144000" cy="16765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46040" indent="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algn="ctr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39760" algn="ctr"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528920" algn="ctr"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528920"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528920"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txBody>
          <a:bodyPr lIns="90000" rIns="90000" tIns="46800" bIns="450000" anchor="b">
            <a:noAutofit/>
          </a:bodyPr>
          <a:p>
            <a:pPr marL="4269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Arial"/>
              </a:rPr>
              <a:t>QuoVadis accreditation with EuGridPMA</a:t>
            </a:r>
            <a:endParaRPr b="1" lang="en-US" sz="4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1261800"/>
            <a:ext cx="9144000" cy="414360"/>
          </a:xfrm>
          <a:prstGeom prst="rect">
            <a:avLst/>
          </a:prstGeom>
          <a:solidFill>
            <a:srgbClr val="00247d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marL="446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76600" y="5524560"/>
            <a:ext cx="436248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47d"/>
                </a:solidFill>
                <a:latin typeface="Arial"/>
              </a:rPr>
              <a:t>Alessandro Usa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47d"/>
                </a:solidFill>
                <a:latin typeface="Arial"/>
              </a:rPr>
              <a:t>alessandro.usai@switch.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533520" y="3805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509v3 extensio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509v3 Certificate Policie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licy: 1.3.6.1.4.1.8024.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licy: 1.2.840.113612.5.2.2.1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509v3 Key Usage: crit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gital Signature, Key Encipher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509v3 Authority Key Identifier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id:42:E6:13:39:8B:3A:41:66:EA:40:C1:0B:81:CE:10:F7:DA:71:74:B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509v3 Subject Key Identifier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A:5E:63:A9:B3:10:3B:CF:45:60:59:ED:61:59:DE:8B:A4:9A:BE:C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509v3 CRL Distribution Point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RI:http://crl.quovadisglobal.com/qvgica.cr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hority Information Acces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 Issuers - URI:http://trust.quovadisglobal.com/qvgica.c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509v3 Extended Key Usag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LS Web Server Authentication, TLS Web Client Authent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509v3 Subject Alternative Nam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NS:server.switch.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gnature Algorithm: sha1WithRSAEncry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---BEGIN CERTIFICATE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---END CERTIFICATE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79B5E-1EAB-4AFC-8B82-B7C2C87105F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400" y="257040"/>
            <a:ext cx="8334360" cy="8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247d"/>
                </a:solidFill>
                <a:latin typeface="Arial"/>
              </a:rPr>
              <a:t>Issuing CA Certificate</a:t>
            </a:r>
            <a:endParaRPr b="1" lang="en-US" sz="46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ertificate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ata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ersion: 3 (0x2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ial Number: 13 (0xd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gnature Algorithm: sha1WithRSAEncryp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ssuer: C=BM, O=QuoVadis Limited, CN=QuoVadis Root Certification Authorit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alidit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ot Before: Aug 26 17:01:51 2008 GM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ot After : Aug 24 17:01:51 2018 GM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ubject: C=BM, O=QuoVadis Limited, CN=QuoVadis Grid Issuing C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or ICA?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ubject Public Key Info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ublic Key Algorithm: rsaEncryp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SA Public Key: (2048 bit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odulus (2048 bit)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        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B30D3-56EF-4E79-9A18-929FA521612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09480" y="380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onent: 65537 (0x1000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509v3 extensio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509v3 Basic Constraints: crit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:TR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509v3 Key Usage: crit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ificate Sign, CRL 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509v3 Authority Key Identifier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yid:AD:0B:3E:70:61:2D:D2:8F:F0:E7:4F:DD:1D:DF:F1:32:70:CD:D6:3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509v3 Subject Key Identifier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2:E6:13:39:8B:3A:41:66:EA:40:C1:0B:81:CE:10:F7:DA:71:74:B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509v3 CRL Distribution Point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RI:http://crl.quovadisglobal.com/qvrca.cr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ority Information Acces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 Issuers - URI:http://trust.quovadisglobal.com/qvrca.c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gnature Algorithm: sha1WithRSAEncry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---BEGIN CERTIFICATE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---END CERTIFICATE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37CFB-B8FF-4B75-8F37-CA9DC0F03FC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8400" y="257040"/>
            <a:ext cx="8334360" cy="82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247d"/>
                </a:solidFill>
                <a:latin typeface="Arial"/>
              </a:rPr>
              <a:t>Switch Requirements/feedback</a:t>
            </a:r>
            <a:endParaRPr b="1" lang="en-US" sz="43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te lifetime of at least ten years for the Issuing 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Entities and Server certificates lifetime of no more than 13 mont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further certificate policies extension for the Issuing CA certificate must not  include a UR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ntermediate certificate with a key longer than 2048 bits (CA 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ssuing CA CRL lifetime will be of at least 7 d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OCSP (online certificate status protocol)  responder URI in the Grid certificates, at least initi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7A0D5-2649-4D3C-B85C-40BF7EC8DA5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334360" cy="74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247d"/>
                </a:solidFill>
                <a:latin typeface="Arial"/>
              </a:rPr>
              <a:t>What will change?</a:t>
            </a:r>
            <a:endParaRPr b="1" lang="en-US" sz="38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ssSign hierarchy cumbersome e.g. we will not need a safe in a bank anymore: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hassle as we will NOT have the email field in the certificates D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3886200"/>
            <a:ext cx="502920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 SLCS CA is not affected by the transi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As management will remain the 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5680" y="2971800"/>
            <a:ext cx="4900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247d"/>
                </a:solidFill>
                <a:latin typeface="Arial"/>
              </a:rPr>
              <a:t>What will not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4FC08-A65A-4C9D-B2B2-BC9096D7CA3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8400" y="257040"/>
            <a:ext cx="8334360" cy="85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247d"/>
                </a:solidFill>
                <a:latin typeface="Arial"/>
              </a:rPr>
              <a:t>QuoVadis timeline</a:t>
            </a:r>
            <a:endParaRPr b="1" lang="en-US" sz="45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QuoVadis CP/CPS and Issuing CA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process for the Issuing CA and update of the CP/CPS will be roughly as follow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raft of the initial proposed updates to the CP/CPS over the next few week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greement with QuoVadis on the technical specifications for the issuing CA and the end user/device certificates (this includes OIDs etc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uild of the issuing CA and first tests:  as an estimate the issuing CA should be able to be built by the end of the year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nal updates to the CP/CPS and formal approve by the QuoVadis PMA (dependent on the building of the issuing CA, but quick in princip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ubmission of the CP/CPS for approval by the EUGridP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4C78B-6C82-4976-983A-8C726E7E0F6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47d"/>
                </a:solidFill>
                <a:latin typeface="Arial"/>
              </a:rPr>
              <a:t>EUGridPMA Accreditation Timeline</a:t>
            </a: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we start with the current CP/CPS review?Any volunteers for the review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the real review when the CP/CPS document is approved by QuoVa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We would like to be accredited by May 2009 the latest in Zurich, but if possible by January 2009 at the EUGridPMA meeting in Cypru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 representative of QuoVadis might attend the meeting in Cyprus, if this is deemed usefu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B9E18-228C-40D5-BC09-46BEA6BB838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6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247d"/>
                </a:solidFill>
                <a:latin typeface="Arial"/>
              </a:rPr>
              <a:t>So who are they (where are you going:)?</a:t>
            </a:r>
            <a:endParaRPr b="1" lang="en-US" sz="33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pany was founded in 1999 with backing from a venture capital affiliate of the Zurich Financial Services Group. The company later underwent a management buyout and subsequent private equity investment from ABRY Partn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oVadis is a member of the CA/Browser Forum, and contributed to the creation of standards for the Extended Validation Certificate.QuoVadis is based in Bermu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have offices in Switzerland, UK, Holland, New Zealand;they will also open a second data centre in Zurich in November this ye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B9CC9-172E-4AD9-90B0-8B321AAE10C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8400" y="257040"/>
            <a:ext cx="8334360" cy="76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247d"/>
                </a:solidFill>
                <a:latin typeface="Arial"/>
              </a:rPr>
              <a:t>QuoVadis current business profile</a:t>
            </a:r>
            <a:endParaRPr b="1" lang="en-US" sz="39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18972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QuoVadis’ accreditations (yearly audits)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97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89720" indent="-18972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Qualified Certification Practice Statement (CSP)  in Netherlands granted by the Independent Post and Telecommunications Authority (OPTA), based on a certification by the British Standards Institute (BSI) using the TTP.NL Scheme for Certification Authoriti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897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89720" indent="-18972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Qualified CSP in Switzerland granted by BAKOM (Bundesamt für Kommunikation I.e.The Federal Office of Communication OFCOM) based on a certification from KPMG using ETSI (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uropean Telecommunications Standards Institute)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S 101 456 and other related standard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897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89720" indent="-18972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uthorised CSP in Bermuda based on that country’s Electronic Transactions Ac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897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89720" indent="-18972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WebTrust for Certification Authorities, and WebTrust for Extended Validation (by Ernst &amp; Young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472AB-8EEA-40DC-B045-A5FE9B3B9A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8400" y="257040"/>
            <a:ext cx="8334360" cy="8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247d"/>
                </a:solidFill>
                <a:latin typeface="Arial"/>
              </a:rPr>
              <a:t>QuoVadis as a CA</a:t>
            </a:r>
            <a:endParaRPr b="1" lang="en-US" sz="46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y currently have three root CAs (one CP/CPS for CA 1 and 3 and a separate one for CA 2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witch will be linked to the root 1 CA (the one with 2048 bit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does the CP/CPS look like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http://www.</a:t>
            </a: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quovadisglobal</a:t>
            </a: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.bm/~/media/Files/Repository/QV_RCA1_RCA3_CPCPS_V4_5.</a:t>
            </a: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ash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ortant points to notic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ardware, security procedures and auditing comply with the EuGridPMA requirements, In particular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SM for Issuing CA to provide at least FISP Level 3 and/or EAL 4 security standards in both the generation and maintenance in all Root and Issuing CA private key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controls, procedural controls, personnel controls, audit logging procedures, records archival, key changeover, compromise and disaster recov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6DD18-8D02-4A3E-81D7-615BFA3A63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47d"/>
                </a:solidFill>
                <a:latin typeface="Arial"/>
              </a:rPr>
              <a:t>The QuoVadis CA certificate hierarchy</a:t>
            </a:r>
            <a:endParaRPr b="1" lang="en-US" sz="3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666880" y="1295280"/>
            <a:ext cx="2743200" cy="990720"/>
          </a:xfrm>
          <a:prstGeom prst="rect">
            <a:avLst/>
          </a:prstGeom>
          <a:solidFill>
            <a:srgbClr val="f2f4f5">
              <a:alpha val="49000"/>
            </a:srgbClr>
          </a:solidFill>
          <a:ln w="19080">
            <a:solidFill>
              <a:srgbClr val="000000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QuoVadis Root Certification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048 bits, 2001–20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09960" y="2895480"/>
            <a:ext cx="2057400" cy="609840"/>
          </a:xfrm>
          <a:prstGeom prst="rect">
            <a:avLst/>
          </a:prstGeom>
          <a:solidFill>
            <a:srgbClr val="f2f4f5">
              <a:alpha val="49000"/>
            </a:srgbClr>
          </a:solidFill>
          <a:ln w="19080">
            <a:solidFill>
              <a:srgbClr val="000000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a3abb1"/>
                </a:solidFill>
                <a:latin typeface="Arial"/>
              </a:rPr>
              <a:t>QV Schweiz 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a3abb1"/>
                </a:solidFill>
                <a:latin typeface="Arial"/>
              </a:rPr>
              <a:t>2048 bits, 2006–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00400" y="4191120"/>
            <a:ext cx="16765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600" spc="-1" strike="noStrike">
                <a:solidFill>
                  <a:srgbClr val="a3abb1"/>
                </a:solidFill>
                <a:latin typeface="Arial"/>
              </a:rPr>
              <a:t>QuoVadis standard user certificates (1/2/3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"/>
          <p:cNvCxnSpPr>
            <a:stCxn id="93" idx="2"/>
            <a:endCxn id="94" idx="0"/>
          </p:cNvCxnSpPr>
          <p:nvPr/>
        </p:nvCxnSpPr>
        <p:spPr>
          <a:xfrm>
            <a:off x="4038120" y="2295000"/>
            <a:ext cx="1080" cy="591120"/>
          </a:xfrm>
          <a:prstGeom prst="straightConnector1">
            <a:avLst/>
          </a:prstGeom>
          <a:ln w="19080">
            <a:solidFill>
              <a:srgbClr val="000000">
                <a:alpha val="49000"/>
              </a:srgbClr>
            </a:solidFill>
            <a:miter/>
            <a:tailEnd len="med" type="triangle" w="med"/>
          </a:ln>
        </p:spPr>
      </p:cxnSp>
      <p:cxnSp>
        <p:nvCxnSpPr>
          <p:cNvPr id="97" name=""/>
          <p:cNvCxnSpPr/>
          <p:nvPr/>
        </p:nvCxnSpPr>
        <p:spPr>
          <a:xfrm>
            <a:off x="4038120" y="3504960"/>
            <a:ext cx="1080" cy="686520"/>
          </a:xfrm>
          <a:prstGeom prst="straightConnector1">
            <a:avLst/>
          </a:prstGeom>
          <a:ln w="19080">
            <a:solidFill>
              <a:srgbClr val="000000">
                <a:alpha val="49000"/>
              </a:srgbClr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5848200" y="1409760"/>
            <a:ext cx="2476800" cy="762120"/>
          </a:xfrm>
          <a:prstGeom prst="rect">
            <a:avLst/>
          </a:prstGeom>
          <a:solidFill>
            <a:srgbClr val="f2f4f5">
              <a:alpha val="49000"/>
            </a:srgbClr>
          </a:solidFill>
          <a:ln w="19080">
            <a:solidFill>
              <a:srgbClr val="000000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marL="193680" indent="-1936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a3abb1"/>
                </a:solidFill>
                <a:latin typeface="Arial"/>
              </a:rPr>
              <a:t>QuoVadis Root C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a3abb1"/>
                </a:solidFill>
                <a:latin typeface="Arial"/>
              </a:rPr>
              <a:t>4096 bits, 2006–20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62720" y="2895480"/>
            <a:ext cx="3047760" cy="609840"/>
          </a:xfrm>
          <a:prstGeom prst="rect">
            <a:avLst/>
          </a:prstGeom>
          <a:solidFill>
            <a:srgbClr val="f2f4f5">
              <a:alpha val="49000"/>
            </a:srgbClr>
          </a:solidFill>
          <a:ln w="19080">
            <a:solidFill>
              <a:srgbClr val="000000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a3abb1"/>
                </a:solidFill>
                <a:latin typeface="Arial"/>
              </a:rPr>
              <a:t>QuoVadis Global SSL 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a3abb1"/>
                </a:solidFill>
                <a:latin typeface="Arial"/>
              </a:rPr>
              <a:t>2048 bits, 2007–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98" idx="2"/>
            <a:endCxn id="99" idx="0"/>
          </p:cNvCxnSpPr>
          <p:nvPr/>
        </p:nvCxnSpPr>
        <p:spPr>
          <a:xfrm>
            <a:off x="7086240" y="2181240"/>
            <a:ext cx="1080" cy="705240"/>
          </a:xfrm>
          <a:prstGeom prst="straightConnector1">
            <a:avLst/>
          </a:prstGeom>
          <a:ln w="19080">
            <a:solidFill>
              <a:srgbClr val="000000">
                <a:alpha val="49000"/>
              </a:srgbClr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5257800" y="4191120"/>
            <a:ext cx="1752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600" spc="-1" strike="noStrike">
                <a:solidFill>
                  <a:srgbClr val="a3abb1"/>
                </a:solidFill>
                <a:latin typeface="Arial"/>
              </a:rPr>
              <a:t>QuoVadis Business SSL server certificates (1/2/3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238880" y="4191120"/>
            <a:ext cx="1676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600" spc="-1" strike="noStrike">
                <a:solidFill>
                  <a:srgbClr val="a3abb1"/>
                </a:solidFill>
                <a:latin typeface="Arial"/>
              </a:rPr>
              <a:t>QuoVadis</a:t>
            </a:r>
            <a:br>
              <a:rPr sz="1600"/>
            </a:br>
            <a:r>
              <a:rPr b="0" i="1" lang="en-GB" sz="1600" spc="-1" strike="noStrike">
                <a:solidFill>
                  <a:srgbClr val="a3abb1"/>
                </a:solidFill>
                <a:latin typeface="Arial"/>
              </a:rPr>
              <a:t>EV SSL</a:t>
            </a:r>
            <a:br>
              <a:rPr sz="1600"/>
            </a:br>
            <a:r>
              <a:rPr b="0" i="1" lang="en-GB" sz="1600" spc="-1" strike="noStrike">
                <a:solidFill>
                  <a:srgbClr val="a3abb1"/>
                </a:solidFill>
                <a:latin typeface="Arial"/>
              </a:rPr>
              <a:t>server certificates</a:t>
            </a:r>
            <a:br>
              <a:rPr sz="1600"/>
            </a:br>
            <a:r>
              <a:rPr b="0" i="1" lang="en-GB" sz="1600" spc="-1" strike="noStrike">
                <a:solidFill>
                  <a:srgbClr val="a3abb1"/>
                </a:solidFill>
                <a:latin typeface="Arial"/>
              </a:rPr>
              <a:t>(1/2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99" idx="2"/>
            <a:endCxn id="101" idx="0"/>
          </p:cNvCxnSpPr>
          <p:nvPr/>
        </p:nvCxnSpPr>
        <p:spPr>
          <a:xfrm flipH="1">
            <a:off x="6133680" y="3514320"/>
            <a:ext cx="953280" cy="677160"/>
          </a:xfrm>
          <a:prstGeom prst="straightConnector1">
            <a:avLst/>
          </a:prstGeom>
          <a:ln w="19080">
            <a:solidFill>
              <a:srgbClr val="000000">
                <a:alpha val="49000"/>
              </a:srgbClr>
            </a:solidFill>
            <a:miter/>
            <a:tailEnd len="med" type="triangle" w="med"/>
          </a:ln>
        </p:spPr>
      </p:cxnSp>
      <p:cxnSp>
        <p:nvCxnSpPr>
          <p:cNvPr id="104" name=""/>
          <p:cNvCxnSpPr>
            <a:stCxn id="99" idx="2"/>
            <a:endCxn id="102" idx="0"/>
          </p:cNvCxnSpPr>
          <p:nvPr/>
        </p:nvCxnSpPr>
        <p:spPr>
          <a:xfrm>
            <a:off x="7086600" y="3514320"/>
            <a:ext cx="991440" cy="677160"/>
          </a:xfrm>
          <a:prstGeom prst="straightConnector1">
            <a:avLst/>
          </a:prstGeom>
          <a:ln w="19080">
            <a:solidFill>
              <a:srgbClr val="000000">
                <a:alpha val="49000"/>
              </a:srgbClr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3" idx="3"/>
            <a:endCxn id="98" idx="1"/>
          </p:cNvCxnSpPr>
          <p:nvPr/>
        </p:nvCxnSpPr>
        <p:spPr>
          <a:xfrm>
            <a:off x="5419800" y="1790280"/>
            <a:ext cx="419760" cy="1080"/>
          </a:xfrm>
          <a:prstGeom prst="straightConnector1">
            <a:avLst/>
          </a:prstGeom>
          <a:ln w="19080">
            <a:solidFill>
              <a:srgbClr val="000000">
                <a:alpha val="49000"/>
              </a:srgbClr>
            </a:solidFill>
            <a:prstDash val="dash"/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228600" y="2895480"/>
            <a:ext cx="2286000" cy="609840"/>
          </a:xfrm>
          <a:prstGeom prst="rect">
            <a:avLst/>
          </a:prstGeom>
          <a:solidFill>
            <a:srgbClr val="00ff00"/>
          </a:solidFill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QuoVadis Grid 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048 bits, 2008–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93" idx="1"/>
            <a:endCxn id="106" idx="0"/>
          </p:cNvCxnSpPr>
          <p:nvPr/>
        </p:nvCxnSpPr>
        <p:spPr>
          <a:xfrm flipV="1" rot="10800000">
            <a:off x="1370880" y="1789560"/>
            <a:ext cx="1286640" cy="1096200"/>
          </a:xfrm>
          <a:prstGeom prst="bentConnector2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>
            <a:off x="533520" y="4191120"/>
            <a:ext cx="16761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QuoVadis Grid user and server certificates</a:t>
            </a:r>
            <a:br>
              <a:rPr sz="1600"/>
            </a:b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(1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6" idx="2"/>
            <a:endCxn id="108" idx="0"/>
          </p:cNvCxnSpPr>
          <p:nvPr/>
        </p:nvCxnSpPr>
        <p:spPr>
          <a:xfrm>
            <a:off x="1371240" y="3514320"/>
            <a:ext cx="1080" cy="677160"/>
          </a:xfrm>
          <a:prstGeom prst="straightConnector1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40E6B-20A0-404C-A283-5351AE5F8CE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28400" y="256680"/>
            <a:ext cx="8334360" cy="66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247d"/>
                </a:solidFill>
                <a:latin typeface="Arial"/>
              </a:rPr>
              <a:t>What will the grid certificates look like?</a:t>
            </a:r>
            <a:endParaRPr b="1" lang="en-US" sz="33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otice In particular that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 common prefix for all Grid cert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C=com, DC=quovadisglobal, DC=gri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 prefix for SWITCH user cert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C=com, DC=quovadisglobal, DC=grid, DC=switch, OU=use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 prefix for SWITCH server cert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C=com, DC=quovadisglobal, DC=grid, DC=switch, OU=hos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3280" y="1682640"/>
            <a:ext cx="40698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ser Certificate examp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ost certifica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ssuing CA Certificate examp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0B16E-2638-4DE0-BDC3-BA11E7A0824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400" y="257040"/>
            <a:ext cx="8334360" cy="82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247d"/>
                </a:solidFill>
                <a:latin typeface="Arial"/>
              </a:rPr>
              <a:t>EE Certificate</a:t>
            </a:r>
            <a:endParaRPr b="1" lang="en-US" sz="43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ertificate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Data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Version: 3 (0x2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erial Number: 31 (0x1f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ignature Algorithm: sha1WithRSAEncryp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Issuer: C=BM, O=QuoVadis Limited, CN=QuoVadis Grid Issuing C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Validit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Not Before: Aug 26 08:41:25 2008 GM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Not After : Aug 26 08:41:25 2009 GM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ubject: DC=com, DC=quovadisglobal, DC=grid, DC=switch, DC=users, O=SWITCH, CN=Alessandro Usa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ubject Public Key Info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Public Key Algorithm: rsaEncryp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RSA Public Key: (2048 bit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Modulus (2048 bit)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                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Exponent: 65537 (0x10001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B521A-3730-4645-B9DE-65EE4C6B4AB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533520" y="5335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509v3 extensio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509v3 Certificate Policie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licy: 1.3.6.1.4.1.8024.0.1              -&gt; ROOT CA 1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licy: 1.2.840.113612.5.2.2.1.4      -&gt; IGTF Classic Pro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509v3 Key Usage: crit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gital Signature, Key Encipher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509v3 Extended Key Usag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LS Web Client Authent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509v3 Subject Alternative Nam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mail:alessandro.usai@switch.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509v3 Subject Key Identifier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A:5E:63:A9:B3:10:3B:CF:45:60:59:ED:61:59:DE:8B:A4:9A:BE:C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509v3 Authority Key Identifier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eyid:42:E6:13:39:8B:3A:41:66:EA:40:C1:0B:81:CE:10:F7:DA:71:74:B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509v3 CRL Distribution Point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RI:http://crl.quovadisglobal.com/qvgica.cr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uthority Information Acces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 Issuers - URI:http://trust.quovadisglobal.com/qvgica.c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gnature Algorithm: sha1WithRSAEncry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----BEGIN CERTIFICATE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----END CERTIFICATE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9B3A1-6105-457C-8879-463819E481B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8400" y="257040"/>
            <a:ext cx="8334360" cy="92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247d"/>
                </a:solidFill>
                <a:latin typeface="Arial"/>
              </a:rPr>
              <a:t>Host Certificate</a:t>
            </a:r>
            <a:endParaRPr b="1" lang="en-US" sz="5000" spc="-1" strike="noStrike">
              <a:solidFill>
                <a:srgbClr val="00247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32228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rtifica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sion: 3 (0x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ial Number: 33 (0x2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ture Algorithm: sha1WithRSAEncry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suer: C=BM, O=QuoVadis Limited, CN=QuoVadis Grid Issuing 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Before: Aug 27 08:33:18 2008 G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fter : Aug 27 08:33:18 2009 G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ject: DC=com, DC=quovadisglobal, DC=grid, DC=switch, DC=host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=SWITCH, CN=server.switch.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ject Public Key Inf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Key Algorithm: rsaEncry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A Public Key: (2048 b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us (2048 bit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ponent: 65537 (0x10001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75ECC-6C92-463D-BF25-D7C3C21CA93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ssandro Usai</cp:lastModifiedBy>
  <dcterms:modified xsi:type="dcterms:W3CDTF">2008-10-05T12:28:46Z</dcterms:modified>
  <cp:revision>32</cp:revision>
  <dc:subject/>
  <dc:title>QuoVadis accreditation with EuGridPMA</dc:title>
</cp:coreProperties>
</file>