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B652FC3-99C7-4573-B528-1C3084559C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54C50B9-373B-460B-B8ED-BA26956B67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D2BF001-2994-4AE0-B950-58A3321848E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07337CB-6259-4BAE-99E4-62C2C604D3D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6586264-D295-4148-8E17-A0EC7B1FE81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F6F6139-4F46-44A1-87C2-55A4BDDFA9A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431AFB8-334B-4EFA-94A2-A15E1B901F1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B14F6DE-1DA6-45D9-89C9-46D62EC9BF6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9884ECFB-CD3C-4EB3-B1ED-1206C7964EA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5541137-A22E-4686-B16A-CB00529C7F0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6BED6BFA-7402-47FD-AA24-76799537872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AEDF0F8-99CD-4CE3-A535-8710B193BC2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D819A46-D700-4D08-AD86-6CAD43E9565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GFD.125 AND POLICY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OMPLIANCE TESTING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 uniqueness 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RDN component ordering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ersion: must be v3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? CA:FALSE? (openssl x509 –tex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only certSign, cRLSign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 (if present) has http URL in URI attribut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Validity period: between 3 and 20 years, warn if &lt;1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gnatureAlgorithm: must be SHA-1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/Issuer certificate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 OIDs (should not be presen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check for weird attribu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20720" indent="-27720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rial number: warn if 0, error if &lt;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2640" indent="-33264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 update: Did serial number chang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client cer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namespace unique? Does it match the meta-data?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(openssl x509 –subjec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s the RDN ordering correct (openssl asn1parse –dum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asicConstraints: critical, CA:FALSE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no serverAuth in personal cer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KU: does it match any netscape attribute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KI: contains only keyID, error if name or serial detect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sCertType: matches eKU if presen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DP: must be included and must return DER C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E cert other check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keyUsage:  no nonRepudiation &amp;c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C naming, matching registered WHOIS contac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tems to check for in meta-dat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is htt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yields a CRL issued by the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_url can sustain 4Hz request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validity is &gt; 7 days (warn if &gt;3days, manual if &gt;31 days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mail: address does not bou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is reasonable representation of CA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lias matches [A-Za-z][-A-Za-z0-9]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_url if present: gets CA cert, warn if missing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rl: leads to non-empty html or text pa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tatus: matches accredit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ext?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o is willing to write the utility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 can do it, but then it will take a while, I think …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33Z</dcterms:modified>
  <cp:revision>469</cp:revision>
  <dc:subject/>
  <dc:title>European Grid Policy Management Authority</dc:title>
</cp:coreProperties>
</file>