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3BCDE-AE92-4140-8AA9-2BD8E7047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14339-35B7-4CB7-904B-204BECF5C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0DE81-EF2E-4445-88B4-94AF8D042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5F049-A7AA-4A69-9A97-36EFB271F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35765-8E32-49E2-8368-DA6D59240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477B3-4AE3-4CB1-83BD-B28A28A89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CE64B-6BC9-42FD-A8F2-23F4B37E4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F60E-D472-43CA-A9CE-38188D14F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763FE-C33D-4D89-88DD-CD6143D7D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B68C-F843-4E52-BED4-1602D59B8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9154A-F8C6-40AA-9247-360799DB8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629C1-2D41-48EF-8565-A57100E41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D2618-FE38-4648-887A-DE3B677EC2A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C06C1-FC66-4322-91A4-9E60549B7D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ission: The International Grid Trust Federation (IGTF) Risk Assessment Team (RAT) is responsible for assessing risk and setting time and deadlines for response and action for concerns and vulnerabilit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RAT has form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ttp://tagpma.es.net/wiki/bin/view/IGTF-R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gtf-rat@eugridpma.org</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ember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PGridPMA: Yoshio Tanaka, Jinny Chie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UGridPMA: Jens Jensen, Willy Weisz, David Groep</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GPMA: Jim Basney, Vinod Rebello, Jim Marstel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 Procedur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IGTF RAT operates by consensus. To react quickly and effectively, the group must have the ability to quickly reach consensus. We take the Apache Voting Process as a guide. Specifically, consensus is reached if there are three positive votes and no negative votes. Any official action requires that we reach consensus in this manne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IGTF RAT contacts CA operators via the email address in the .info file of the IGTF distribution. IGTF members are expected to monitor this address. The RAT expects responses from IGTF members within one business da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 Communications Test</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http://tagpma.es.net/wiki/bin/view/IGTF-RAT/20080813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oa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erify CA contact email addre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Verify one business day response tim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Result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57 (75% of 76) CAs responded within one d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60 (79% of 76) CAs responded within two d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73 (96% of 76) CAs responded within one wee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76 (100%) CAs responded within one mont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ontact addresses have been updated.</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When should we do it agai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TF RAT</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nex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sk Analy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cations test twice per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8:18:34Z</dcterms:created>
  <dc:creator>Jim Basney</dc:creator>
  <dc:description/>
  <dc:language>en-US</dc:language>
  <cp:lastModifiedBy>Jim Basney</cp:lastModifiedBy>
  <dcterms:modified xsi:type="dcterms:W3CDTF">2008-10-06T09:32:27Z</dcterms:modified>
  <cp:revision>2</cp:revision>
  <dc:subject/>
  <dc:title>IGTF RAT</dc:title>
</cp:coreProperties>
</file>