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4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B9AEF-F442-4EC6-85A8-1C6DEFD9FD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F7C75-F4B9-4733-932F-C08C6B7BF8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EDA9B-98CA-4D38-ABDC-4B689117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D9EEC-B648-4D72-A381-71106465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90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4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00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90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4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B57F-62FE-42DF-AD1E-0D65028FEE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31640" y="-25560"/>
            <a:ext cx="58993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5C9D-65D7-4024-BFDB-35DA7DED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190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304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800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190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304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EE1F-A089-4C1D-BA33-22B40FBF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131640" y="-25560"/>
            <a:ext cx="58993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190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30440" y="105264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800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190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30440" y="2483280"/>
            <a:ext cx="286740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74EC-19A2-48E2-BAF2-5CC2D182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E8D7-2A9B-46F4-8B09-FF0F3A3B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1640" y="-25560"/>
            <a:ext cx="58993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CE3E1-981C-4C20-AAD4-94E05981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F6C50-64E0-4F6F-B71A-DFE9917E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720" y="248328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4D5D8-0E60-4998-8AE5-8C596CB3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052640"/>
            <a:ext cx="434592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000" y="2483280"/>
            <a:ext cx="8905680" cy="130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3C4F5-6853-40E9-82CA-D9EE6F2B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8000" y="115920"/>
            <a:ext cx="8856720" cy="792000"/>
            <a:chOff x="108000" y="115920"/>
            <a:chExt cx="8856720" cy="792000"/>
          </a:xfrm>
        </p:grpSpPr>
        <p:sp>
          <p:nvSpPr>
            <p:cNvPr id="1" name=""/>
            <p:cNvSpPr/>
            <p:nvPr/>
          </p:nvSpPr>
          <p:spPr>
            <a:xfrm>
              <a:off x="108000" y="115920"/>
              <a:ext cx="8856720" cy="792000"/>
            </a:xfrm>
            <a:prstGeom prst="rect">
              <a:avLst/>
            </a:prstGeom>
            <a:solidFill>
              <a:srgbClr val="526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179280" y="189000"/>
              <a:ext cx="216072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31640" y="-25560"/>
            <a:ext cx="5899320" cy="1067040"/>
          </a:xfrm>
          <a:prstGeom prst="rect">
            <a:avLst/>
          </a:prstGeom>
          <a:solidFill>
            <a:srgbClr val="5262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8000" y="1052640"/>
            <a:ext cx="8905680" cy="2738160"/>
          </a:xfrm>
          <a:prstGeom prst="rect">
            <a:avLst/>
          </a:prstGeom>
          <a:solidFill>
            <a:srgbClr val="dce4e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3760" indent="-2937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642240" indent="-244440">
              <a:spcBef>
                <a:spcPts val="601"/>
              </a:spcBef>
              <a:buClr>
                <a:srgbClr val="3366cc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994320" indent="-198720">
              <a:spcBef>
                <a:spcPts val="601"/>
              </a:spcBef>
              <a:buClr>
                <a:srgbClr val="009999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3" marL="1354680" indent="-198720"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4" marL="1719360" indent="-198720">
              <a:spcBef>
                <a:spcPts val="601"/>
              </a:spcBef>
              <a:buClr>
                <a:srgbClr val="333399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5" marL="1719360" indent="-19872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6" marL="1719360" indent="-19872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79280" y="6381720"/>
            <a:ext cx="186696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33cc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rebuchet MS"/>
              </a:rPr>
              <a:t>6-8 Oct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461440" y="6460920"/>
            <a:ext cx="4982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33339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0AECC-E8D3-4385-8890-D36A456B2E9C}" type="slidenum">
              <a:rPr b="0" lang="en-US" sz="1400" spc="-1" strike="noStrike">
                <a:solidFill>
                  <a:srgbClr val="33339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103640" y="5835600"/>
            <a:ext cx="5040360" cy="10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7720" cy="1465200"/>
          </a:xfrm>
          <a:prstGeom prst="rect">
            <a:avLst/>
          </a:prstGeom>
          <a:gradFill rotWithShape="0">
            <a:gsLst>
              <a:gs pos="0">
                <a:srgbClr val="757575">
                  <a:alpha val="78039"/>
                </a:srgbClr>
              </a:gs>
              <a:gs pos="50000">
                <a:srgbClr val="ffffff"/>
              </a:gs>
              <a:gs pos="100000">
                <a:srgbClr val="757575">
                  <a:alpha val="78039"/>
                </a:srgbClr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"/>
          <p:cNvSpPr/>
          <p:nvPr/>
        </p:nvSpPr>
        <p:spPr>
          <a:xfrm>
            <a:off x="6553080" y="624852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Your university or experiment logo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8360" indent="-281160">
              <a:spcBef>
                <a:spcPts val="601"/>
              </a:spcBef>
              <a:buClr>
                <a:srgbClr val="3366cc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Trebuchet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3" marL="1557360" indent="-228600"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4" marL="1976400" indent="-228600">
              <a:spcBef>
                <a:spcPts val="601"/>
              </a:spcBef>
              <a:buClr>
                <a:srgbClr val="333399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5" marL="1976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6" marL="19764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2484360" cy="1000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916280"/>
            <a:ext cx="9144000" cy="4321080"/>
          </a:xfrm>
          <a:prstGeom prst="rect">
            <a:avLst/>
          </a:prstGeom>
          <a:solidFill>
            <a:srgbClr val="c0dec7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86240" y="214200"/>
            <a:ext cx="3746520" cy="1052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55640" y="90360"/>
            <a:ext cx="612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74760"/>
            <a:ext cx="7772400" cy="1470240"/>
          </a:xfrm>
          <a:prstGeom prst="rect">
            <a:avLst/>
          </a:prstGeom>
          <a:gradFill rotWithShape="0">
            <a:gsLst>
              <a:gs pos="0">
                <a:srgbClr val="757575">
                  <a:alpha val="78039"/>
                </a:srgbClr>
              </a:gs>
              <a:gs pos="50000">
                <a:srgbClr val="ffffff"/>
              </a:gs>
              <a:gs pos="100000">
                <a:srgbClr val="757575">
                  <a:alpha val="78039"/>
                </a:srgbClr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IGTF CP/CPS Template Working Party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gradFill rotWithShape="0">
            <a:gsLst>
              <a:gs pos="0">
                <a:srgbClr val="171746">
                  <a:alpha val="79215"/>
                </a:srgbClr>
              </a:gs>
              <a:gs pos="50000">
                <a:srgbClr val="333399"/>
              </a:gs>
              <a:gs pos="100000">
                <a:srgbClr val="171746">
                  <a:alpha val="79215"/>
                </a:srgbClr>
              </a:gs>
            </a:gsLst>
            <a:lin ang="10800000"/>
          </a:gra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pdate I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Jens Jense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U GridPMA Lisbon 6-8 Oct 2008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2000160"/>
            <a:ext cx="822960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visionfl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o track changes (N Walsh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Sun tool to automatically update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gebars.xs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o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fine Meta-attrs (non-DocBook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tional/choic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plemented via attrs - or separate X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f separate, inspired by ASN.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no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600200"/>
            <a:ext cx="390060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Keep not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cument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GF and other publisher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Other PKI particip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6200" y="1714680"/>
            <a:ext cx="39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8040" indent="-338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tion: use DocBook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note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tip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important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caution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warning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00200"/>
            <a:ext cx="82296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te semantics not specified by Doc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ote/&gt; - general annotation (3647 text?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tip/&gt; - suggestion to CA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important/&gt; - note for r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caution/&gt; - suggestion to CA Manager/R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warning/&gt; - strong suggestion to Manager/Re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ndering similar in X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33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ustomise l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ndering in WordML (Microsoft Word) limi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56000" y="152280"/>
            <a:ext cx="27302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notation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680" y="1928880"/>
            <a:ext cx="1857240" cy="11430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2790720" y="2219400"/>
            <a:ext cx="857160" cy="1428480"/>
          </a:xfrm>
          <a:prstGeom prst="pi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0200" y="2000160"/>
            <a:ext cx="1500480" cy="4287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4880" y="1928880"/>
            <a:ext cx="1857240" cy="100008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040" y="4143240"/>
            <a:ext cx="1714680" cy="1000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57880" y="4143240"/>
            <a:ext cx="1714320" cy="1000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28960" y="4143240"/>
            <a:ext cx="1714320" cy="100044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43080" y="4429080"/>
            <a:ext cx="857160" cy="428760"/>
          </a:xfrm>
          <a:prstGeom prst="leftRightArrow">
            <a:avLst>
              <a:gd name="adj1" fmla="val 50000"/>
              <a:gd name="adj2" fmla="val 49979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4429080"/>
            <a:ext cx="857160" cy="428760"/>
          </a:xfrm>
          <a:prstGeom prst="leftRightArrow">
            <a:avLst>
              <a:gd name="adj1" fmla="val 50000"/>
              <a:gd name="adj2" fmla="val 49979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57880" y="5715000"/>
            <a:ext cx="1714320" cy="100008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”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0040" y="5715000"/>
            <a:ext cx="1714680" cy="100008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71720" y="5072040"/>
            <a:ext cx="500040" cy="714240"/>
          </a:xfrm>
          <a:prstGeom prst="upDownArrow">
            <a:avLst>
              <a:gd name="adj1" fmla="val 50000"/>
              <a:gd name="adj2" fmla="val 49993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29200" y="5072040"/>
            <a:ext cx="500040" cy="714240"/>
          </a:xfrm>
          <a:prstGeom prst="upDownArrow">
            <a:avLst>
              <a:gd name="adj1" fmla="val 50000"/>
              <a:gd name="adj2" fmla="val 49993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3469320" y="397440"/>
            <a:ext cx="500040" cy="6715440"/>
          </a:xfrm>
          <a:custGeom>
            <a:avLst/>
            <a:gdLst>
              <a:gd name="textAreaLeft" fmla="*/ 319680 w 500040"/>
              <a:gd name="textAreaRight" fmla="*/ 500400 w 500040"/>
              <a:gd name="textAreaTop" fmla="*/ 105480 h 6715440"/>
              <a:gd name="textAreaBottom" fmla="*/ 6609960 h 671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44"/>
                  <a:pt x="10800" y="1087"/>
                </a:cubicBezTo>
                <a:lnTo>
                  <a:pt x="10800" y="9713"/>
                </a:lnTo>
                <a:cubicBezTo>
                  <a:pt x="10800" y="10257"/>
                  <a:pt x="5400" y="10800"/>
                  <a:pt x="0" y="10800"/>
                </a:cubicBezTo>
                <a:cubicBezTo>
                  <a:pt x="5400" y="10800"/>
                  <a:pt x="10800" y="11344"/>
                  <a:pt x="10800" y="11887"/>
                </a:cubicBezTo>
                <a:lnTo>
                  <a:pt x="10800" y="20513"/>
                </a:lnTo>
                <a:cubicBezTo>
                  <a:pt x="10800" y="21057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30880" y="2214720"/>
            <a:ext cx="2768400" cy="1191240"/>
          </a:xfrm>
          <a:prstGeom prst="rect">
            <a:avLst/>
          </a:prstGeom>
          <a:noFill/>
          <a:ln w="3492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ext/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s to avoid co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000160"/>
            <a:ext cx="822960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ly experimental stu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apt (selectively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mantic we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ool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c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928880"/>
            <a:ext cx="82296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 substitute for real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perational review and presentation at PMA will catch most non-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Too 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sibly, experience will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ll-in-on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vide/document transl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8760" y="1500120"/>
            <a:ext cx="822960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Be careful about IPR and Copy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ssign copyright to the OGF/IGT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k “ownership” of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lean(ish) room implemen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write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Use existing tex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known to be written by contribu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rack original source of contribution if co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RFC 3647 converted to Doc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ropped the explanations but they could be added back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mental conversions che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mental annotation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n change how it’s done as long as it’s done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file from IGTF cert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56000" y="92160"/>
            <a:ext cx="27302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96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lunteer contributors to contribute tex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 O’Callaghan (TC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 Groep (NIKHE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 Helm (ES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J Jensen (R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Rebello (UF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 Sova (CES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H Teder (EE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 Velichkevych (NTU-KPI Kie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ään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n (NB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3760" y="2928960"/>
            <a:ext cx="257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CAs to implement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or exist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32000" y="-23760"/>
            <a:ext cx="590256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Aspects of documentation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90892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(Currently) use “role” attribute to track “role” of tex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igtf.ee.cl.minreq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Documented in </a:t>
            </a:r>
            <a:r>
              <a:rPr b="0" i="1" lang="en-US" sz="1800" spc="-1" strike="noStrike">
                <a:solidFill>
                  <a:srgbClr val="009999"/>
                </a:solidFill>
                <a:latin typeface="Trebuchet MS"/>
              </a:rPr>
              <a:t>relevant</a:t>
            </a: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 section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igtf.ee.cl.cp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ee = end entity issuing CA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cl = classic profile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Subdivide into feature section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E.g. suspension, certificate modification, renewal, rekey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Not using notes/warnings/caution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But could conver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Use “id” attribute to track original referenc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But ensure unique in documen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Need to build/stretch existing hierarchical role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E.g. 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igtf.ee.cl.minreq.2.2.a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675C-63E1-4DF9-9547-4245E56FF43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E389B-18F8-43E8-8D58-FCAAEB058DDB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32000" y="-23760"/>
            <a:ext cx="590256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Overview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08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Overview (this page)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‏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Review of presentation from OGF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Apologies to people who already saw i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More meant for a general audienc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Easily recognised, using NGS templat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New stuff since OGF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Easily recognised, uses GridPP templat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More meant for CA managers and suchlik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(Confused? – stupid limitations of OpenOffice)</a:t>
            </a: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‏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The document itself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Next step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2B8DA-37C4-409D-98C6-CA3F14E78C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82649-1851-42E3-A1CB-3D2B3CE1B717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32000" y="21960"/>
            <a:ext cx="59025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Customising blessed tex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0892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Built-in entiti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Minor customisations of blessed tex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Without un-blessing i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For things like CA nam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nable or disable feature sets?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Conditional tex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Experimental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3D6A1-96D8-4711-B0BB-5ED32F9C72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4F0B4-E538-42E2-A10D-0598285441B1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32000" y="21960"/>
            <a:ext cx="59025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Writing and reviewing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90892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stinguished added text and blessed tex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fault (empty) paras to “No stipulation.”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istinguish changes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Keep deleted text by maintaining revision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ase of edit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Convert between DocBook and WordML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2" marL="1131480" indent="-226080">
              <a:spcBef>
                <a:spcPts val="451"/>
              </a:spcBef>
              <a:buClr>
                <a:srgbClr val="0099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rebuchet MS"/>
              </a:rPr>
              <a:t>Need Word “template” for header/footer?</a:t>
            </a:r>
            <a:endParaRPr b="0" lang="en-US" sz="1800" spc="-1" strike="noStrike">
              <a:solidFill>
                <a:srgbClr val="0099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Limited?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Highly experimental?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dapt existing XSLT for XHTML or WordML?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568F-C824-4F6F-94A6-AE42A5BBF8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663D5-CFF3-42F7-A39D-13C103232A0B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32000" y="21960"/>
            <a:ext cx="59025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ublishing document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08920" cy="26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raft → Final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Drop explanations, drop minreq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Keep approved text and added text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Drop markup (or don't add it)</a:t>
            </a: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‏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.g. run XSLT filters to drop minreq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Output as valid docbook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Then docbook can be converted to HTML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98D3A-1FA7-4CBA-9325-E93EA1391CC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82877-6F05-478A-A531-D0DCDF9A63A9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32000" y="21960"/>
            <a:ext cx="590256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Purpose</a:t>
            </a:r>
            <a:endParaRPr b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0892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peed up accreditation of new CAs 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Too much bad stuff gets copied around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Not enough good stuff gets copied around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Known good stuff – can automate more stuff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IGTF-blessed, documenting best practic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marL="334440" indent="-3344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nable existing CAs to change</a:t>
            </a:r>
            <a:endParaRPr b="0" lang="en-US" sz="2400" spc="-1" strike="noStrike">
              <a:solidFill>
                <a:srgbClr val="333399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You'd do this only if there are benefits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(Or the PMA orders you to use it!)</a:t>
            </a: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‏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  <a:p>
            <a:pPr lvl="1" marL="730800" indent="-278280">
              <a:spcBef>
                <a:spcPts val="499"/>
              </a:spcBef>
              <a:buClr>
                <a:srgbClr val="3366cc"/>
              </a:buClr>
              <a:buFont typeface="Trebuchet MS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Trebuchet MS"/>
              </a:rPr>
              <a:t>Use this to improve existing Template</a:t>
            </a:r>
            <a:endParaRPr b="0" lang="en-US" sz="2000" spc="-1" strike="noStrike">
              <a:solidFill>
                <a:srgbClr val="3366c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6C6F5-83A9-4248-8342-EA091865D7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31EC9-A0D2-46F6-B88D-247BABCA66B0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2960" y="2143080"/>
            <a:ext cx="2143080" cy="1143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ion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81560" y="2193840"/>
            <a:ext cx="2468520" cy="1182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500880" y="2143080"/>
            <a:ext cx="214308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57680" y="25002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00840" y="257184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14960" y="3571920"/>
            <a:ext cx="2143080" cy="1214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28880" y="3571920"/>
            <a:ext cx="214308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86240" y="5072040"/>
            <a:ext cx="2143440" cy="1214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7429320" y="3438360"/>
            <a:ext cx="571320" cy="928800"/>
          </a:xfrm>
          <a:prstGeom prst="pie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71960" y="3714840"/>
            <a:ext cx="1000080" cy="285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3240" y="414324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 rot="16200000">
            <a:off x="7000920" y="4784760"/>
            <a:ext cx="1428480" cy="714240"/>
          </a:xfrm>
          <a:prstGeom prst="pie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8680" y="5072040"/>
            <a:ext cx="41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simplified vers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PMA have a more detailed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/edited by J Marsteller (PS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7800" y="2857680"/>
            <a:ext cx="2143080" cy="1214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71720" y="2857680"/>
            <a:ext cx="214308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14800" y="3000240"/>
            <a:ext cx="1000080" cy="2858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86080" y="342900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0760" y="2143080"/>
            <a:ext cx="77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art can take many iterations (10 is not unheard o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7840" y="414324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take year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42960" y="5143680"/>
            <a:ext cx="642960" cy="357120"/>
          </a:xfrm>
          <a:prstGeom prst="leftArrow">
            <a:avLst>
              <a:gd name="adj1" fmla="val 50000"/>
              <a:gd name="adj2" fmla="val 50011"/>
            </a:avLst>
          </a:prstGeom>
          <a:noFill/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03240" y="4929120"/>
            <a:ext cx="40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rs comments not add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 manager needs several it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wait for their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  <a:ea typeface="Lucida Sans Unicode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040" y="1785960"/>
            <a:ext cx="82296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velop template and “safe”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Cloning is done all th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ften bad stuff is cloned, t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ress IGTF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asier to write 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For old hands, easier to convert to 3647, to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5880" y="2071800"/>
            <a:ext cx="790092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ewer errors, contradi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Quicker re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vanced goal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able review checklist (reviewer must check) and comments (manager must addres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Maintenance of IGTF-compliant CP/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Update with new IGTF regula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Not automatically of course!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57160" y="3571920"/>
            <a:ext cx="2357640" cy="128592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14800" y="5286240"/>
            <a:ext cx="2357280" cy="12859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/C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0800" y="3571920"/>
            <a:ext cx="2357280" cy="1285920"/>
          </a:xfrm>
          <a:prstGeom prst="rect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3857760"/>
            <a:ext cx="1928880" cy="1357200"/>
          </a:xfrm>
          <a:prstGeom prst="downArrowCallout">
            <a:avLst>
              <a:gd name="adj1" fmla="val 25005"/>
              <a:gd name="adj2" fmla="val 25003"/>
              <a:gd name="adj3" fmla="val 25000"/>
              <a:gd name="adj4" fmla="val 2038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9800" y="5429160"/>
            <a:ext cx="2412000" cy="9169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-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A every N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56000" y="274680"/>
            <a:ext cx="273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928880"/>
            <a:ext cx="82296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mplate written in DocBook X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utput to many formats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omewhat limited markup?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eds XML editor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used Emacs with n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ollows RFC 36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ns Jensen</dc:creator>
  <dc:description/>
  <dc:language>en-US</dc:language>
  <cp:lastModifiedBy/>
  <cp:revision>0</cp:revision>
  <dc:subject/>
  <dc:title>Slide 1</dc:title>
</cp:coreProperties>
</file>