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D029E35-9FFE-4E12-89A6-881471CC2FC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5EAE93E-6AAA-4A06-91E3-E054C5275D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FC88C28C-1723-4E17-8A39-22C3D59C231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0E9F975E-1FFD-4698-94B7-294DBCAA6B8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CC2822B6-DEEA-426D-AA89-C03DDDF1337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079076B3-6895-481C-A962-35A911E781B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3831606C-5EBE-4BA7-83F3-910DAF52BD1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D76DF99B-82D1-4103-A5F1-9035D113C99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E5CCAA91-278B-46F2-87D3-A8A9DD89CF4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BDF5FAF0-39E5-419E-A51F-40360641692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5CA623EC-5F78-415D-A46A-BBAD700EE4B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6C8583C8-63A9-4CFC-AFEC-8A4D8D28909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565C817B-8D57-4767-85E4-119405C4511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14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October 6-8, 2008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Lisbon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Lucida Sans"/>
              </a:rPr>
              <a:t>CRL NEXT UPDATE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RL Fac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0" y="1295280"/>
            <a:ext cx="91440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1.0  - d1737728 /C=SG/O=Netrust Certificate Authority 1/OU=Netrust CA1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2.0  - 1d879c6c /DC=ch/DC=cern/CN=CERN Trusted Certification Authority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7.0  - 9b59ecad /DC=cz/DC=cesnet-ca/CN=CESNET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8.0  - cc800af0 /C=HU/O=NIIF/OU=Certificate Authorities/CN=NIIF Root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10.0  - eebc7717 /C=CH/O=Switch - .../CN=SWITCH Server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10.0  - 47d3d1a0 /C=CH/O=Switch - .../CN=SWITCH Personal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14.0  - 9b95bbf2 /C=US/O=National Center for S.A./OU=Certificate Authorities/CN=CACL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30.0  - 1691b9ba /C=TR/O=TRGrid/CN=TR-Grid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...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30.0  - 2418a3f3 /DC=bg/DC=acad/CN=BG.ACAD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31.0  - 55994d72 /C=RU/O=RDIG/CN=Russian Data-Intensive Grid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   </a:t>
            </a:r>
            <a:r>
              <a:rPr b="0" lang="en-US" sz="1300" spc="-1" strike="noStrike">
                <a:solidFill>
                  <a:srgbClr val="000066"/>
                </a:solidFill>
                <a:latin typeface="Courier New"/>
                <a:ea typeface="Courier New"/>
              </a:rPr>
              <a:t>35.0  - 03aa0ecb /C=BE/O=BELNET/OU=BEGrid/CN=BEGrid CA/emailAddress=gridca@belnet.be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180.0  - 28a58577 /C=GR/O=HellasGrid/OU=Certification A.../CN=HellasGrid Root CA 2006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180.5  - d254cc30 /DC=ch/DC=cern/CN=CERN Root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...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365.0  - 566bf40f /C=EE/O=Grid/CN=Estonian Grid Certification Authority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366.0  - cf4ba8c8 /C=FR/O=CNRS/CN=CNRS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...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548.0  - d0b701c0 /C=CH/O=Switch - .../CN=SWITCHgrid Root CA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  </a:t>
            </a:r>
            <a:r>
              <a:rPr b="0" lang="en-US" sz="1300" spc="-1" strike="noStrike">
                <a:solidFill>
                  <a:srgbClr val="a5a5e9"/>
                </a:solidFill>
                <a:latin typeface="Courier New"/>
                <a:ea typeface="Courier New"/>
              </a:rPr>
              <a:t>731.0  - 98ef0ee5 /C=UK/O=eScienceRoot/OU=Authority/CN=UK e-Science Root</a:t>
            </a:r>
            <a:endParaRPr b="0" lang="en-US" sz="13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assic Profil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alidity between 7 and 30 day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7 day CRLs implies continuous issuanc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1" name="Picture 2" descr=""/>
          <p:cNvPicPr/>
          <p:nvPr/>
        </p:nvPicPr>
        <p:blipFill>
          <a:blip r:embed="rId1"/>
          <a:stretch/>
        </p:blipFill>
        <p:spPr>
          <a:xfrm>
            <a:off x="811080" y="1185840"/>
            <a:ext cx="8101080" cy="20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SLCS Profil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alidity between 3 days and ∞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768240" y="1311120"/>
            <a:ext cx="8048880" cy="15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ssues see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etrust CRL of 1 day triggers many warning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MA warnings of actual invalidity are comm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navailability fo CRL is on average 20% at any ti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e CERN TCA CRL of 2 days hardly causes any actual proble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 warning once every few month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e CESNET CRL of 7 days causes no proble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anual 30 day CRLs give incidental proble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Propos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armonize period between SLCS and Classic 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t least 3 days before expirat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Only for on-line auto-generated CR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anually generated CRLs and CRLs for off-line CAs stay at 7 day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ax life time for Classis AP stays at 30 days for issuing CA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08-10-07T08:21:40Z</dcterms:modified>
  <cp:revision>467</cp:revision>
  <dc:subject/>
  <dc:title>European Grid Policy Management Authority</dc:title>
</cp:coreProperties>
</file>