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8247-9182-48BB-8566-685E719A6F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E990-7074-45C6-B28D-E05813FABE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DBA0-F6AB-46CD-96C6-8F9E745B45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688B-5BC1-4B38-A3A8-1197718681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FC4A-DA91-40FB-A3E4-25CB5B98B8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07EF-A068-4615-9722-7B5387982D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0208-75A8-40E4-9223-3607A4CB58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08BE-C540-4F40-93AC-9F1340A092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EE8F-E8A9-457C-8C3E-769102B591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A9FB-EB87-4242-9D41-B7829B0D2B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C95D-F050-4F55-9871-A8935AE4C3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095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FE61-483F-4FCC-A6C4-AC15FB08B9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095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095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742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142200" tIns="50760" bIns="50760" anchor="t">
            <a:normAutofit fontScale="12000"/>
          </a:bodyPr>
          <a:p>
            <a:pPr marL="4680" indent="-4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2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360" indent="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080" indent="1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800" indent="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451296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94A1-F600-4D69-B7FF-812B2260055F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Group 2"/>
          <p:cNvGrpSpPr/>
          <p:nvPr/>
        </p:nvGrpSpPr>
        <p:grpSpPr>
          <a:xfrm>
            <a:off x="0" y="1066680"/>
            <a:ext cx="9144000" cy="76320"/>
            <a:chOff x="0" y="1066680"/>
            <a:chExt cx="9144000" cy="76320"/>
          </a:xfrm>
        </p:grpSpPr>
        <p:sp>
          <p:nvSpPr>
            <p:cNvPr id="41" name="Rectangle 3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solidFill>
              <a:srgbClr val="5da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"/>
            <p:cNvSpPr/>
            <p:nvPr/>
          </p:nvSpPr>
          <p:spPr>
            <a:xfrm>
              <a:off x="0" y="1066680"/>
              <a:ext cx="914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440" indent="11160">
              <a:spcBef>
                <a:spcPts val="700"/>
              </a:spcBef>
              <a:buClr>
                <a:srgbClr val="176d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6477120"/>
            <a:ext cx="13716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2007 Open Grid For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forge.gridforum.org/sf/go/doc4856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2565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520" y="3657600"/>
            <a:ext cx="7620120" cy="533520"/>
          </a:xfrm>
          <a:prstGeom prst="rect">
            <a:avLst/>
          </a:prstGeom>
          <a:solidFill>
            <a:srgbClr val="5dad41"/>
          </a:solidFill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ristos Kanellopou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528920" y="4505400"/>
            <a:ext cx="3936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GridPMA, Lisbon,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tober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44C6-EF25-4E62-9B1C-AEA3301C3DC7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433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ge.gridforum.org/sf/go/doc48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3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344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the docu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for defining an Authentication Service Profile that can be used by IdPs to provide compliant Authentica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3440" indent="-343080">
              <a:spcBef>
                <a:spcPts val="700"/>
              </a:spcBef>
              <a:buClr>
                <a:srgbClr val="176d8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an Authentication Service Pro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uthentication Service Profile provides a way for Grid Relying Parties (RP) to be able to identify and compare Authentication Services provided by Identity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dP can provide Authentication Services based upon one or more Authentication Service Profi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9FC1-596D-46AC-A9CB-CD70FA80B407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8EA4-F96D-40B8-9143-13D827E21630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who is responsible for the service and change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the community that will be served by the Authentication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y the scope of th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the system architecture used to build the authentication service used by the Identity provider. How does the customer and management interface to the syst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uthentication Service must describe how identity is managed and communicated in the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Authentication service must define Identity vetting rules, what each user does to prove the identity of the user, host or service identified as part of an organiz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ty revocation: how a person or system is removed from the serv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re a special Acceptable Use Policy that appl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53A8-63CA-466E-A304-3159CDDC20A5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E9AC-D3E4-4629-A4C7-1B56F4E266F1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S for the authentication service: is 24/7 support or no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uble ticket report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request and general customer sup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d contact information, problem reporting/resolution procedu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y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ach authentication service used by the identity service provider describe the: Software, network, server and physical security at the site of the authentication serv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 describe: procedural controls, personnel security controls. Life cycle for security controls - How do you update/change security controls and keep the community inform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 and Security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nformation must published and maintain by the Authentication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long information must be maintain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rights to read or use the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C41F-1F3E-450C-912A-1C4D5E4C0E36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スライド番号プレースホルダ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7F8D-692D-4DF9-A468-F245EF35F88C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fo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entication Service Profi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233640" tIns="50760" bIns="50760" anchor="t">
            <a:normAutofit/>
          </a:bodyPr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liability or warranties are supported by the service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ncial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pay for the serv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 financial responsibilities to your mem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audit each authentication service for compliance to your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conduct self audits or member audits or open to external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cy,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are your privacy rules, IP policie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57200">
              <a:spcBef>
                <a:spcPts val="700"/>
              </a:spcBef>
              <a:buClr>
                <a:srgbClr val="176d89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omise and Disaster rec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handle exposed shared secrets or other compromised secre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facilities are in place to rebuild the service in the case of a disas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176d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long would the service be out of commission if the service is compromised or damage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13320" y="6400800"/>
            <a:ext cx="268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8C99-1DA6-4F9B-83EE-240BB8FEEC96}" type="slidenum">
              <a:rPr b="0" lang="en-US" sz="11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6:09:53Z</dcterms:created>
  <dc:creator>David Groep</dc:creator>
  <dc:description/>
  <cp:keywords/>
  <dc:language>en-US</dc:language>
  <cp:lastModifiedBy>Christos Kanellopoulos</cp:lastModifiedBy>
  <dcterms:modified xsi:type="dcterms:W3CDTF">2008-10-07T12:16:17Z</dcterms:modified>
  <cp:revision>186</cp:revision>
  <dc:subject/>
  <dc:title>Security Area Review December 2006</dc:title>
</cp:coreProperties>
</file>