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915B-DA8B-4C93-84FD-D6F31B3F535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7C9B-9614-4962-8AF9-C6AB5FE622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7022-EA5B-4FB0-A40D-3FC1559F656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5" descr="PMAlogo_large"/>
          <p:cNvPicPr/>
          <p:nvPr/>
        </p:nvPicPr>
        <p:blipFill>
          <a:blip r:embed="rId9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IGTF"/>
          <p:cNvPicPr/>
          <p:nvPr/>
        </p:nvPicPr>
        <p:blipFill>
          <a:blip r:embed="rId10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7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5" descr="PMAlogo_large"/>
          <p:cNvPicPr/>
          <p:nvPr/>
        </p:nvPicPr>
        <p:blipFill>
          <a:blip r:embed="rId9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IGTF"/>
          <p:cNvPicPr/>
          <p:nvPr/>
        </p:nvPicPr>
        <p:blipFill>
          <a:blip r:embed="rId10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MAlogo_large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IGTF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PMAlogo_large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GTF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7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s of the APGrid PM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11280" y="2785680"/>
            <a:ext cx="7921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UGridPMA F2F@Nicos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anuary 26, 2009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116000" y="4135320"/>
            <a:ext cx="6985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shio Tan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GridPMA Chair, AIST,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08080" y="44280"/>
            <a:ext cx="80359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me updates since Lisbon mee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4920" y="907920"/>
            <a:ext cx="8497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GCA was approved as an IGTF Classic AP compliant CA. (Nov. 05, 2008)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luded in IGTF CA Distribution 1.26 (Dec. 14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NGO/Netrust CA was temporary dropped off from the IGTF CA distribution. (1.26)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y need more time to re-configure the CA system to extend the lifetime of CRL to three day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tarted the review of HKU Grid CA (Jan. 2009)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NIC and IGCA are primary reviewer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Had a VTC (Jan. 17)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 members attende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SzPct val="13006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Updates from member Cas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SzPct val="130064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Discussions on how to implement sustainable review &amp; external auditing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SzPct val="130064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Venue of the next F2F meeting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SGC issued a new root CA certificate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nged signature algorithm from MD5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SHA1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5 + 3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80" y="713880"/>
            <a:ext cx="51069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3 Accredited CA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ST (J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AC (AU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GCC (TW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NIC (C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CA (I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HEP (C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K (J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STI (K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REGI (J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CHC (TW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TEC (T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GO/Netrust (S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GMA-UCSD (U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714920" y="979560"/>
            <a:ext cx="432108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 CA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. Hong Kong (H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iGrid (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eral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saka U. (J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. Hyderabad (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SM (M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xt F2F mee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ipei, Taiwan, in conjunction with ISGC 2009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ct date is not yet fixed, but probably in the week of April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David Groep</dc:creator>
  <dc:description/>
  <dc:language>en-US</dc:language>
  <cp:lastModifiedBy>Yoshio Tanaka</cp:lastModifiedBy>
  <dcterms:modified xsi:type="dcterms:W3CDTF">2009-01-25T18:42:29Z</dcterms:modified>
  <cp:revision>75</cp:revision>
  <dc:subject/>
  <dc:title>International Grid Trust Federation Session  GGF 18 Washington, DC, USA</dc:title>
</cp:coreProperties>
</file>