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E540-65AB-4315-94D1-FB864B123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AB3A-7679-4F42-A7EB-77A2EA066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2EF7-45F3-4127-804B-512F8A060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61A8-643E-4A3D-994F-60513B48D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2085-3A1A-4A2B-849A-627F6F51A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2720-16B8-4E03-BDD1-3028E7A30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3A35-DE93-43BE-BCAC-CB4F2F81D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14C3-3FAC-4F1F-A926-96B268F60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CF9A-748D-41E4-A5F5-9ED17C4DF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47C3-C893-44F4-A97C-71AAB7EB6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26D8-147A-4B5B-9FF7-5E854D92F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87CA-5DA9-403A-B8FB-F56DD34BC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980B-317D-4C06-A3E1-546D839B427B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Stephen’s talk for an overvi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utshell (see also my Lisbon’s 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F454-4B93-407A-9D6F-80E42D6B5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9" idx="2"/>
            <a:endCxn id="90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2"/>
            <a:endCxn id="97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8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3"/>
            <a:endCxn id="94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9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1"/>
            <a:endCxn id="102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2"/>
            <a:endCxn id="104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38DD-E28C-4B30-A36D-C1F365C2D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(Big Thanks to Reimer and Jens!) 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 comment, most of the points were already met, they just needed some rewording in the CP/CPS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tokens:rewording done in the CP/CPS document; notice however that we will not support this use case for the time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HSM documentation: already audited by various International bodies; ready to disclose info on demand (see Stephen's talk)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architecture: same general comment; a separate document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D: the oid as in the grid section will change accordingly, but not the one on the main part of the CP/CPS, which is not grid specific: is it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of 12 months: is this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8836-2EFB-4046-BEFE-1F7BE47AB7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2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ridPMA must be notified and must approve a change: this will be the case whenever a change in the grid par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between QV and IGTF necessary? The requirements for contracts is currently being considered by QuoVad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newed or re-keyed for more than 5 years without a form of auditable identity and eligibility verification:renewals are not supported and renewal requests are treated like a new certificate issu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an request revocation if they can sufficiently prove compromise or exposure of the associated private key: CP/CPS document change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ting authority must grant to the PMA and the Federation, by virtue of its accreditation, the right of unlimited re-distribution of its information: this is already the case; more input perhaps needed on the real m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67CE-6CB5-4169-AE7D-92D853F7C7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’s major points 3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, specified by the accrediting PMA, via the method specified in the policy of the trust anchor repository: QuoVadis will be added to TACAR (already discussed with Ter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ttp or https URL of the PEM-formatted CA certificate: the QuoVadis website will show http of PEM certificate instead of being embe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on/log-out events are not recorded: Logon/logouts (both success and failure) are logged at a server level; CP/CPS updated according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software tokens, the private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rotected with a strong pass phrase, i.e., at least 12 characters long and following current best practice in choosing high-quality passwords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s pertaining to host and service certifi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tored without a pass phrase, b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dequately protected by system methods if stored without passphrase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CP/CPS explicitly allows proxies for the Grid 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D0BB-78A5-4BF9-B0EE-6F51C9B0A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QuoVadis Accreditation Timeline</a:t>
            </a:r>
            <a:br>
              <a:rPr sz="4300"/>
            </a:b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                 Upd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oVadis CP/CPS draft version available and submitted to the reviewers (they will also receive an updated version of the spreadsheet with our feedback/comm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ccepted, the CP/CPS will be submitted for review and acceptance to the QuoVadis PMA (Februar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n acceptance, the CA will be created and tested (March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ion of QuoVadis into the IGTF distribution (by April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E635-D2BF-406E-85BC-53C23E1129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9-01-26T08:26:18Z</dcterms:modified>
  <cp:revision>58</cp:revision>
  <dc:subject/>
  <dc:title>QuoVadis accreditation with EuGridPMA</dc:title>
</cp:coreProperties>
</file>