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2C7-4BCA-448E-9EEB-E24E54C0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F0A-950F-4C47-A9BB-178B0709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BC2-6010-4B24-B6A1-122061A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38B-D3CB-4B0B-ABCF-37488EFC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30B-8F8A-4FD2-B5BD-000130F6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A8A-30FE-42A2-833B-4C647B9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C83-0CAB-4A06-8A47-F1C461F8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4E5-E96B-479C-BFE9-C7364D5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929-2A1A-4814-9A91-7575E49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06B-5034-40D9-9575-444FFA6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A16-5CB7-47BB-B389-67EB65D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FC5-9987-4BE4-816F-A0284AD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6000" y="303120"/>
            <a:ext cx="612144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kton Pro Ex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kton Pro 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950760" y="1100160"/>
            <a:ext cx="4392360" cy="436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979280" y="180720"/>
            <a:ext cx="77389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18560" y="6948360"/>
            <a:ext cx="144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8360" y="6948360"/>
            <a:ext cx="1873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459B10-2C17-4E5D-AF7F-EC2588DF3FA1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nu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5th EuGridP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192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kton Pro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  <a:p>
            <a:pPr lvl="1" marL="216000"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1640" algn="ctr">
              <a:lnSpc>
                <a:spcPct val="95000"/>
              </a:lnSpc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863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GRID-FR self audi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12720" y="5500800"/>
            <a:ext cx="7056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A. de Bignicourt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(UREC / CNRS)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Guideline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ID-FR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elfaudit :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-FR CA: classic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 certificates for institutes participating in GRID projects in which CNRS is involv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EE, LCG, DEISA , Grid 5000, ILDG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Sciences, Integrative Biology,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 user, server and service certificates t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nch public institutes &amp; private instit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ign public &amp; private institutes, no HEP, and who do not have CA (catch-all) : France + 10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72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ucture of the 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47720" y="1676520"/>
          <a:ext cx="891216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6520"/>
                    <a:ext cx="891216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1440" y="180720"/>
            <a:ext cx="7739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tatistic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elf audit : Result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si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ha1 (for GRID-FR CA and EE certificat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ega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NRS and CNRS-Projets: md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P / CPS: NOT OK for uppon C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 certificates : CRL distribution 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84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A &amp; expir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DR28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ID-F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72000" y="2411280"/>
            <a:ext cx="3818160" cy="603720"/>
          </a:xfrm>
          <a:prstGeom prst="rect">
            <a:avLst/>
          </a:prstGeom>
          <a:noFill/>
          <a:ln w="28440">
            <a:solidFill>
              <a:srgbClr val="60c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ignature Algorithm: md5WithRSA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45080" y="320364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09080" y="313200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63680" y="2101680"/>
            <a:ext cx="7843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N and the way EE certificates are issued are the 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Next steps for the futur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P/CPS (according RFC 3647) internal revewing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obot certificates (3 « commands »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figure cache CR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ning to move CA machines (from Toulouse to Ly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grate HSM (FIPS 140-2 lvl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e Gross</dc:creator>
  <dc:description/>
  <dc:language>en-US</dc:language>
  <cp:lastModifiedBy>Alice</cp:lastModifiedBy>
  <dcterms:modified xsi:type="dcterms:W3CDTF">2009-01-27T07:07:20Z</dcterms:modified>
  <cp:revision>42</cp:revision>
  <dc:subject/>
  <dc:title>1989 -&gt; 1993</dc:title>
</cp:coreProperties>
</file>