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dt" idx="1"/>
          </p:nvPr>
        </p:nvSpPr>
        <p:spPr>
          <a:xfrm>
            <a:off x="4024080" y="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move the slid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512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 type="sldNum" idx="3"/>
          </p:nvPr>
        </p:nvSpPr>
        <p:spPr>
          <a:xfrm>
            <a:off x="4024080" y="9723240"/>
            <a:ext cx="307476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4785F13A-1E53-40AA-8710-8859C0700AA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DE68228D-2C2B-4136-A04B-FA80CC3C165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44640" y="4859280"/>
            <a:ext cx="520848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Nicosia meeting – Jan2009 - </a:t>
              </a:r>
              <a:fld id="{78E279F3-CAD4-49C6-ABCA-FBD10E1E62D8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1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41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Nicosia meeting – Jan2009 - </a:t>
              </a:r>
              <a:fld id="{6EC73D5D-283F-4ED9-BCAF-F4A9C948D509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2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2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65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46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7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Nicosia meeting – Jan2009 - </a:t>
              </a:r>
              <a:fld id="{894D5AC4-EAAD-4524-A68F-B5AAEDF65055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6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7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12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51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Nicosia meeting – Jan2009 - </a:t>
              </a:r>
              <a:fld id="{0D002F89-5349-4A69-A6CD-BC41EA902AA0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1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1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1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18" descr="eugridpma-02v03"/>
          <p:cNvPicPr/>
          <p:nvPr/>
        </p:nvPicPr>
        <p:blipFill>
          <a:blip r:embed="rId2"/>
          <a:stretch/>
        </p:blipFill>
        <p:spPr>
          <a:xfrm>
            <a:off x="1541520" y="550800"/>
            <a:ext cx="6024600" cy="2560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9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Nicosia meeting – Jan2009 - </a:t>
              </a:r>
              <a:fld id="{D11F5F5B-A5DB-4509-99C5-7B4C69A1117E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9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137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Nicosia meeting – Jan2009 - </a:t>
              </a:r>
              <a:fld id="{1C10F3DA-9568-44E4-A99E-17A62AC300DC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9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40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2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184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Nicosia meeting – Jan2009 - </a:t>
              </a:r>
              <a:fld id="{1FDDEBC6-410A-4D26-B504-61ED50900068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6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87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9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231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Nicosia meeting – Jan2009 - </a:t>
              </a:r>
              <a:fld id="{F32C4F53-3A89-4370-8297-2A5221636FA4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3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34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6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278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Nicosia meeting – Jan2009 - </a:t>
              </a:r>
              <a:fld id="{E45A145E-3B2C-430A-96DC-23C5597793F7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0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81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83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25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Nicosia meeting – Jan2009 - </a:t>
              </a:r>
              <a:fld id="{B1FA4E11-B774-40E9-BFC2-B2C62A762508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7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28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3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72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Nicosia meeting – Jan2009 - </a:t>
              </a:r>
              <a:fld id="{4B30BEED-39F8-488B-B9C2-C7E06ACCC27F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4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75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77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55120" y="3376440"/>
            <a:ext cx="8067960" cy="31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15</a:t>
            </a:r>
            <a:r>
              <a:rPr b="1" lang="en-US" sz="4000" spc="-1" strike="noStrike" baseline="30000">
                <a:solidFill>
                  <a:srgbClr val="990000"/>
                </a:solidFill>
                <a:latin typeface="Lucida Sans"/>
              </a:rPr>
              <a:t>th</a:t>
            </a: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 EUGridPMA</a:t>
            </a:r>
            <a:br>
              <a:rPr sz="4000"/>
            </a:br>
            <a:br>
              <a:rPr sz="4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January 26-28, 2009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Nicosia, Cyprus</a:t>
            </a:r>
            <a:endParaRPr b="1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04528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Welcome to Cypru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566" name="Picture 5" descr="C:\Users\davidg\AppData\Local\Temp\cslogo.gif"/>
          <p:cNvPicPr/>
          <p:nvPr/>
        </p:nvPicPr>
        <p:blipFill>
          <a:blip r:embed="rId1"/>
          <a:stretch/>
        </p:blipFill>
        <p:spPr>
          <a:xfrm>
            <a:off x="601560" y="1357200"/>
            <a:ext cx="4829400" cy="112104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6" descr=""/>
          <p:cNvPicPr/>
          <p:nvPr/>
        </p:nvPicPr>
        <p:blipFill>
          <a:blip r:embed="rId2"/>
          <a:stretch/>
        </p:blipFill>
        <p:spPr>
          <a:xfrm>
            <a:off x="469800" y="2881440"/>
            <a:ext cx="4884840" cy="43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Monday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9" name="Rectangle 5"/>
          <p:cNvSpPr/>
          <p:nvPr/>
        </p:nvSpPr>
        <p:spPr>
          <a:xfrm>
            <a:off x="0" y="1076040"/>
            <a:ext cx="9144000" cy="511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708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f81bd"/>
                </a:solidFill>
                <a:latin typeface="Cambria"/>
                <a:ea typeface="Times New Roman"/>
              </a:rPr>
              <a:t>Monday 26 09:30 – 17:3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09.00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Coffe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09.3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Welcome, agenda, minutes last meeting, note taker, introduc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09.35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Round-table upda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09.5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Updates from the APGridPMA (Yoshio Tanaka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0.1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Updates from the TAGPMA (Vinod Rebello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0.3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IGTF Risk Assessment Team report: MD5, (EC)DSA (EE) keys, cable severance (TBA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Efficiently querying CAs for signing processes, issued certs, &amp;c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Do CAs verify the incoming requests for sanit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(exponent &gt;=65537, known-weak keys, MD5,EC/DSA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1.15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Coffe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1.45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Migration of Root certs and CRLs to SHA-1, and the implementation of SHA-256+ in M/W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2.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CRL issues: web caching and alternate download locations (David Groep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2.15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The DFN SLCS Service (Reimer Karlsen-Masu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3.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Lun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4.3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The NetherNordic integrated SLCS-MICS Service (Jan Meijer, Teun Nijsse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5.3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The new SWITCH PKI (Alessando Usai): review analysi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6.1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Te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6.4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Stephen Davidson (QuoVadis): Policy and Practices in the SWITCH PKI implement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7.3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Tuesday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1" name="Rectangle 4"/>
          <p:cNvSpPr/>
          <p:nvPr/>
        </p:nvSpPr>
        <p:spPr>
          <a:xfrm>
            <a:off x="0" y="1155240"/>
            <a:ext cx="9144000" cy="511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708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f81bd"/>
                </a:solidFill>
                <a:latin typeface="Cambria"/>
                <a:ea typeface="Times New Roman"/>
              </a:rPr>
              <a:t>Tuesday 27 09:30 – 17:3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09.00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Coffe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09.15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Self audit report-outs: PK-grid C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09.45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Self-audit report-outs: GridK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0.15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Updates on almost- and recently accredited CAs: RENAM, CALC, BY-Gri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0.3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Coffe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1.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Updated to the Profiles following the SLCS/MICS influx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(First approve pending MICS profil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2.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Authorization Working Group  report-out (David Kelsey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3.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Lun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4.3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Self-audit report: NIIF (Tama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5.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Jens’ soap boxes Ltd. (Jens Jense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5.45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Dealing with certificates with different status (AA signing, life-critical MD EEC, etc)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6.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Te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6.3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CAOPS Working Group (Christos Kanellopoulos, Yoshio Tanaka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Relying Part Defined Namespace constraints – WG last cal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Update and change status of GFD.12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7.25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Presentation of the Next Meeting (Zurich, May 2009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7.30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Wednesday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3" name="Rectangle 4"/>
          <p:cNvSpPr/>
          <p:nvPr/>
        </p:nvSpPr>
        <p:spPr>
          <a:xfrm>
            <a:off x="0" y="1163880"/>
            <a:ext cx="9144000" cy="35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708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f81bd"/>
                </a:solidFill>
                <a:latin typeface="Cambria"/>
                <a:ea typeface="Times New Roman"/>
              </a:rPr>
              <a:t>Wednesday 28 09:30 – 15:3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09.00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Coffe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09.15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Sharing Common Software? Towards a repository of references to ‘useful stuff’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09.45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FD.125 compliance testing tools and demonstrations (David O’Callagha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11.0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Coffe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11.3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Self audit report-outs: BalticGrid CA (Hardi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12.0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PGP and Thawte-WoT signing party (please bring pre-filled forms and ID photocopie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12.3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Lunc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14.0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Signing policy semantics: Does The Issuer Need To Be In The Allowed Subjects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14.15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Pending issues and other busine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15.0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e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15.0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Agenda now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Note taker? Please?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Minutes from last meeting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Thanks to Christos and David OC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Introduction round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Videoconferencing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Lucida Sans"/>
              </a:rPr>
              <a:t>For direct connections (not using the GDS), enter the conference number using the key pad using the far-end controls, and confirm with the "#" key.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Lucida Sans"/>
              </a:rPr>
              <a:t>The conference will not show up in the main menu, AFAIK. </a:t>
            </a:r>
            <a:br>
              <a:rPr sz="1600"/>
            </a:br>
            <a:r>
              <a:rPr b="0" i="1" lang="en-US" sz="1600" spc="-1" strike="noStrike">
                <a:solidFill>
                  <a:srgbClr val="000066"/>
                </a:solidFill>
                <a:latin typeface="Lucida Sans"/>
              </a:rPr>
              <a:t>Different numbers each day, but NO need to register equipment beforehand. 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All day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MCU name mcu.surfnet.nl 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MCU IP 192.87.102.231 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On Monday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EUGridPMA 15/1 Start Mon, 26.01.2009 07:00 (UTC) Duration 10h00m 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H.323 (IP) conference dialin: 0031 801 3667316 Conf no 3667316 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On Tuesday 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EUGridPMA 15/2 Start Tue, 27.01.2009 07:00 (UTC) Duration 10h00m 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H.323 (IP) conference dialin: 0031 801 8215000 Conf no 8215000 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On Wednesday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EUGridPMA 15/3 Start Wed, 28.01.2009 07:00 (UTC) Duration 09h00m 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H.323 (IP) conference dialin: 0031 801 2205160 Conf no 2205160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08:36:56Z</dcterms:created>
  <dc:creator>David Groep</dc:creator>
  <dc:description/>
  <dc:language>en-US</dc:language>
  <cp:lastModifiedBy>davidg</cp:lastModifiedBy>
  <dcterms:modified xsi:type="dcterms:W3CDTF">2009-01-25T21:48:05Z</dcterms:modified>
  <cp:revision>477</cp:revision>
  <dc:subject/>
  <dc:title>European Grid Policy Management Authority</dc:title>
</cp:coreProperties>
</file>