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8D0A-5969-438D-8517-533E12464D5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2D8D-1BF7-421B-994A-9FBE8D59F3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2708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724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484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08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484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08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9280" y="151920"/>
            <a:ext cx="759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24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72708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5724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8484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08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8484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08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51920"/>
            <a:ext cx="759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24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980720" y="640080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3026-4979-41A6-9C6B-7D23C8F3C8B2}" type="slidenum">
              <a:rPr b="0" lang="ja-JP" sz="11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990720" y="6477120"/>
            <a:ext cx="1371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7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990720" y="6477120"/>
            <a:ext cx="1371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6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2742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AOPs WG Telec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520" y="3809880"/>
            <a:ext cx="7263000" cy="197640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uary 27 (Tue)  16:30 – 17:25 (GMT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of Cyp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located with EUGridPM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irs: Christos Kanellopoulos an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shio Tan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フッター プレースホルダ 3"/>
          <p:cNvSpPr/>
          <p:nvPr/>
        </p:nvSpPr>
        <p:spPr>
          <a:xfrm>
            <a:off x="1981080" y="640080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63E6-7E21-4352-A655-CF0113805297}" type="slidenum">
              <a:rPr b="0" lang="ja-JP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genda to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ying Party Defined Namespace Constraints (David 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st C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dates on GFD.125 (David 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diting Guidelines Document (Yosh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enda of the CAOPs/IGTF Workshop at OGF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1:22:23Z</dcterms:created>
  <dc:creator/>
  <dc:description/>
  <dc:language>en-US</dc:language>
  <cp:lastModifiedBy>Yoshio Tanaka</cp:lastModifiedBy>
  <cp:lastPrinted>2006-08-17T17:55:00Z</cp:lastPrinted>
  <dcterms:modified xsi:type="dcterms:W3CDTF">2009-01-27T10:17:33Z</dcterms:modified>
  <cp:revision>62</cp:revision>
  <dc:subject/>
  <dc:title>OGF slide presentation template</dc:title>
</cp:coreProperties>
</file>