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F1D-9387-424C-91C1-E2FCA6CC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6CD-D39D-49C7-B5E9-03D9727D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5AC-4712-473F-9604-EF3F1B29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473-31ED-4DD2-B278-B3FE89A3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4BBB-454D-4C44-BE60-8CB19463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5B68-A339-4EAE-83DA-E8C2EC09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9B44-A64A-4E99-B303-8BB7600C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70C5-FD6A-4DAF-A566-09529B87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7D5A-4D49-4C98-A2A1-1A7E5BBD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7FD2-5BFB-4493-8A99-AD83CD6E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C297-AEEC-4146-90A7-920CF0C2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A93-9386-4E0F-87A7-1CB8B5E8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13A6-868F-4590-9579-3A789EF3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341B-1DDA-4A14-B75D-8D6923F5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3137-2DA9-4AB2-9EF1-4C6DAD20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D66D-2F02-47A5-8C73-F9CECC53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112C-9977-483B-A1D5-825FB71D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ED3-5C79-49D8-A21F-F704FAE7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233-4B9D-4FFC-B6B8-28F9950C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E32-2361-46C6-8103-B9FE67F0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7DE-06FB-41D7-9BBB-81A3C73C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156-22C4-4814-95AE-53E41802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324-C6D1-4935-B102-E8455483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879-8B46-4EAB-A344-5E3BE02A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410040" cy="4876920"/>
            <a:chOff x="0" y="0"/>
            <a:chExt cx="941004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024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12560" y="1417680"/>
              <a:ext cx="8997480" cy="182520"/>
              <a:chOff x="412560" y="1417680"/>
              <a:chExt cx="899748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7428960" y="1417680"/>
                <a:ext cx="198108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12560" y="1494000"/>
                <a:ext cx="8997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0720" y="625140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35F0-8A0C-4C8B-B7C4-EF258B4C3F5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31680" y="6248520"/>
            <a:ext cx="321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B784-5EDB-4D10-B018-F96D59F5FD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6024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>
            <a:lum contrast="-8000"/>
          </a:blip>
          <a:stretch/>
        </p:blipFill>
        <p:spPr>
          <a:xfrm>
            <a:off x="8623440" y="4680"/>
            <a:ext cx="1263600" cy="12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492480" cy="5943600"/>
            <a:chOff x="0" y="0"/>
            <a:chExt cx="949248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8982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9492480" cy="2438280"/>
              <a:chOff x="0" y="3505320"/>
              <a:chExt cx="949248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1073160" y="3505320"/>
                <a:ext cx="841932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24640" y="3733920"/>
                <a:ext cx="828540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107316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87600" y="533520"/>
              <a:ext cx="8749800" cy="304560"/>
              <a:chOff x="687600" y="533520"/>
              <a:chExt cx="874980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795720" y="533520"/>
                <a:ext cx="264168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87600" y="685800"/>
                <a:ext cx="87498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28760" y="1143000"/>
            <a:ext cx="7182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88560" y="62514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9F71-FDA4-4E80-B7EB-A071C625B7F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33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292C-AE7B-45B5-BF1C-2CDFCB81E5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320" y="71280"/>
            <a:ext cx="1752480" cy="164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9480" y="2514600"/>
            <a:ext cx="70164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gridpma.org/agenda/fullAgenda.php?ida=a042" TargetMode="External"/><Relationship Id="rId2" Type="http://schemas.openxmlformats.org/officeDocument/2006/relationships/hyperlink" Target="http://eugridpma.org/agenda/fullAgenda.php?ida=a042" TargetMode="External"/><Relationship Id="rId3" Type="http://schemas.openxmlformats.org/officeDocument/2006/relationships/hyperlink" Target="http://eugridpma.org/agenda/fullAgenda.php?ida=a042" TargetMode="External"/><Relationship Id="rId4" Type="http://schemas.openxmlformats.org/officeDocument/2006/relationships/hyperlink" Target="http://www.ncp.edu.pk/pk-grid-ca/CA-pub.htm#cp_cps" TargetMode="External"/><Relationship Id="rId5" Type="http://schemas.openxmlformats.org/officeDocument/2006/relationships/hyperlink" Target="http://www.ncp.edu.pk/pk-grid-ca/userinstructions.htm" TargetMode="External"/><Relationship Id="rId6" Type="http://schemas.openxmlformats.org/officeDocument/2006/relationships/hyperlink" Target="http://www.ncp.edu.pk/pk-grid-ca/hostinstructions.htm" TargetMode="External"/><Relationship Id="rId7" Type="http://schemas.openxmlformats.org/officeDocument/2006/relationships/hyperlink" Target="http://www.ncp.edu.pk/pk-grid-ca/CA-pub.htm#crl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9907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Arial"/>
              </a:rPr>
              <a:t>PK-Grid-CA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Arial"/>
              </a:rPr>
              <a:t>Audit &amp; Status Report </a:t>
            </a:r>
            <a:br>
              <a:rPr sz="48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(15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  <a:ea typeface="Arial"/>
              </a:rPr>
              <a:t>th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 EU-Grid-PMA Meeting, Nicosia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45840" y="4053960"/>
            <a:ext cx="6180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ajjad Asg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PK-Grid-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Centre for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Statis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3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gital certificates (in total) have been issued to various organizations and persons in Pakistan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r Certific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st Certific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those 13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ot Exp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re Revo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gives the current active certificates number equivalent to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DD8-737A-40B0-A235-0C9FDD7284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61679-83FF-45A4-B8B3-FE2E9E26EA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Statis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root key has the CN “PK-GRID-CA”, the CN for old key was “ncp.edu.p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key is valid for ten years til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, 20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certificate from the old root key was signed on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days before the expiry of root k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CRL signed by the old key was o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49F-A6D8-4C78-98AB-59DED23496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62ECA-E522-4868-9A38-06746C5309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rst Self-Aud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ver self-audit for PK-Grid-CA has been conducted to check compliance of CA operations with the CP-C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dit was conducted according to the "Audit Guidelines Document" provided by the AP-Grid-P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.e., Audit Guidelines – 1.0-B5.do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879-1DD4-4821-9EDC-D35797BD8B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4E6E5-6CBF-4B9F-99F1-2364B19AE3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Procedu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tem in the audit checklist should be scored according to the results of exa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: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: Recommendation (mino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: Recommendation (majo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: Advice (must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X: Could not evaluate (N/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/CPS, Manuals for subscribers, CA repository (website), CA certificate, CRLs, EE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 room, backup media for CA key, Offline medium, Media storage, Logs of the CA/RA Servers, Logs of the reposit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ords of operations of the CA private key, Access log to the CA ro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E61-3C16-4321-8EB5-699D250AAC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8B8F0-D09F-475A-9B99-03694B46116C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 system must be located in a secure environment where access is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need more tighter access contro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e environment must be documented and approved by the 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we need to write it dow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ery little details are mentioned in our CP/C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ine CA architecture should provide for a tamper-protected log of issued certificates and signed CR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how to make it tamper proof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urrently this record is offli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vailable only on requ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DAC-B83B-4E81-82A7-D3DC726543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BA215-11FE-4EFA-94C3-A2DCAF2BD776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 must request revocation ASAP, but within 1 working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868686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have no control on E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L lifetime must be no more than 3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missed it a few times by cross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d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ue to long official holidays but never crossed 30 d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llowing this practice strictly for last few ye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 outdated CRLs in near pa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A must issue a new CRL at least 7 days before ex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 (missed it several ti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istake of operational staff on network 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gain bad planning for long official holid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093-4CB6-49CB-8F85-377ABCE6B0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85243-B938-4151-A3AF-C25156B908D4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ository must be run at least on a best-effort basis, with an intended availability of 24x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cor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 (the downtime is not notified to P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ew times due to international fiber cable connectivit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planned power cut and power ou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blem on network provider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CA should make a reasonable effort to make sure that EE realize the importance of properly protecting their private data. When using software tokens, the user must protect his/her private key with a strong pass phrase, i.e. at least 12 characters long and following current best practices in choosing high-quality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 (not clearly mentioned in C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e have no control over EE for their private key password leng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lanning to conduct a seminar for EE where we could emphasize on this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F82-DB97-4F31-833B-DD7D6F37D5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B815D-9F36-4BD0-96E6-C9DD57FF52D6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certificates bound to network entities a FQDN shall be included as a dnsName in the SubjectAlternative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B (we are using emai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associated with a private key residing solely on hardware token may be renewed for a period of upto 5 years (for equivalent RSA key length of 2048 bits) or 3 years (for equivalent RSA key length 1024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t applic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3B2-F7EC-4D40-B1CD-24DEBB2AFF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EF634-9766-493C-B74D-08B7BFA663E6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d may be renewed or re-keyed for more than 5 years with a form of identity and eligibility verification, and this procedure must be described in the CP/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 (have to include this in CP-CP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e do identity check for every re-key from 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o not ask for new copy of documents after the first time verificatio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CA must record and archive all requests for certificates, along with all the issued certificates, all the request for revocation, all the issued CRLs and the login/logout/reboot of the issu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logs have to be organiz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records must be available to external auditors in the course of their work as au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logs have to be organiz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B1B-055F-4F52-A1A7-FB758E40F8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3156F-9787-4955-B3F9-C72F9A8D6158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A must perform operational audits of the CA/RA staff at least once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D (were not doing any audits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ill be done on regular basis in the future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CA and RA personnel should be maintained and verified at least once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D (no list being maintained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This part has been included in our internal CA operational manu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Only maintain the list of RA Head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 shall provide their trust anchor to a trust anchor repository…anchor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B (working for TACAR) – </a:t>
            </a:r>
            <a:r>
              <a:rPr b="0" lang="en-US" sz="1900" spc="-1" strike="noStrike">
                <a:solidFill>
                  <a:srgbClr val="008000"/>
                </a:solidFill>
                <a:latin typeface="Arial"/>
              </a:rPr>
              <a:t>NOW D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 must have an adequate compromise and disaster recovery procedure, and we are willing to discuss this in the P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B (have to document 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DF8-D237-4D6D-8918-AE384D89E6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4D718-AC6C-4746-B1F0-EE087C247113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heme of Present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PK-GRID-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Em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URLs regarding PK-GRID-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 in various EU-GRID-PMA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udit, checklist and post-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4A2-FEAA-40C9-B374-1D61BD2BE5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0E3E9-2CD1-4642-BE75-F66D872635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KI CA must define the role of registration authority (RA), and these RAs are responsible for the identity of all the 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B (have to mention the role in the CP-CP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3C2-B95E-4F77-A1FD-B3E98B3465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A9BF6-3E29-4FAD-AB54-62120DEAA16D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lf-Audit Post-Activit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make changes in the CP-CPS based on this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the CP-CPS for approval to the P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publish a report on self audit on the CA website and to the PMA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ify measures which are not in accordance with the C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lists of CA/RA staff and update on regular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 more effort in CA project, by adding more people with proper training to the CA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101-4769-4242-94CA-3E2922B198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E446B-CC1D-4CB6-8980-40CE310981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ture Pl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420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level of security in CA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red access for CA 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physical zones defined for increased access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een zone, yellow zone and red zon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en and yellow zones can be used for key-signing ceremonies (RAs for PKIReliance)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zone will contain CA offline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Surveillance System for CA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all zones with video 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on recording fac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04B-16AB-453C-93AD-ECD30E67AF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DD581-E6B0-451E-95EB-3531A00CEE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ture Pl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control on the do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 person authentication for red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ple verification/authentication (pin + card + thum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evices (both sides of the door) in red zone for recording in and out time a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Security Module (HSM) to be purch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procurement is under 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re secure safe for CA offline record in the new prem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f PKIReliance at nationa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B9B-FF06-4033-8254-5539A3A38A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E0D89-7714-485F-B0B1-937EBC6EB7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7640" y="2971440"/>
            <a:ext cx="8648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330033"/>
                </a:solidFill>
                <a:latin typeface="Times New Roman"/>
              </a:rPr>
              <a:t>QUESTIONS?</a:t>
            </a:r>
            <a:endParaRPr b="0" lang="en-US" sz="10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198-A73E-477A-93B5-88D5FC39AF9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5524E-C576-4E55-B433-613B638132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tion of PK-GRID-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is managed by National Center For Physics Islama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X.509 certificates to support the secure environment in LC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User and Host Certificates to people and sites participating in grid computing in collaboration/partnership with N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users are the physicists involved in LHC exper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ff is responsible to manage Grid node and the grid certification authority (PK-Grid-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AE3-743F-4706-B474-28421A5A00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8F624-8AEE-42EC-8379-F078068487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of Emerg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-Grid-CA Certification Authority is working under European Grid Policy Management Authority (EU-GRID-PM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ort Started in October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P produced the first Certificate Policy and Certification Practice Statement (CP-CPS) document in Decem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ed by several members of EU-GRID-P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d several revisions and useful comments,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amp; suggestions by the PMA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version was published in April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6C7-F43F-4C5A-8446-0288D0A24B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68D3B-D943-4C9E-B27F-C1F962D3F3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of Emerg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was officially presented in the 2nd meeting of the EU-Grid-PMA held in Brussels, BELGIUM during September 23-24, 200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Usman Ahmad Malik from NCP presented the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n it became formally approved and accredited by the EU-Grid-PMA as a 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had started operations since t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as the first and only Certification Authority in Pakistan at that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1A8-C0A1-46F7-878B-1A0E663526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4FA7F-0204-4EDD-8534-D9C6A7C97EEF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UR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tails of the historical EU-GRID-PMA meeting (Brussels) in context of PK-GRID-CA can be found at:                                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eugridpma.org/agenda/fullAgenda.php?ida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=a0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tails about all versions of the PK-Grid-CA CP-CPS documents produced/published by NCP can be found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ncp.edu.pk/pk-grid-ca/CA-pub.htm#cp_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nline portal is available for requesting user/host certificates using following URLs respectiv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ncp.edu.pk/pk-grid-ca/userinstruc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ncp.edu.pk/pk-grid-ca/hostinstruc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test copy of the PK-GRID-CA CRL can be fetched from: 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http://www.ncp.edu.pk/pk-grid-ca/CA-pub.htm#cr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ED6-473F-4AAC-9005-9F75398022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22366-8C7B-4FE3-BEEC-1985F97295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ld root key for PK-Grid-CA expired on December 9,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ce no certificate could be signed with it after December 8, 2007 as per poli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ew key pair valid till December 2017, with a key length of 4096 bits has been generated and sent to the PMA, and hence distributed via the (International Grid Trust Federation) IGTF-rel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last one year, the two root keys were valid for PK-Grid-CA. But the new certificate requests are being signed by the new root key. Old root key was being used for CRL sig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, only the new root key is distributed and trusted on WLCG as the older one has recently expired on December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52F-EDAC-4F90-9F87-86B6EDCF5F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5512D-3717-407B-B014-8465BF8CFA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cember 2007, the PK-Grid-CA team drafted the new CP-CPS (1.1.2.0) based on the structure suggested by RFC – 364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PS was approved by the NC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which it was sent to the EU-Grid-PMA mailing list for approval which was approved by the PMA after its meeting in January 200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077-8A03-4F3E-A4E1-19E1D10007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D87DB-0813-4B89-8F53-B4C22FF2E3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setup has been recently shifted in the new purpose campus of N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building was designed keeping into consideration a proper place for the CA set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s better physical and operational secur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security oriented apparatus is in the pipeline including Closed-Circuit Cameras and HSM etc. for the CA ro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1F4-6C8D-4448-BCE5-38E1F6F388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66EB3-BAA2-434A-A78C-B0A1462446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6:13:57Z</dcterms:created>
  <dc:creator>Usman Ahmad Malik</dc:creator>
  <dc:description/>
  <dc:language>en-US</dc:language>
  <cp:lastModifiedBy>Usman A. Malik</cp:lastModifiedBy>
  <dcterms:modified xsi:type="dcterms:W3CDTF">2009-01-26T11:01:26Z</dcterms:modified>
  <cp:revision>1780</cp:revision>
  <dc:subject/>
  <dc:title>IBCAST IRS</dc:title>
</cp:coreProperties>
</file>