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732000" cy="9856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6732720" cy="9856800"/>
          </a:xfrm>
          <a:custGeom>
            <a:avLst/>
            <a:gdLst>
              <a:gd name="textAreaLeft" fmla="*/ 360 w 6732720"/>
              <a:gd name="textAreaRight" fmla="*/ 6732360 w 6732720"/>
              <a:gd name="textAreaTop" fmla="*/ 360 h 9856800"/>
              <a:gd name="textAreaBottom" fmla="*/ 9856440 h 9856800"/>
            </a:gdLst>
            <a:ahLst/>
            <a:rect l="textAreaLeft" t="textAreaTop" r="textAreaRight" b="textAreaBottom"/>
            <a:pathLst>
              <a:path w="21600" h="31622">
                <a:moveTo>
                  <a:pt x="5" y="0"/>
                </a:moveTo>
                <a:arcTo wR="5" hR="5" stAng="16200000" swAng="-5400000"/>
                <a:lnTo>
                  <a:pt x="0" y="31617"/>
                </a:lnTo>
                <a:arcTo wR="5" hR="5" stAng="10800000" swAng="-5400000"/>
                <a:lnTo>
                  <a:pt x="21595" y="3162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732720" cy="9856800"/>
          </a:xfrm>
          <a:custGeom>
            <a:avLst/>
            <a:gdLst>
              <a:gd name="textAreaLeft" fmla="*/ 360 w 6732720"/>
              <a:gd name="textAreaRight" fmla="*/ 6732360 w 6732720"/>
              <a:gd name="textAreaTop" fmla="*/ 360 h 9856800"/>
              <a:gd name="textAreaBottom" fmla="*/ 9856440 h 9856800"/>
            </a:gdLst>
            <a:ahLst/>
            <a:rect l="textAreaLeft" t="textAreaTop" r="textAreaRight" b="textAreaBottom"/>
            <a:pathLst>
              <a:path w="21600" h="31622">
                <a:moveTo>
                  <a:pt x="5" y="0"/>
                </a:moveTo>
                <a:arcTo wR="5" hR="5" stAng="16200000" swAng="-5400000"/>
                <a:lnTo>
                  <a:pt x="0" y="31617"/>
                </a:lnTo>
                <a:arcTo wR="5" hR="5" stAng="10800000" swAng="-5400000"/>
                <a:lnTo>
                  <a:pt x="21595" y="3162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732720" cy="9856800"/>
          </a:xfrm>
          <a:custGeom>
            <a:avLst/>
            <a:gdLst>
              <a:gd name="textAreaLeft" fmla="*/ 360 w 6732720"/>
              <a:gd name="textAreaRight" fmla="*/ 6732360 w 6732720"/>
              <a:gd name="textAreaTop" fmla="*/ 360 h 9856800"/>
              <a:gd name="textAreaBottom" fmla="*/ 9856440 h 9856800"/>
            </a:gdLst>
            <a:ahLst/>
            <a:rect l="textAreaLeft" t="textAreaTop" r="textAreaRight" b="textAreaBottom"/>
            <a:pathLst>
              <a:path w="21600" h="31622">
                <a:moveTo>
                  <a:pt x="5" y="0"/>
                </a:moveTo>
                <a:arcTo wR="5" hR="5" stAng="16200000" swAng="-5400000"/>
                <a:lnTo>
                  <a:pt x="0" y="31617"/>
                </a:lnTo>
                <a:arcTo wR="5" hR="5" stAng="10800000" swAng="-5400000"/>
                <a:lnTo>
                  <a:pt x="21595" y="3162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732720" cy="9856800"/>
          </a:xfrm>
          <a:custGeom>
            <a:avLst/>
            <a:gdLst>
              <a:gd name="textAreaLeft" fmla="*/ 360 w 6732720"/>
              <a:gd name="textAreaRight" fmla="*/ 6732360 w 6732720"/>
              <a:gd name="textAreaTop" fmla="*/ 360 h 9856800"/>
              <a:gd name="textAreaBottom" fmla="*/ 9856440 h 9856800"/>
            </a:gdLst>
            <a:ahLst/>
            <a:rect l="textAreaLeft" t="textAreaTop" r="textAreaRight" b="textAreaBottom"/>
            <a:pathLst>
              <a:path w="21600" h="31622">
                <a:moveTo>
                  <a:pt x="5" y="0"/>
                </a:moveTo>
                <a:arcTo wR="5" hR="5" stAng="16200000" swAng="-5400000"/>
                <a:lnTo>
                  <a:pt x="0" y="31617"/>
                </a:lnTo>
                <a:arcTo wR="5" hR="5" stAng="10800000" swAng="-5400000"/>
                <a:lnTo>
                  <a:pt x="21595" y="3162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2916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13120" y="0"/>
            <a:ext cx="2916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120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73200" y="4681080"/>
            <a:ext cx="53784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9361440"/>
            <a:ext cx="2916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5"/>
          </p:nvPr>
        </p:nvSpPr>
        <p:spPr>
          <a:xfrm>
            <a:off x="3812760" y="9361440"/>
            <a:ext cx="290988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84221E-9192-4981-B850-4838D63DB11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901800" y="739800"/>
            <a:ext cx="492768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673200" y="4681080"/>
            <a:ext cx="537984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901800" y="739800"/>
            <a:ext cx="492768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673200" y="4681080"/>
            <a:ext cx="537984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B7323-FB3E-4591-97B4-7F1D28DC65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03280" y="6120"/>
            <a:ext cx="7554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42640" y="1341000"/>
            <a:ext cx="864396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42640" y="3970440"/>
            <a:ext cx="864396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8681D-C974-44B3-9866-E23C32041A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03280" y="6120"/>
            <a:ext cx="7554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42640" y="1341000"/>
            <a:ext cx="421812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2080" y="1341000"/>
            <a:ext cx="421812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42640" y="3970440"/>
            <a:ext cx="421812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2080" y="3970440"/>
            <a:ext cx="421812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5FDBC-0AA0-4C91-AED6-2B6151A4A0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03280" y="6120"/>
            <a:ext cx="7554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42640" y="1341000"/>
            <a:ext cx="278316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65480" y="1341000"/>
            <a:ext cx="278316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7960" y="1341000"/>
            <a:ext cx="278316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42640" y="3970440"/>
            <a:ext cx="278316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65480" y="3970440"/>
            <a:ext cx="278316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7960" y="3970440"/>
            <a:ext cx="278316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CD3F8-EACC-4F0C-8236-C2FA459E04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F2F6E0-830E-4C32-91A8-6209379525E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03280" y="6120"/>
            <a:ext cx="7554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42640" y="1341000"/>
            <a:ext cx="864396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EE677C-8FC6-4E1D-90D5-2349CDD7CB1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03280" y="6120"/>
            <a:ext cx="7554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42640" y="1341000"/>
            <a:ext cx="864396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867AB1-EEF3-4303-A700-E8AEB6F2E8B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03280" y="6120"/>
            <a:ext cx="7554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2640" y="1341000"/>
            <a:ext cx="421812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080" y="1341000"/>
            <a:ext cx="421812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F1B7B5-EF9A-44AF-A262-F96B5D73A9E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03280" y="6120"/>
            <a:ext cx="7554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AADCFC-2D83-49C8-97B9-D8075E60EDC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403280" y="6120"/>
            <a:ext cx="755496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41B986-3330-4967-9180-59B7D2BAFFA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03280" y="6120"/>
            <a:ext cx="7554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42640" y="1341000"/>
            <a:ext cx="421812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080" y="1341000"/>
            <a:ext cx="421812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42640" y="3970440"/>
            <a:ext cx="421812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698587-F8BF-4AA3-8EAC-6B88A4644C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03280" y="6120"/>
            <a:ext cx="7554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42640" y="1341000"/>
            <a:ext cx="864396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907F2-F4D5-4B52-A3DB-514EA3EB47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03280" y="6120"/>
            <a:ext cx="7554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42640" y="1341000"/>
            <a:ext cx="421812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080" y="1341000"/>
            <a:ext cx="421812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080" y="3970440"/>
            <a:ext cx="421812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6BA795-8CB9-441B-AD5B-658CB51BD4C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03280" y="6120"/>
            <a:ext cx="7554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42640" y="1341000"/>
            <a:ext cx="421812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080" y="1341000"/>
            <a:ext cx="421812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42640" y="3970440"/>
            <a:ext cx="864396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DC9902-ED17-4BE6-A2A7-3731E6A6118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03280" y="6120"/>
            <a:ext cx="7554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42640" y="1341000"/>
            <a:ext cx="864396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42640" y="3970440"/>
            <a:ext cx="864396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512F21-0150-4287-A0AA-E9BC074EBE0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03280" y="6120"/>
            <a:ext cx="7554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2640" y="1341000"/>
            <a:ext cx="421812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080" y="1341000"/>
            <a:ext cx="421812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42640" y="3970440"/>
            <a:ext cx="421812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080" y="3970440"/>
            <a:ext cx="421812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270DD6-856F-48DA-8311-118F336DF32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03280" y="6120"/>
            <a:ext cx="7554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42640" y="1341000"/>
            <a:ext cx="278316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65480" y="1341000"/>
            <a:ext cx="278316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87960" y="1341000"/>
            <a:ext cx="278316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42640" y="3970440"/>
            <a:ext cx="278316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65480" y="3970440"/>
            <a:ext cx="278316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87960" y="3970440"/>
            <a:ext cx="278316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42B592-6859-4950-B72F-B54AB3697B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03280" y="6120"/>
            <a:ext cx="7554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2640" y="1341000"/>
            <a:ext cx="864396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BD99A-6CB0-43B7-BE45-1769BC27E4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03280" y="6120"/>
            <a:ext cx="7554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42640" y="1341000"/>
            <a:ext cx="421812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2080" y="1341000"/>
            <a:ext cx="421812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830AE-E0CD-4D2F-9E2E-AAFA8E9F58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03280" y="6120"/>
            <a:ext cx="7554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7D571-83D1-44C9-B0FF-943D7EF708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03280" y="6120"/>
            <a:ext cx="755496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159B4-8A4A-4A35-8871-3973C95A72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03280" y="6120"/>
            <a:ext cx="7554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42640" y="1341000"/>
            <a:ext cx="421812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2080" y="1341000"/>
            <a:ext cx="421812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42640" y="3970440"/>
            <a:ext cx="421812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396A8-20E3-4594-9B65-5B957E15C2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03280" y="6120"/>
            <a:ext cx="7554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42640" y="1341000"/>
            <a:ext cx="421812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2080" y="1341000"/>
            <a:ext cx="421812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2080" y="3970440"/>
            <a:ext cx="421812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7C8B4-71CA-403E-A071-48CB360DBF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03280" y="6120"/>
            <a:ext cx="7554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42640" y="1341000"/>
            <a:ext cx="421812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2080" y="1341000"/>
            <a:ext cx="421812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42640" y="3970440"/>
            <a:ext cx="864396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3D7BE-7133-42C3-814C-663511C273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03280" y="6120"/>
            <a:ext cx="7554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79280" y="6597720"/>
            <a:ext cx="1440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763640" y="6597360"/>
            <a:ext cx="6112080" cy="3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15th EUGridPMA, January 28</a:t>
            </a:r>
            <a:r>
              <a:rPr b="0" lang="et-EE" sz="1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th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2009, Nicos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8027640" y="6597360"/>
            <a:ext cx="3538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7163EA-EF19-4947-B119-40A6EA09D37D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357200"/>
            <a:ext cx="9144000" cy="5194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5e8f6">
                  <a:alpha val="6705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8553600" y="6448320"/>
            <a:ext cx="590400" cy="40968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42640" y="1341000"/>
            <a:ext cx="864396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700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00"/>
              </a:spcBef>
              <a:buClr>
                <a:srgbClr val="cc0000"/>
              </a:buClr>
              <a:buFont typeface="Verdan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00"/>
              </a:spcBef>
              <a:buClr>
                <a:srgbClr val="cc0000"/>
              </a:buClr>
              <a:buSzPct val="80000"/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240" y="2276640"/>
            <a:ext cx="9140760" cy="2736720"/>
          </a:xfrm>
          <a:prstGeom prst="rect">
            <a:avLst/>
          </a:prstGeom>
          <a:gradFill rotWithShape="0">
            <a:gsLst>
              <a:gs pos="0">
                <a:srgbClr val="064977">
                  <a:alpha val="49019"/>
                </a:srgbClr>
              </a:gs>
              <a:gs pos="50000">
                <a:srgbClr val="d5e8f6"/>
              </a:gs>
              <a:gs pos="100000">
                <a:srgbClr val="064977">
                  <a:alpha val="49019"/>
                </a:srgbClr>
              </a:gs>
            </a:gsLst>
            <a:lin ang="5400000"/>
          </a:gradFill>
          <a:ln w="9360">
            <a:solidFill>
              <a:srgbClr val="064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47640" y="18900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Baltic</a:t>
            </a:r>
            <a:r>
              <a:rPr b="0" lang="et-E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Grid</a:t>
            </a:r>
            <a:r>
              <a:rPr b="0" lang="et-EE" sz="3600" spc="-1" strike="noStrike">
                <a:solidFill>
                  <a:srgbClr val="ffffff"/>
                </a:solidFill>
                <a:latin typeface="Arial"/>
              </a:rPr>
              <a:t> Certification Author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8553600" y="6453360"/>
            <a:ext cx="590400" cy="4093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03280" y="44280"/>
            <a:ext cx="755496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242640" y="1341000"/>
            <a:ext cx="864396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700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00"/>
              </a:spcBef>
              <a:buClr>
                <a:srgbClr val="cc0000"/>
              </a:buClr>
              <a:buFont typeface="Verdan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00"/>
              </a:spcBef>
              <a:buClr>
                <a:srgbClr val="cc0000"/>
              </a:buClr>
              <a:buSzPct val="80000"/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9280" y="6597720"/>
            <a:ext cx="1440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3"/>
          </p:nvPr>
        </p:nvSpPr>
        <p:spPr>
          <a:xfrm>
            <a:off x="1763640" y="6597360"/>
            <a:ext cx="61120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i="1" lang="en-US" sz="10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name, date and place of the e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4"/>
          </p:nvPr>
        </p:nvSpPr>
        <p:spPr>
          <a:xfrm>
            <a:off x="8027640" y="6597360"/>
            <a:ext cx="3538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6F97709-3F72-43C8-83CD-671FDCD0A887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763640" y="6597720"/>
            <a:ext cx="611820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15th EUGridPMA, January 28</a:t>
            </a:r>
            <a:r>
              <a:rPr b="0" i="1" lang="et-EE" sz="1000" spc="-1" strike="noStrike">
                <a:solidFill>
                  <a:srgbClr val="ffffff"/>
                </a:solidFill>
                <a:latin typeface="Arial"/>
              </a:rPr>
              <a:t>th</a:t>
            </a: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 2009, Nicos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028000" y="6597720"/>
            <a:ext cx="3603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AC9E85-180B-4899-95EC-A4BE48E7E8D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2666880"/>
            <a:ext cx="8637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Self-aud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4292640"/>
            <a:ext cx="8605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di Te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E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76040" y="6072120"/>
            <a:ext cx="824040" cy="43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03280" y="6120"/>
            <a:ext cx="7554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. Advice (must chang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42640" y="1341000"/>
            <a:ext cx="864396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ass phrase of the encrypted private key must be kept also on an offline medium, separated from the encrypted private keys and guarded in a safe place where only the authorized personnel of the CA have acc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everything in one safe accessible only for the Director of EE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have a separate safe for CA back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L profile must be version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ght now there are version 1 CRLs iss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PEM file is availe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03280" y="6120"/>
            <a:ext cx="7554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42640" y="1341000"/>
            <a:ext cx="864396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/CPS needs several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 archiving and auditing  procedures should be upd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e to CRL v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03280" y="6120"/>
            <a:ext cx="7554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42640" y="1341000"/>
            <a:ext cx="890100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29760" indent="0">
              <a:lnSpc>
                <a:spcPct val="8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760" indent="0">
              <a:lnSpc>
                <a:spcPct val="8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760" indent="0">
              <a:lnSpc>
                <a:spcPct val="8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760" indent="0">
              <a:lnSpc>
                <a:spcPct val="8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&amp;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760" indent="0">
              <a:lnSpc>
                <a:spcPct val="8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760" indent="0">
              <a:lnSpc>
                <a:spcPct val="8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760" indent="0">
              <a:lnSpc>
                <a:spcPct val="8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760" indent="0">
              <a:lnSpc>
                <a:spcPct val="8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760" indent="0">
              <a:lnSpc>
                <a:spcPct val="8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760" indent="0">
              <a:lnSpc>
                <a:spcPct val="8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di.teder@eenet.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760" indent="0">
              <a:lnSpc>
                <a:spcPct val="8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ca.balticgrid.org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03280" y="612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43000" y="1341360"/>
            <a:ext cx="865008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tic Grid 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f-aud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u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03280" y="6120"/>
            <a:ext cx="7554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altic Grid C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42640" y="1341000"/>
            <a:ext cx="864396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tic Grid CA gives certificates to end entities which are located in Estonia, Latvia or Lithuania and have interest in grid compu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redited: November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ion: EENet, Tartu, Esto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tated b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i Te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õnu Raitvi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ri Anton (not any mo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03280" y="6120"/>
            <a:ext cx="7554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atistic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42640" y="1341000"/>
            <a:ext cx="864396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13 issued certific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99 user, 297 host, 17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5 revok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45 LT, 292 LV, 275 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13 val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9 user, 103 host, 1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 R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03280" y="6120"/>
            <a:ext cx="7554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42640" y="1341000"/>
            <a:ext cx="864396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Auditing Guidelines for Grid C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G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Recommendation (minor chan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Recommendation (major chan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Advice (must chan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. Could not evaluate (N/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03280" y="6120"/>
            <a:ext cx="7554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. Recommendation (minor chang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2640" y="1341000"/>
            <a:ext cx="864396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P/CPS should be structured as defined in RFC364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RFC 25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 certificate lifetime must be no longer then 20 yea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oot certificate lifetime is not mentioned in CP/C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 entity must request revocation of its certificate as soon as possible, but within one working day after detection of he/she lost or compromised the private key pertaining to the certificate or the data in the certificate are no longer val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updates in CP/CPS and user gu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03280" y="6120"/>
            <a:ext cx="7554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. Recommendation (minor chang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42640" y="1341000"/>
            <a:ext cx="864396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ificates may be renewed or re-keyed for more than 5 years without a form of identity and eligibility verification, and this procedure must be described in the CP/C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/CPS updates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03280" y="6120"/>
            <a:ext cx="7554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. Recommendation (major chang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42640" y="1341000"/>
            <a:ext cx="864396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CA must issue a new CRL at least 7 days before ex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 notification methods in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ificate requests must only be rekeyd, not renew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signed same request aga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CA management software does not allow that any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CA must perform operational audits of the CA/RA staff at least once per y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udited all R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03280" y="6120"/>
            <a:ext cx="7554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. Recommendation (major chang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42640" y="1341000"/>
            <a:ext cx="864396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A must record and archive all requests and confirm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ests archived centr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s CP/C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ojciech Zając</dc:creator>
  <dc:description/>
  <dc:language>en-US</dc:language>
  <cp:lastModifiedBy>Hardi Teder</cp:lastModifiedBy>
  <dcterms:modified xsi:type="dcterms:W3CDTF">2009-01-28T07:53:31Z</dcterms:modified>
  <cp:revision>23</cp:revision>
  <dc:subject/>
  <dc:title>Slajd 1</dc:title>
</cp:coreProperties>
</file>