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C5B-4DC4-4E0C-A48E-BDFDD3D6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CCF-438F-47D8-B3EB-5C61D61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8A3-0AA9-4DF8-A2C0-17C1812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F2D-95A8-4397-A961-EF66446C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F32-4BB9-4860-84F8-EF67989A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79D-034A-41BB-8992-5E96031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1B7-01DA-4A97-94D8-0ABDAAED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4A7-A93A-4531-97FB-588C0B0D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183-68C1-4C66-BA71-B7C693C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CE0-E4BA-4555-8D46-62CBFE9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FFB-591C-43C2-A71D-6F05064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23C-4B03-4077-8BC0-8EC951B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55E98-9ADE-44DE-8CBE-E886AB721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38002-9209-48F7-8A8A-DEB1D348B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le Seve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nce of three (out of four) undersea cables in the Mediterranean basin on December 19th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retrieval of CR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8122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NRS subordinate using MD5 will change to SHA1 shor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obus discussed proxy certificate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will request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ing 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repositories of issued certific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? Certificates are publ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. Public phone number versus publish in phon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access to RAT memb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: Will not require this for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Gather information to assess th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ways tell CAs to modify practice in the future based on new risk/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issue? OpenSSL will be pat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ying parties should patch in any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ssessment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members 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: 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0:50Z</dcterms:created>
  <dc:creator>Jim Basney</dc:creator>
  <dc:description/>
  <dc:language>en-US</dc:language>
  <cp:lastModifiedBy>Jim Basney</cp:lastModifiedBy>
  <dcterms:modified xsi:type="dcterms:W3CDTF">2009-01-26T08:57:30Z</dcterms:modified>
  <cp:revision>4</cp:revision>
  <dc:subject/>
  <dc:title>IGTF RAT</dc:title>
</cp:coreProperties>
</file>