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FC5-DBB6-41ED-AE44-3AB1A495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58A-99A9-446B-A0AF-345D4C1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421-7981-4C40-A123-84DFCBCF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97C-27B9-4437-BBDF-1BA753AA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D94-4DC6-4EFA-BA64-EEF1D1DA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880-0511-4843-8908-E1490C34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E8D-79C3-4B6B-B5F5-0B702B1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A81-4817-4D7F-92C8-F99A1E0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834840"/>
            <a:ext cx="77706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E3D-03DB-40F1-ACAD-7491FF5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982-A22C-4711-AC51-AB4481C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36A-BD25-4A20-9A7C-E0998AA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E0C-9FFF-48D6-8011-FEB9854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56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47E09C-7BF0-4463-85AF-D69E0BDAD91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' obligatory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an't be a PMA without a SoapBox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 random collection of Soapy th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Nicosia, 26-28 Jan 2009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2960" y="2142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have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ing robots for code signing doesn’t make sen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acting on behalf of many users, meaningles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ople use host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sts can do everything people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if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systems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admi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user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VO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has a certificate done since it was (requested) revok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subsequently successfully revok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rk with RPs to improve operational security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ms like no-brain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does mean revealing additi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to whom, under which circ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ich areas increase imp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f. RA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OSCG et 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 Profi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ofile bas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they diverge or converge, or neith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mensions: ~six dimens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xing and matc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c RA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does the loa W&amp;F l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o encrypt or not encry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: already have PK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: Certs expire; maintain CRL forever; no consistent way of locating keys (no keyservers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: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O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ther services where certificate is relev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o can have 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oes it me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 way to define righ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cept for robots! (or probots!!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ck to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rvice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we still need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o can have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services can we “issue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practices/recommend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 to Template CP/C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ting the computer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member your password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a strong passphrase/w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specif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chec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deviations from PKI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those other aspects of 3647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, acceptance, suspension, mod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ey valid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known key validation parame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sonnel poli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ning down those practic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ke the re-keying ques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emplate will help here, possib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ill alone not be suffici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ldcard D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Not the Globus DNS wildcard!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iew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esn’t quite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ensure and improve consisten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on is be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o much automation is dangerou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fficient base for common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ow local flavou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management frame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andards, standards, standa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hich on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nner Discussion Topic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L cach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rance of undersea c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CRL cach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direct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sing miscreants by CR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helping RPs and OCSPs et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e cases for “expired” CR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more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s do too many machine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less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 do human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r once try to do it proper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is no time for complac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still not on top of oth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Template Policy to the rescue™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work…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could be improved with better text, descri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little working groups working on work needed to make work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b sites: locating repository oblig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t interfaces for automated client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at least URLs? (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f. Jim’s tal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ertifica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P/CP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cate support conta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intaining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(policies get upd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Template Policy frame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not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s an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ts confus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D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are all those DNs in the lo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ob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yProxy proxies?  Proxied proxi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gent with central key or prox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d private key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credenti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20714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private 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Key token, Unencrypted (host), Encrypt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MyProxy account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Proxy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nintentional 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mis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ost key, user ke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ngthen security by weakening 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reas of investig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improve secur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mpaign for enforcabli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it easier for RPs and opse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ing MyProxy to manage credenti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point of, er, some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-use of passw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single password is better (in some way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ak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edential autom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on behalf of users, e.g., port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independent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re these differen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dcterms:modified xsi:type="dcterms:W3CDTF">2009-01-27T10:56:59Z</dcterms:modified>
  <cp:revision>62</cp:revision>
  <dc:subject/>
  <dc:title>PowerPoint Presentation</dc:title>
</cp:coreProperties>
</file>