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4E0-F001-420E-9E3D-23E57224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7EF-1A95-4136-BFA3-AB53163B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C72-7FD3-46B4-B933-BD912351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49C-2074-4BD4-982D-95F457B9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2D2-5E56-4A82-B2FC-DF517B0F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8AD-3BA6-42EB-8929-A4BD4E29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FBAD-45CD-468E-A88C-7E7D3011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BA75-FB53-4468-AD12-AC9A1EE7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1FA-C2B2-45E1-9972-C6D04A02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927-4596-4E5F-A6B2-05F34CE8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6C8-6968-4594-8849-E5573B60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E4C-E27F-403B-AF22-622DD7FA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1008-42EC-4763-B0AC-762AD3197C1B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108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ray@niif.h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066680"/>
            <a:ext cx="7543800" cy="518184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IF CA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Status Updat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Self-Audit Results </a:t>
            </a: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EUGridPMA mee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7.01.20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ico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Tamás Máray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maray@niif.h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IIF Institu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1066680"/>
            <a:ext cx="7543800" cy="518184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 status of CA – 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of the self-aud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ons tak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D229-1298-45B4-8859-A76050C028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219320"/>
            <a:ext cx="8153280" cy="495288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eneral Informa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IF CA is an X.509 PKI CA with online CA infrastructure (Sun CMS + HSM: Chrysalis Luna crypto H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ccredited by the EUGridPMA in 2005 January during the Marseille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provides free X.509 user and host certificates mainly for the academic user community (research and higher education) in Hungary but also for some companies participating in EU FP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Budapest, operated by NIIF Institute (the Hungarian NR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705-B6B0-48BC-9D3D-E2D898B5D4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urrent Status of CA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of yesterd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17 CERTs are issued in to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3 CERTs are val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94 CERTs are exp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 CERTs are revo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5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ll the CERTs are f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218-B9A5-4BC8-9713-5D81720A27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Self-Audi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at it meant to b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horoghful review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peration of the CA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ocument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entification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olving the entire staff responsible for running the 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 is based on Yoshio Tanaka’s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uidelines for auditing Grid CAs version 1.0-b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”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ublished in September 2008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353-B95C-422E-8D86-1C5FE76E5C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ry serious problems were not detected.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 foun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erational manual is miss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CPS/CP documents are still organised according to RFC 25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10: The secure environment is documented only in Hungarian (NIIF’s internal regulation documents, 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ISO 9001:20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, ISO/IEC 27001:2005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therefore it is not available to the P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17 and Q18: root key renewal process is not satisfyingly addressed. Discussion of the overlap issue is missing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BBE-496B-4409-8C3B-C8A2F6A2DB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ults (cont.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 foun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32: multiple, simultaneous revocations have not been tested ye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43: FQDN is not included in the SubjectAlternativeName in host certific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B(?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53: yearly operational audit of the CA/RA staff was not a practice before (though a regular, internal NIIF service reporting procedure is implement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62: disaster recovery procedure is not described in CPS/CP (though a general procedure description do exist for the NIIF as a who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1F5-B7FF-49A9-9067-3740F19EE2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295280"/>
            <a:ext cx="8153280" cy="480060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ctions take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audit report was prepared, giving answer to *all* the audit ques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reover, decisions were made abou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ifying the certification request process (leaving out the requirement of the “project manager’s” approval of the request from the Pre-Authorisation pha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ifying the operation (quitting the former log server, archiving the logs directly from the TC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ifying the documentation work (CPS/CP are only published in English, Hungarian version is not maintained anymo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ifying the CPS/CP documents according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e. (Version 1.4 is prepared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6FC-F187-45EE-9CA5-679DB48C65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ture Pla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 of the operation m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 of the CA’s disaster recovery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organising CPS/CPs according to RFC 364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ing FQDN in the SubjectAlternativeName in host certificates(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ing a yearly operational audit of the 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3FF-B7B7-4D75-A7BA-AAC99E37B6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9T11:13:33Z</dcterms:created>
  <dc:creator>Benczéné Páldi Piroska</dc:creator>
  <dc:description/>
  <dc:language>en-US</dc:language>
  <cp:lastModifiedBy>Springer Ferenc</cp:lastModifiedBy>
  <dcterms:modified xsi:type="dcterms:W3CDTF">2009-01-27T08:53:28Z</dcterms:modified>
  <cp:revision>109</cp:revision>
  <dc:subject/>
  <dc:title>Az NIIF E10000 szuperszámítógép felhasználása, fejlesztési tervek</dc:title>
</cp:coreProperties>
</file>