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3C9-BC4C-409B-A700-9177FF1E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258-5831-4F38-830E-DFECB62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71A-7BF5-4B2D-A7A9-57FA37F2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363-EF5E-4AD4-8EC1-FC45579C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81F-2F10-4507-9A6E-AE51C8ED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D28-AAF8-4382-B9C5-25A39FF0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26C-0F29-4557-BA65-E2FC445B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BC2-CB1E-4D2A-8696-8A28AD77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65A-BBDA-4CF9-8B35-A0804037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E69-3BEA-4560-A385-E850B60C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0B0-2562-4DC7-99B2-DE228E2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19D-CD0C-4154-AAE0-DEDBD61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AFDD-EBD1-4E0A-8C8E-AF13AB82805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Nico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Jan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duce next draft of document by end of Mar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with VOMS server AAS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ry an accreditation in Zurich PMA meeting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76B3-7792-4335-A3C6-2A6CDE2178B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0E8F-2338-419F-A5F9-0B893313F7F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D15-4244-49B5-AF8A-1A64C0203365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 on 2 Dec 200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t NIKHEF – just before TERENA federation meet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incenzo Ciaschini, David Groep, Oscar Koeroo, Mike Helm, Reimer Karlsen-Masur, Steve Timm, Jules Wolfrat, Dave Kels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orked on the AA profile document and discussed som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4391-4E3F-45C8-89A4-972A1701100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n changes to documen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leaned up intro, abstract and scop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General archite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wo well established architect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ssue attributes to users, pushed by us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s extracted to local AuthZ DB (GUM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hould be one AASP per organis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the AASP, not each instance or V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A104-15DE-4CF4-B03E-F36F056F585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discuss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A signing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gree we should not use host certifica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VOMS develop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lling to implement use of separate ke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hould be tied to AASP (not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encouraged to consider an H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But  not forc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705-ED61-45F6-9C2D-FF5C47761CA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o case for revoking A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ther AC may exist with same asser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ntire cert chain must be verifi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AA cert will kill all issued asser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EE cert must stop issue of attribut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P must check validity of identity ce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 Practice Statement (AP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Practice statement requir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imple with templat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3AF4-F631-4AF8-980C-8DD950735EE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ssign it a globally unique object identifier (OID)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is should at least contain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hould be public and made availab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xcept for the operational environment which must be disclosed to the accrediting bod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9E2B-7FB1-48C4-8ACF-9164241482C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4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:&lt;reasonable representation of name of aasp &gt; - &lt;arbitrary non-null string identify the server or VO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t by CA or requested by AAS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.g. “AA:cern-wlcgvoms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E674-03AD-4050-969F-CCCA3B9447A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Other n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Have discussed with Steve Trayle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runs the VOMS servers at C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is keen to work with 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gether with Steve Timm at F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nd other VOMS operators(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ill include comments from them on the profile docu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87DD-EF99-4B31-BC66-7B925792C29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9-01-27T07:37:06Z</dcterms:modified>
  <cp:revision>71</cp:revision>
  <dc:subject/>
  <dc:title>Grid Security</dc:title>
</cp:coreProperties>
</file>