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5061-2BE2-41F7-83BE-C8E6980009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9257-D8F4-41D1-8C1B-440E672154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56428-7950-4B20-82B7-F2DA15C40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3728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373C-C121-422C-AA04-1B9AD6663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F6F5-DC5F-4912-84BF-1CCB33228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7147E-1896-4E56-8E50-97B67EABF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49D1D-BD17-4F29-A8B5-B087B736EF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ACAF1-E119-4E8C-A2B3-B01906F9C0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9F22D-D316-439E-8151-72E484F0B2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616C3-43F8-4F73-A370-21BC522822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5309F-D8BB-4DE7-8BAB-FBD01F53F7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27620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EFBDE-0D75-4161-A853-E2FCB03C06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754AF-6223-41EE-B077-4BB3AE8BC9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7B94-09AE-439D-B1FB-8F753DC8D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4F7F5-31A3-4C20-A943-7BF8B268E6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4086B-6548-41E4-8AD9-BAA551C48F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33728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44257-5C79-456E-B721-C17D188335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E3493-1F0D-4066-AE48-F5D39EB7A7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202896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33728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83F41-C376-4758-98C3-516B6E3C50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C4B5-139E-468C-9829-79553E2E3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ECCC-8276-4A88-ACE5-3128659FF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6B2F8-73D1-47FD-91EC-428C74F6C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76200"/>
            <a:ext cx="8229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7F19-6FE7-4E38-822D-C8767B2EE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22524-BFB2-43EE-8B60-D9F68F771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3728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5B74-EB25-43C2-93CB-494245C9C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60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2896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3728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5CD9-38A3-491F-8AE2-1DC43C6F7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QV_border_qv"/>
          <p:cNvPicPr/>
          <p:nvPr/>
        </p:nvPicPr>
        <p:blipFill>
          <a:blip r:embed="rId2"/>
          <a:stretch/>
        </p:blipFill>
        <p:spPr>
          <a:xfrm>
            <a:off x="-14400" y="-14400"/>
            <a:ext cx="915840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52720"/>
            <a:ext cx="380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1B28-3776-4CFD-9483-235DE0B0CAC1}" type="slidenum">
              <a:rPr b="0" lang="en-GB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QVlogo2008.jpg"/>
          <p:cNvPicPr/>
          <p:nvPr/>
        </p:nvPicPr>
        <p:blipFill>
          <a:blip r:embed="rId3"/>
          <a:stretch/>
        </p:blipFill>
        <p:spPr>
          <a:xfrm>
            <a:off x="358920" y="311040"/>
            <a:ext cx="253980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QV_border_qv"/>
          <p:cNvPicPr/>
          <p:nvPr/>
        </p:nvPicPr>
        <p:blipFill>
          <a:blip r:embed="rId2"/>
          <a:stretch/>
        </p:blipFill>
        <p:spPr>
          <a:xfrm>
            <a:off x="-14400" y="-14400"/>
            <a:ext cx="9158400" cy="6872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QVlogo2008.jpg"/>
          <p:cNvPicPr/>
          <p:nvPr/>
        </p:nvPicPr>
        <p:blipFill>
          <a:blip r:embed="rId3"/>
          <a:stretch/>
        </p:blipFill>
        <p:spPr>
          <a:xfrm>
            <a:off x="339840" y="330120"/>
            <a:ext cx="2539800" cy="635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Swissanchor.gif"/>
          <p:cNvPicPr/>
          <p:nvPr/>
        </p:nvPicPr>
        <p:blipFill>
          <a:blip r:embed="rId4"/>
          <a:stretch/>
        </p:blipFill>
        <p:spPr>
          <a:xfrm>
            <a:off x="1373040" y="1935000"/>
            <a:ext cx="6143760" cy="1791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EF73-65BA-4865-8701-9D95F7B8E6D1}" type="slidenum">
              <a:rPr b="0" lang="en-GB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4350960"/>
            <a:ext cx="645156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QuoVadis Group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5235120"/>
            <a:ext cx="6400800" cy="9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oman Brunner, Group C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pdate for EUGridPMA – May 12, 20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Example:  Trust/Link SSL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2028960"/>
            <a:ext cx="4280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-vetted details allows immediate issuance of SSL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emplates for consistenc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institution “accounts”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legated administration, ability to accommodate different approval regim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ngle login for Subscribers to manage all their SSL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ustom emails for lifecycle event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lexibility for certificate types, use of SANs, etc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QuoVadis can provide demonstrations for interested group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5008680" y="2092320"/>
            <a:ext cx="359712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4350960"/>
            <a:ext cx="645156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Roman Brunner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5235120"/>
            <a:ext cx="6400800" cy="9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.brunner@quovadisglobal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+41 71 272 60 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QuoVadis Snapsho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nded 1999 as Commercial Certification Authorit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ffices in Switzerland, UK, Holland, Bermud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rganisations want to “use digital certificates” more than “run their own PKI”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mplexity of PKI policy and technology can distract from the actual busines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QuoVadis provides turnkey solutions surrounding digital certificates and digital signatur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llow the customer to focus on their users and core systems/process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ritical mass to provide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cialised registration systems to improve user experience, complianc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ure hosting and operations of the PKI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pport for arcane PKI issu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udits and accredita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ide distribution of roots in OS and Browser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o It Yourself ?</a:t>
            </a: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49480" y="397980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O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98600" y="1917720"/>
            <a:ext cx="135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per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olicy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995120" y="54100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Arch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665120" y="1373040"/>
            <a:ext cx="10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622680" y="281952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3305160" y="374184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per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523160" y="50292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Root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13560" y="31240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278160" y="57657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604120" y="266688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mart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issu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4750200" y="3505320"/>
            <a:ext cx="11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2224080" y="419112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N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o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318200" y="4343400"/>
            <a:ext cx="13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Regul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311040" y="5105520"/>
            <a:ext cx="106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Rene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4606920" y="16714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7630920" y="507060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Re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2016360" y="312408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8034120" y="35211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5083200" y="565452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P &amp; 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3729240" y="200664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2704680" y="49528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Fire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7313760" y="4206960"/>
            <a:ext cx="16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ontinuity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418320" y="581652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Policy and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6505920" y="564984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rgan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6743160" y="182880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3842640" y="520704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End-to-end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994320" y="3817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perations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7498800" y="25146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ystem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5557680" y="1905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2084040" y="1922400"/>
            <a:ext cx="11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end-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5758920" y="472428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2346840" y="2674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384120" y="43434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6"/>
          <p:cNvSpPr/>
          <p:nvPr/>
        </p:nvSpPr>
        <p:spPr>
          <a:xfrm>
            <a:off x="6059520" y="37339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7"/>
          <p:cNvSpPr/>
          <p:nvPr/>
        </p:nvSpPr>
        <p:spPr>
          <a:xfrm>
            <a:off x="6977880" y="289548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Concep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6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6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7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1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3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5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ervice Overview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igital Certifica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d User certificates, including Qualified and Advanced certificates, for various use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unctional certificates, including ElDI-V/GeBüV, code signing, gateway, etc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SL including the new Extended Validation SSL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anaged PK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utsourced certification authorities (CA) that can be tailored to the particular needs of a client or community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apid-deployment Trust/Link registration authority (RA) web portals for easy issuance for both End User and SSL certificate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igning Servic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usted time-stamping to reinforce data integrity and non-repudiation in the submission, storage/archive, or tracking of electronic record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gital signing tools (both client and server side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oot Servic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oot CA hosting for organisations wishing to set up their own trust anchors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oot CA signing enhances the trust and recognition of customers’ in-house CAs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KI policy, technologies, and integration into customer environment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Root Distribution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02896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rowser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Internet Explorer 5.0+ (including Maxthon and others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zilla Firefox 1.02+ (including Camino, Fennec, and Sea Monkey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ra 9.26+ (including Opera Mini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fari 1.0+  (including mobile Safari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ogle Chrom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onqueror and K-Mele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Windows XP+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ple OS/X+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IM Blackberry 4+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Java (in progres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8320" y="202896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mail Cli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ple Mail.app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udora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Entourage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Outlook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Outlook Express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zilla Thunderbird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zilla Sea Monkey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IM Blackberry Mail (part of Core Applications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Office 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n Offi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de array of OSS applications that use the Mozilla NSS libraries 3.9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Adobe Acrobat (in progres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udits and Accreditations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QuoVadis seeks accreditations in support of our client needs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bTrust for Certification Authoriti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bTrust for Extended Valida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Swiss Qualified Certification Services Provid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Netherlands Qualified Certification Services Provid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Bermuda Authorised Certification Services Provid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Currently obtaining PKI Overheid Accreditation in the Netherland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2" descr="http://www.quovadisglobal.bm/~/media/Images/CompanyLogos/logo%20bermudaCSP.ashx"/>
          <p:cNvPicPr/>
          <p:nvPr/>
        </p:nvPicPr>
        <p:blipFill>
          <a:blip r:embed="rId1"/>
          <a:stretch/>
        </p:blipFill>
        <p:spPr>
          <a:xfrm>
            <a:off x="7550280" y="5557680"/>
            <a:ext cx="453960" cy="839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http://www.quovadisglobal.bm/~/media/Images/CompanyLogos/WebTrust%20CA.ashx"/>
          <p:cNvPicPr/>
          <p:nvPr/>
        </p:nvPicPr>
        <p:blipFill>
          <a:blip r:embed="rId2"/>
          <a:stretch/>
        </p:blipFill>
        <p:spPr>
          <a:xfrm>
            <a:off x="2576520" y="5557680"/>
            <a:ext cx="668160" cy="824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http://www.quovadisglobal.bm/~/media/Images/CompanyLogos/WebTrustEV.ashx"/>
          <p:cNvPicPr/>
          <p:nvPr/>
        </p:nvPicPr>
        <p:blipFill>
          <a:blip r:embed="rId3"/>
          <a:stretch/>
        </p:blipFill>
        <p:spPr>
          <a:xfrm>
            <a:off x="4259160" y="5556240"/>
            <a:ext cx="668520" cy="804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http://www.quovadisglobal.bm/~/media/Images/CompanyLogos/logo%20swissCSP.ashx"/>
          <p:cNvPicPr/>
          <p:nvPr/>
        </p:nvPicPr>
        <p:blipFill>
          <a:blip r:embed="rId4"/>
          <a:stretch/>
        </p:blipFill>
        <p:spPr>
          <a:xfrm>
            <a:off x="1035000" y="5557680"/>
            <a:ext cx="544680" cy="860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QuoVadis BSI seal ETS 010 for Dutch CSP"/>
          <p:cNvPicPr/>
          <p:nvPr/>
        </p:nvPicPr>
        <p:blipFill>
          <a:blip r:embed="rId5"/>
          <a:stretch/>
        </p:blipFill>
        <p:spPr>
          <a:xfrm>
            <a:off x="5943600" y="5557680"/>
            <a:ext cx="62244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QuoVadis Grid C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2028960"/>
            <a:ext cx="4197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ustom GridCA built for SWITCH in compliance with EUGridPMA standard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pdates made to QuoVadis CP/CP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olved from QuoVadis relationship providing SSL to SWITCH institutions using Trust/Link SSL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vailable for other EUGrid members’ use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duce PKI management burde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mple interface for user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hained to QuoVadis root for wider “trust” in end user softwar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5245200" y="1952640"/>
            <a:ext cx="31114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EUGridPMA Accreditation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UGridPMA team has performed a detailed review and approval of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QuoVadis CP/CP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QuoVadis Grid Issuing CA, End User, Server and CRL certificate profil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repository on the QuoVadis website (http://www.quovadisglobal.com/repository) contains  the QuoVadis Grid Issuing CA certificate, the Grid CRL, and the QuoVadis Root Certificat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pdate to CP/CPS will be posted when CA goes into produ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QuoVadis are currently in progress with the TACAR applica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A big thanks to all the EUGridPMA reviewers for all their hard work, time, and input!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27620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ertificate Types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02896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i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End User certificat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or authentication and secure e-mai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i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erver certificat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or authentication and secure communication with Grid resour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id members who wish to use the Grid CA would sign up as Participating Institutions/Registration Authorit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oVadis is working with SWITCH to document procedures for R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ertificates will be issued and managed using our Trust/Link web application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ust/Link For End 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ust/Link For SS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3:09:53Z</dcterms:created>
  <dc:creator>EVC</dc:creator>
  <dc:description/>
  <dc:language>en-US</dc:language>
  <cp:lastModifiedBy>bkilborn</cp:lastModifiedBy>
  <dcterms:modified xsi:type="dcterms:W3CDTF">2009-05-11T13:37:20Z</dcterms:modified>
  <cp:revision>226</cp:revision>
  <dc:subject/>
  <dc:title>Slide 1</dc:title>
</cp:coreProperties>
</file>