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392-1555-4F4F-8A7D-05631ACC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61C-B367-45B5-B93C-4EAE4209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85B-12F3-478E-83F8-EC3FF2D3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42064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37760"/>
            <a:ext cx="250236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737-1101-40C5-B369-66EDC816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9C3-7641-49F6-8F3A-230C1A03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B2C-3EB0-4CEB-80EA-C9542D89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24B-F1B1-4FB5-B309-281FD06E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7DF-4D21-4828-80F2-03DC3C78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98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D83-EECF-497B-A21E-57B8F819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0DE-FCE7-400B-BBAA-1B588E07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3776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594-CCEF-49BA-9AD5-36B86F7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420640"/>
            <a:ext cx="3792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37760"/>
            <a:ext cx="77724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678-5A1A-4916-B17E-69496EA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5A99-85D7-42BF-A42A-B8EDA2170B42}" type="slidenum">
              <a:rPr b="0" lang="en-GB" sz="14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SCI_PPT_templ4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ngs"/>
          <p:cNvPicPr/>
          <p:nvPr/>
        </p:nvPicPr>
        <p:blipFill>
          <a:blip r:embed="rId3"/>
          <a:stretch/>
        </p:blipFill>
        <p:spPr>
          <a:xfrm>
            <a:off x="4140360" y="5734080"/>
            <a:ext cx="476568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gridpp2_logo"/>
          <p:cNvPicPr/>
          <p:nvPr/>
        </p:nvPicPr>
        <p:blipFill>
          <a:blip r:embed="rId4"/>
          <a:stretch/>
        </p:blipFill>
        <p:spPr>
          <a:xfrm>
            <a:off x="611280" y="5842080"/>
            <a:ext cx="273672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Jens’ 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 soapbox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85520" y="3714840"/>
            <a:ext cx="7715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n’t be a PMA without a Soapbo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Jens Jensen, R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U GridPMA, Switch, Z</a:t>
            </a:r>
            <a:r>
              <a:rPr b="0" lang="en-GB" sz="2800" spc="-1" strike="noStrike">
                <a:solidFill>
                  <a:srgbClr val="000000"/>
                </a:solidFill>
                <a:latin typeface="Lucida Grande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ich, 11-13 May 2009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frastructu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14240" y="2285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etworks – (internet/web needed for at least CR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in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NS, exter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chines, hard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hysical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ront)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gging and archiving (if different) (WORM?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 operator interfa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gning infrastructu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SM, if us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databas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per and/or on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people/ro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, admi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A manager manag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84160" indent="-4680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 managers, RA operators (variation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468000" indent="-468000">
              <a:spcBef>
                <a:spcPts val="7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(Self)audi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“Manual” Trus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hotocopies (or equiv) of 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ppointment lett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INs, if u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rivate keys throughout PK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assphr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ntern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20714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availabi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edundancy, monitor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00b050"/>
                </a:solidFill>
                <a:latin typeface="Lucida Grande"/>
              </a:rPr>
              <a:t>integr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up, integrity check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igh </a:t>
            </a: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nfidentiality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servic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ncryption, physical protection, release procedur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509520" y="3143160"/>
            <a:ext cx="2465280" cy="1068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udit resul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lf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ternal audi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643040" y="2071440"/>
            <a:ext cx="62150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Assurance – Lo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ffort – L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Expertise – Lo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vel of Contribution? – LoC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ing change – inertia – LoI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nghy vs supertank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Level of Reputation(?) – L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W&amp;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atching up with changing requirem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eneral rule of decay and obsoles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mponents, docum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ge: Rule of that curvy th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CA – exception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ping with special cases and erro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on a case by case basi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e humans vs comps later in pr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S II &amp;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 AND 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Guiding Principl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dde Caesari quae sunt Caesari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o orthogonise or n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Humans vs Compute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Jens’ Law of Complex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OLICY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CP/CPS Templ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“1”SCP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! in software – see next Par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s (non-exhaustive)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2960" y="235692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Either describe separate dimension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private key protec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.g. identity vetting W&amp;F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escribe with OI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IDs are not order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.e,. .1 &gt; .2 &gt; .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Straight Connector 22"/>
          <p:cNvSpPr/>
          <p:nvPr/>
        </p:nvSpPr>
        <p:spPr>
          <a:xfrm flipH="1">
            <a:off x="2356920" y="5286240"/>
            <a:ext cx="7164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5"/>
          <p:cNvSpPr/>
          <p:nvPr/>
        </p:nvSpPr>
        <p:spPr>
          <a:xfrm flipH="1">
            <a:off x="3214800" y="5286240"/>
            <a:ext cx="71280" cy="35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ond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nstead of “how is it implemented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What is the goal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LoA is achiev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ow APs relate to each other in this resp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olicy mapp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r no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sually a good thing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parates things that are separat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od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Non-orthog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asier to interpre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ngle mapping to other levels (maybe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rivate key in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ssword protec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User genera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ertificate person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2F id vett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GTF-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2420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am a Classic…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3384000" y="514368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it makes sense to do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PART II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SOFTWAR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Humans vs Comput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mputers are good at computer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ke computers do them!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Humans are good at human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ive human things back to huma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Operating Manual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existing pract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Documenting special c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Discourage too much creativit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Guidelines – goo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n IGTF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institution running the issuing author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the trust anchor, a certific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ert and a (sub-)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collection of certs and namespa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s it a person (le roi, c’est moi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Law of Complexit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simple things simple, complex things possible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ake things as simple as possible, but not simpler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Grande"/>
              </a:rPr>
              <a:t>Complexity has to go somewhe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e Software Triangl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Isosceles Triangle 3"/>
          <p:cNvSpPr/>
          <p:nvPr/>
        </p:nvSpPr>
        <p:spPr>
          <a:xfrm>
            <a:off x="2571840" y="2643120"/>
            <a:ext cx="3857400" cy="2714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071960" y="20718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500880" y="478620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27520" y="4929120"/>
            <a:ext cx="22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lex)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Example – web CA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F can no longer import certs from file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Backwards DNs, IE on Vist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onversion from PKCS#12 to PE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/export for non-personal cer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rust web sites flag not set on cert imp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newal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ort into browse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.pem of course is O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taining use of private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Signing Polici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Implementation of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Good(ish) certs outside RPDNC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More software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TFC will release Java clients softwa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pen Source licen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s soon as I get round to doing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Other Java clients STFC-licens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ee (beer) for non-commercia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oapbo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?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l of the above (ish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lus the following…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4240" y="226188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pport infrastructure (eg helpdesk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ontact emails (e.g., .info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ront end – certificate request/downloa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newal and RA interface (if different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ack end – signing servic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700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R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1360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d OCSP, if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457560" indent="-45756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4240" y="2214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otification servic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ssuance, renewal, reke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evoc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ame, mostl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Unusual even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Servi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eposito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atisfying repository obliga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ublications according to local (usu country) law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erson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RPDNC… (see later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A manager’s GPG ke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ACAR registration paperwork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ttendance reco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presentation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PMA most recent audit recor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is a CA – IGTF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MA reviewer record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nitial, re-review: mails, spreadshee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Minreq and AP implementatio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45:44Z</dcterms:created>
  <dc:creator>jj47</dc:creator>
  <dc:description/>
  <dc:language>en-US</dc:language>
  <cp:lastModifiedBy>jj47</cp:lastModifiedBy>
  <dcterms:modified xsi:type="dcterms:W3CDTF">2009-05-12T14:05:55Z</dcterms:modified>
  <cp:revision>135</cp:revision>
  <dc:subject/>
  <dc:title>Slide 1</dc:title>
</cp:coreProperties>
</file>