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B08-F799-4EAB-B406-9E7D2F5A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497-C26E-437F-8D6C-1629A50F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AA08-A596-4F3E-8A9A-F512E9F7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7D4-564D-4653-BB63-8646BBFD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048-B778-4B9B-AB8C-06B559A8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584-EEC6-40F3-AEDF-6FD365EF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60C-2899-4BFE-9411-8B0EE5B4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747-C1E1-41AE-9BAE-7795C09C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AC41-A79A-428B-B3C8-763E278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977-5C86-4CFE-8DEF-E4BE876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3EA-7640-4B1D-B984-04D8F3A4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036-9831-4867-958E-3E572A99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56BD-F8C2-4E40-88EF-30CD1DF6C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oodle.com/r5cnvskcftf534nz" TargetMode="External"/><Relationship Id="rId2" Type="http://schemas.openxmlformats.org/officeDocument/2006/relationships/hyperlink" Target="http://doodle.com/r?url=http%3A%2F%2Fwww.doegrids.org%2FDocs%2FDOEGrids-3.1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9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3760" y="609120"/>
            <a:ext cx="34290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Grids Audi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4120" y="243828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He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6320" y="128520"/>
            <a:ext cx="132228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4"/>
          <a:stretch/>
        </p:blipFill>
        <p:spPr>
          <a:xfrm>
            <a:off x="6629400" y="6248520"/>
            <a:ext cx="1371600" cy="40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5334120" y="6095880"/>
            <a:ext cx="990360" cy="601920"/>
          </a:xfrm>
          <a:prstGeom prst="rect">
            <a:avLst/>
          </a:prstGeom>
          <a:ln w="0">
            <a:noFill/>
          </a:ln>
        </p:spPr>
      </p:pic>
      <p:sp>
        <p:nvSpPr>
          <p:cNvPr id="48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1816-FB51-4454-8487-5F5E1435C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76320" y="6140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ing for the Future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334120" y="3429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Sciences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wrence Berkeley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5334120" y="43434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Ma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2" descr="DOEGrids.jpg"/>
          <p:cNvPicPr/>
          <p:nvPr/>
        </p:nvPicPr>
        <p:blipFill>
          <a:blip r:embed="rId6"/>
          <a:stretch/>
        </p:blipFill>
        <p:spPr>
          <a:xfrm>
            <a:off x="6019920" y="1600200"/>
            <a:ext cx="1558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B526-E70C-4E25-9D49-3DC877880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uditin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ST 800-53 framework –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net PKI CSPP – working on publ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Review –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net Security Peer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G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re-issu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anges caused a lot of trou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 from Iplanet CMS to Redhat CS using old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in other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every automatically issued certificate (renewals, certain kinds of RA agent functions) since Ju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842B-217F-4696-9080-EF3A6DEBC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all now pass lovingly over these documents as time permit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Grids Audi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egrids.org/Docs/DOEGridsInternalAudit2007Report.d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of work done on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oegrids.org/Docs/Audit2007-Response.d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odle.com/r5cnvskcftf534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Grids CP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egrids.org/Docs/DOEGrids-3.1.d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93F9-0188-43F8-BC9F-A4758154A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ittle background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up for audit in Sep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of various features Nov-Dec 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issu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iles: census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800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” style committee, focused on early version of IGTF Audi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Report Amsterdam Ja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udit Report Aug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 3647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” Audi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CB37-D372-4D4C-9AED-B98E027DC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t Repo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Report Executiv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matters of interest to auditors; includes significant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 list – discussed in Amster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net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plan for issues found in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uditors’ spreadsheets an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B9CF-1A8D-4B6E-ACA8-F70C62E43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t Report Executiv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al with ID verificatio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RAs to maintain identificatio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PS format to RFC 36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offering a MICS-type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/revamp DOEGrids 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ty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800-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ID &amp; authentication-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4293-C748-41EC-A0EC-6B4DA813A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dit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n into 2 classe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ificant 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topics with obvious seriousness, where either the documentation was missing, or the CA operations didn’t conform t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or devi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essentially minor documentation errors and o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0460-D6A5-415C-BA91-E0087044C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Audit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Verification (initial) was resolved at Amsterdam -&gt; resulted in TTP 1S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 re-verification remains an ope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 record retention – under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 -&gt; see the “CA cloning”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ucturing CPS to RFC 3647– done – v 3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CPS according to Audit Log – done v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Grids PMA rev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planning remains a futur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8EDA-EB96-4E30-B6E8-1C07313A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Grids CPS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2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implemented at Apr 2008 TAGPMA at NERS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ed ESnet RA &amp; Philips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on of v 2.10 -&gt; RFC 3647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Grids CPS v 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f DOEGrids Audit 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nal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7F24-BB82-47EF-99B7-861A3566C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Grids CPS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thru DOEGrids PMA approv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d by ESne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reflects the reality of how we must operate the CA &amp; its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troversial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serve the right to make change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as the right to cause a certificate to be revoked (or other CA operation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&amp; confidentiality (N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UGridPMA Ma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BB7D-72F3-4F1E-93F5-DB9CEC999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stand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issues become the next work program after DOEGrids CPS 3.1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ty re-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difficult community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ols to support this are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currently studying the demographics &amp; plan to have a program for re-verifying ancient subscribers in place by Octo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 responsibilities &amp;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P/GFD 125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on gradual adoption – another community relations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tio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o be identified as a customer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PS restru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RA Disclosure appendices, put in DOEGrids PMA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dynamic content and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– linking with NIST 800-53 – based security and practice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 various anachronisms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4:49:47Z</dcterms:created>
  <dc:creator>michael helm</dc:creator>
  <dc:description/>
  <dc:language>en-US</dc:language>
  <cp:lastModifiedBy>helm</cp:lastModifiedBy>
  <dcterms:modified xsi:type="dcterms:W3CDTF">2009-05-12T09:14:40Z</dcterms:modified>
  <cp:revision>26</cp:revision>
  <dc:subject/>
  <dc:title>DOEGrids Audit Report</dc:title>
</cp:coreProperties>
</file>