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D90-638B-4330-9343-DD77569F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692-1EDD-4B7F-AA61-FFF15058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927-2C3E-4BE7-8ACD-62051E97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FB9-1AA3-464D-968E-A1BA9FDC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7CA-C858-42FD-959F-BC63182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BDD-18BE-478D-829C-6290AA1C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191-1DD0-4377-A084-99D8B236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520-ABD2-417C-A19F-CB163F65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044-9574-4C6E-AD3C-2DEEB99C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80F-5193-423B-B50D-842671AA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0EA-614E-4D60-A232-5EA38355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EF2-98A7-46A2-BE5C-3A228FE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FD43F-F3A6-45F5-AD16-53E001941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isk Assessmen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tagpma.es.net/wiki/bin/view/IGTF-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gtf-rat@eugridpm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A08E8-043E-4D7A-A87F-C72C1FD94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Ps Not Updating CRL U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Grids CA reported (Apr 11) that about 25% of CRL requests are to the old UR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L changed in IGTF distribution a month earl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a concer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ction should we t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C8D50-07BA-4A99-9C90-A8854E006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D5 hash collisions in X.509 certific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for new certificates issued using MD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GTF should not have any of thes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2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so concern about MD5 weakness in genera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 certificates (and subordinat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ld CNRS subordinate using MD5; new CNRS2 hierarchy using SHA1 released Januar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ACGrid, Grid-Ireland, UK eScience, KFKI RMKI, IUCC, Polish Grid, Grid Canada still using MD5 in CR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rid-Ireland and UK eScience will switch to SHA-1 by Jun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xy certificates (Globus, VOMS, MyProx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us migrating away from MD5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tp://bugzilla.globus.org/globus/show_bug.cgi?id=661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05B17-21E2-42CC-8DA0-FA421B238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EC)DSA EE Ke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SSL client vulne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ly that IGTF CAs have certified (EC)DSA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eugridpma.org/newsletter/eugridpma-newsletter-20090108.t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 requested CAs to a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CAs found (EC)DSA certific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(EC)DSA certificates valid until Augu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599BA-1649-4F08-A75A-3A941C465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ity Checking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A Exponent &lt; 655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tokens (pkcs11-tool) tend to generate exponents 3 &amp; 5 by defau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n-weak (Debian OpenSSL) ke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D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C)D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9D93A-236A-4B4E-B2C7-954AEF736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9503D-0D86-48E6-AFF3-F286CF845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://tagpma.es.net/wiki/bin/view/IGTF-RAT/2009-0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melin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5 Jan: RAT begins drafting mess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1 Feb: Request sent to CA opera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3 Feb: 57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2 Mar: 75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6 Mar: 77 of 80 CAs respon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7 Apr: 77 of 80 CAs responded; reminder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8 Apr: 78 of 80 CAs respon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AB0D5-BF9B-429E-A883-6DDA655CC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CAs issued certificates containing (EC)DSA keys, expiring by Aug 27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 CAs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CAs are currently issuing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 CAs issued CRLs using MD5. 7 are currently issuing CRL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9 CAs have implemented automated checks for RSA keys with weak expon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CAs have implemented automated checks for known weak Debian OpenSSL ke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8 CAs have implemented automated checks for issued certificates using MD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A1FDE-6443-4EC1-9E5A-ECABE9BDA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GTF RAT Audit (2009-0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ail to CA contact address in dis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urvey (surveymonkey.co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bjection received; response sent by email inst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s considered priv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 results pu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publish response times for each C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6FAF9-5E4A-443F-AFEA-7EADD1436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-1 -&gt; SHA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D5 weaknesses remind us about weaknesses in SHA-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ST advises to replace SHA-1 by end of 20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-1 Collision search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iaik.tugraz.at/content/research/krypto/sha1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is our level of concern about SHA-1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ath forward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 software support for SHA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with middleware providers to support SHA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ourage upgrade to OpenSSL 0.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relying parties support SHA-2 (in 2010?), begin issuing SHA-2 certific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5/11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0289B-1242-473E-982F-CCFB65378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0:22:18Z</dcterms:created>
  <dc:creator>Jim Basney</dc:creator>
  <dc:description/>
  <dc:language>en-US</dc:language>
  <cp:lastModifiedBy>Jim Basney</cp:lastModifiedBy>
  <dcterms:modified xsi:type="dcterms:W3CDTF">2009-05-11T00:52:10Z</dcterms:modified>
  <cp:revision>15</cp:revision>
  <dc:subject/>
  <dc:title>IGTF RAT</dc:title>
</cp:coreProperties>
</file>