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ct" ContentType="image/x-pict"/>
  <Override PartName="/ppt/media/image4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88840" y="1333080"/>
            <a:ext cx="736632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88840" y="3754800"/>
            <a:ext cx="736632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888840" y="1333080"/>
            <a:ext cx="359460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63440" y="1333080"/>
            <a:ext cx="359460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ubTitle"/>
          </p:nvPr>
        </p:nvSpPr>
        <p:spPr>
          <a:xfrm>
            <a:off x="1206000" y="355680"/>
            <a:ext cx="7721640" cy="376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888840" y="133308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63440" y="1333080"/>
            <a:ext cx="359460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888840" y="375480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888840" y="1333080"/>
            <a:ext cx="359460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63440" y="133308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663440" y="375480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888840" y="133308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63440" y="133308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888840" y="3754800"/>
            <a:ext cx="736632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888840" y="1333080"/>
            <a:ext cx="736632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888840" y="3754800"/>
            <a:ext cx="736632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888840" y="133308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63440" y="133308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888840" y="375480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/>
          </p:nvPr>
        </p:nvSpPr>
        <p:spPr>
          <a:xfrm>
            <a:off x="4663440" y="375480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888840" y="1333080"/>
            <a:ext cx="237168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3379320" y="1333080"/>
            <a:ext cx="237168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5870160" y="1333080"/>
            <a:ext cx="237168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/>
          </p:nvPr>
        </p:nvSpPr>
        <p:spPr>
          <a:xfrm>
            <a:off x="888840" y="3754800"/>
            <a:ext cx="237168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478" name="PlaceHolder 6"/>
          <p:cNvSpPr>
            <a:spLocks noGrp="1"/>
          </p:cNvSpPr>
          <p:nvPr>
            <p:ph/>
          </p:nvPr>
        </p:nvSpPr>
        <p:spPr>
          <a:xfrm>
            <a:off x="3379320" y="3754800"/>
            <a:ext cx="237168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479" name="PlaceHolder 7"/>
          <p:cNvSpPr>
            <a:spLocks noGrp="1"/>
          </p:cNvSpPr>
          <p:nvPr>
            <p:ph/>
          </p:nvPr>
        </p:nvSpPr>
        <p:spPr>
          <a:xfrm>
            <a:off x="5870160" y="3754800"/>
            <a:ext cx="237168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88840" y="133308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3440" y="133308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88840" y="375480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3440" y="375480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888840" y="1333080"/>
            <a:ext cx="7366320" cy="463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888840" y="1333080"/>
            <a:ext cx="736632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888840" y="1333080"/>
            <a:ext cx="359460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63440" y="1333080"/>
            <a:ext cx="359460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1206000" y="355680"/>
            <a:ext cx="7721640" cy="376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888840" y="133308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63440" y="1333080"/>
            <a:ext cx="359460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888840" y="375480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888840" y="1333080"/>
            <a:ext cx="359460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63440" y="133308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63440" y="375480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888840" y="133308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63440" y="133308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888840" y="3754800"/>
            <a:ext cx="736632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888840" y="1333080"/>
            <a:ext cx="736632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888840" y="3754800"/>
            <a:ext cx="736632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888840" y="133308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63440" y="133308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888840" y="375480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63440" y="375480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88840" y="1333080"/>
            <a:ext cx="237168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79320" y="1333080"/>
            <a:ext cx="237168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70160" y="1333080"/>
            <a:ext cx="237168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88840" y="3754800"/>
            <a:ext cx="237168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79320" y="3754800"/>
            <a:ext cx="237168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70160" y="3754800"/>
            <a:ext cx="237168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888840" y="1333080"/>
            <a:ext cx="237168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379320" y="1333080"/>
            <a:ext cx="237168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5870160" y="1333080"/>
            <a:ext cx="237168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888840" y="3754800"/>
            <a:ext cx="237168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379320" y="3754800"/>
            <a:ext cx="237168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5870160" y="3754800"/>
            <a:ext cx="237168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subTitle"/>
          </p:nvPr>
        </p:nvSpPr>
        <p:spPr>
          <a:xfrm>
            <a:off x="888840" y="1333080"/>
            <a:ext cx="7366320" cy="463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888840" y="1333080"/>
            <a:ext cx="736632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888840" y="1333080"/>
            <a:ext cx="359460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63440" y="1333080"/>
            <a:ext cx="359460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ubTitle"/>
          </p:nvPr>
        </p:nvSpPr>
        <p:spPr>
          <a:xfrm>
            <a:off x="1206000" y="355680"/>
            <a:ext cx="7721640" cy="376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888840" y="133308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63440" y="1333080"/>
            <a:ext cx="359460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888840" y="375480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888840" y="1333080"/>
            <a:ext cx="359460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63440" y="133308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663440" y="375480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888840" y="133308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63440" y="133308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888840" y="3754800"/>
            <a:ext cx="736632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00D19C-B3C7-483F-ABB4-96DA5B68F2A3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888840" y="1333080"/>
            <a:ext cx="736632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888840" y="3754800"/>
            <a:ext cx="736632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888840" y="133308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63440" y="133308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888840" y="375480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4663440" y="375480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888840" y="1333080"/>
            <a:ext cx="237168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3379320" y="1333080"/>
            <a:ext cx="237168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5870160" y="1333080"/>
            <a:ext cx="237168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/>
          </p:nvPr>
        </p:nvSpPr>
        <p:spPr>
          <a:xfrm>
            <a:off x="888840" y="3754800"/>
            <a:ext cx="237168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552" name="PlaceHolder 6"/>
          <p:cNvSpPr>
            <a:spLocks noGrp="1"/>
          </p:cNvSpPr>
          <p:nvPr>
            <p:ph/>
          </p:nvPr>
        </p:nvSpPr>
        <p:spPr>
          <a:xfrm>
            <a:off x="3379320" y="3754800"/>
            <a:ext cx="237168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553" name="PlaceHolder 7"/>
          <p:cNvSpPr>
            <a:spLocks noGrp="1"/>
          </p:cNvSpPr>
          <p:nvPr>
            <p:ph/>
          </p:nvPr>
        </p:nvSpPr>
        <p:spPr>
          <a:xfrm>
            <a:off x="5870160" y="3754800"/>
            <a:ext cx="237168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 type="subTitle"/>
          </p:nvPr>
        </p:nvSpPr>
        <p:spPr>
          <a:xfrm>
            <a:off x="888840" y="1333080"/>
            <a:ext cx="7366320" cy="463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888840" y="1333080"/>
            <a:ext cx="736632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888840" y="1333080"/>
            <a:ext cx="359460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63440" y="1333080"/>
            <a:ext cx="359460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ubTitle"/>
          </p:nvPr>
        </p:nvSpPr>
        <p:spPr>
          <a:xfrm>
            <a:off x="1206000" y="355680"/>
            <a:ext cx="7721640" cy="376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888840" y="133308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63440" y="1333080"/>
            <a:ext cx="359460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888840" y="375480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888840" y="1333080"/>
            <a:ext cx="7366320" cy="463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0EE3D7-B4A1-421E-B0E0-EF111FB61217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888840" y="1333080"/>
            <a:ext cx="359460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63440" y="133308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4663440" y="375480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888840" y="133308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63440" y="133308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888840" y="3754800"/>
            <a:ext cx="736632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888840" y="1333080"/>
            <a:ext cx="736632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888840" y="3754800"/>
            <a:ext cx="736632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888840" y="133308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63440" y="133308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888840" y="375480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/>
          </p:nvPr>
        </p:nvSpPr>
        <p:spPr>
          <a:xfrm>
            <a:off x="4663440" y="375480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888840" y="1333080"/>
            <a:ext cx="237168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3379320" y="1333080"/>
            <a:ext cx="237168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5870160" y="1333080"/>
            <a:ext cx="237168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/>
          </p:nvPr>
        </p:nvSpPr>
        <p:spPr>
          <a:xfrm>
            <a:off x="888840" y="3754800"/>
            <a:ext cx="237168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590" name="PlaceHolder 6"/>
          <p:cNvSpPr>
            <a:spLocks noGrp="1"/>
          </p:cNvSpPr>
          <p:nvPr>
            <p:ph/>
          </p:nvPr>
        </p:nvSpPr>
        <p:spPr>
          <a:xfrm>
            <a:off x="3379320" y="3754800"/>
            <a:ext cx="237168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591" name="PlaceHolder 7"/>
          <p:cNvSpPr>
            <a:spLocks noGrp="1"/>
          </p:cNvSpPr>
          <p:nvPr>
            <p:ph/>
          </p:nvPr>
        </p:nvSpPr>
        <p:spPr>
          <a:xfrm>
            <a:off x="5870160" y="3754800"/>
            <a:ext cx="237168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 type="subTitle"/>
          </p:nvPr>
        </p:nvSpPr>
        <p:spPr>
          <a:xfrm>
            <a:off x="888840" y="1333080"/>
            <a:ext cx="7366320" cy="463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888840" y="1333080"/>
            <a:ext cx="736632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888840" y="1333080"/>
            <a:ext cx="359460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63440" y="1333080"/>
            <a:ext cx="359460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88840" y="1333080"/>
            <a:ext cx="736632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A5776F-0906-466B-B891-2F80ADB11002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subTitle"/>
          </p:nvPr>
        </p:nvSpPr>
        <p:spPr>
          <a:xfrm>
            <a:off x="1206000" y="355680"/>
            <a:ext cx="7721640" cy="376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888840" y="133308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63440" y="1333080"/>
            <a:ext cx="359460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888840" y="375480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888840" y="1333080"/>
            <a:ext cx="359460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63440" y="133308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4663440" y="375480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888840" y="133308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63440" y="133308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888840" y="3754800"/>
            <a:ext cx="736632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888840" y="1333080"/>
            <a:ext cx="736632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888840" y="3754800"/>
            <a:ext cx="736632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888840" y="133308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63440" y="133308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888840" y="375480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623" name="PlaceHolder 5"/>
          <p:cNvSpPr>
            <a:spLocks noGrp="1"/>
          </p:cNvSpPr>
          <p:nvPr>
            <p:ph/>
          </p:nvPr>
        </p:nvSpPr>
        <p:spPr>
          <a:xfrm>
            <a:off x="4663440" y="375480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888840" y="1333080"/>
            <a:ext cx="237168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3379320" y="1333080"/>
            <a:ext cx="237168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5870160" y="1333080"/>
            <a:ext cx="237168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628" name="PlaceHolder 5"/>
          <p:cNvSpPr>
            <a:spLocks noGrp="1"/>
          </p:cNvSpPr>
          <p:nvPr>
            <p:ph/>
          </p:nvPr>
        </p:nvSpPr>
        <p:spPr>
          <a:xfrm>
            <a:off x="888840" y="3754800"/>
            <a:ext cx="237168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629" name="PlaceHolder 6"/>
          <p:cNvSpPr>
            <a:spLocks noGrp="1"/>
          </p:cNvSpPr>
          <p:nvPr>
            <p:ph/>
          </p:nvPr>
        </p:nvSpPr>
        <p:spPr>
          <a:xfrm>
            <a:off x="3379320" y="3754800"/>
            <a:ext cx="237168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630" name="PlaceHolder 7"/>
          <p:cNvSpPr>
            <a:spLocks noGrp="1"/>
          </p:cNvSpPr>
          <p:nvPr>
            <p:ph/>
          </p:nvPr>
        </p:nvSpPr>
        <p:spPr>
          <a:xfrm>
            <a:off x="5870160" y="3754800"/>
            <a:ext cx="237168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88840" y="1333080"/>
            <a:ext cx="359460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3440" y="1333080"/>
            <a:ext cx="359460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499D5E-813F-43A5-B4A0-AC92DF645FE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98110C-2D56-4D99-85F8-CCE689B3FAD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206000" y="355680"/>
            <a:ext cx="7721640" cy="376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13B1CB-B3CE-404A-8B35-D452CC49F30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88840" y="133308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3440" y="1333080"/>
            <a:ext cx="359460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888840" y="375480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E5B236-5FD7-43B0-AD1E-A3702A3E3AA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88840" y="1333080"/>
            <a:ext cx="7366320" cy="463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88840" y="1333080"/>
            <a:ext cx="359460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3440" y="133308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3440" y="375480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7EE3E7-9022-4041-BE24-500EC3F3F4C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88840" y="133308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3440" y="133308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888840" y="3754800"/>
            <a:ext cx="736632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850AD7-60FC-41BE-AF47-5E63BA74C74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88840" y="1333080"/>
            <a:ext cx="736632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888840" y="3754800"/>
            <a:ext cx="736632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E481CF-611F-4524-A51A-26EB87D016D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88840" y="133308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3440" y="133308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888840" y="375480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3440" y="375480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CD8712-3632-4037-A547-6F66CA90C6E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88840" y="1333080"/>
            <a:ext cx="237168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79320" y="1333080"/>
            <a:ext cx="237168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870160" y="1333080"/>
            <a:ext cx="237168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888840" y="3754800"/>
            <a:ext cx="237168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79320" y="3754800"/>
            <a:ext cx="237168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870160" y="3754800"/>
            <a:ext cx="237168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6BE2B5-5CB9-4858-9FB1-79D8EED58F8C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88840" y="1333080"/>
            <a:ext cx="7366320" cy="463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88840" y="1333080"/>
            <a:ext cx="736632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88840" y="1333080"/>
            <a:ext cx="359460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63440" y="1333080"/>
            <a:ext cx="359460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88840" y="1333080"/>
            <a:ext cx="736632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1206000" y="355680"/>
            <a:ext cx="7721640" cy="376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88840" y="133308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3440" y="1333080"/>
            <a:ext cx="359460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888840" y="375480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88840" y="1333080"/>
            <a:ext cx="359460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63440" y="133308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63440" y="375480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88840" y="133308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63440" y="133308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88840" y="3754800"/>
            <a:ext cx="736632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88840" y="1333080"/>
            <a:ext cx="736632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888840" y="3754800"/>
            <a:ext cx="736632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88840" y="133308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3440" y="133308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888840" y="375480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63440" y="375480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88840" y="1333080"/>
            <a:ext cx="237168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379320" y="1333080"/>
            <a:ext cx="237168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870160" y="1333080"/>
            <a:ext cx="237168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888840" y="3754800"/>
            <a:ext cx="237168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379320" y="3754800"/>
            <a:ext cx="237168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5870160" y="3754800"/>
            <a:ext cx="237168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DC3A56-7DD2-4418-AC13-03E5DDE0A441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888840" y="1333080"/>
            <a:ext cx="7366320" cy="463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1E58DF-7684-460E-A86E-2EB8886B14A7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888840" y="1333080"/>
            <a:ext cx="736632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623D3A-920C-46AD-9821-7ED31A7E85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88840" y="1333080"/>
            <a:ext cx="359460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3440" y="1333080"/>
            <a:ext cx="359460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88840" y="1333080"/>
            <a:ext cx="359460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3440" y="1333080"/>
            <a:ext cx="359460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C1FBBF-AFF3-4D0A-816B-B8013AC7F72C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20757A-EB0E-4702-98D8-2AE5B2047ADE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1206000" y="355680"/>
            <a:ext cx="7721640" cy="376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48FD7F-C878-41D2-B0BE-E194AC8B651B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88840" y="133308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63440" y="1333080"/>
            <a:ext cx="359460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888840" y="375480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0DE1B4-FBC8-49D8-8A2D-2C5EEBDBDE56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888840" y="1333080"/>
            <a:ext cx="359460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63440" y="133308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63440" y="375480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BD39C6-9EDC-443F-98E4-2FFD6A51EA43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888840" y="133308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63440" y="133308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888840" y="3754800"/>
            <a:ext cx="736632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96747B-3F6B-4838-A05C-AB41A7FFF523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88840" y="1333080"/>
            <a:ext cx="736632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888840" y="3754800"/>
            <a:ext cx="736632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F68DA3-0B58-4C9A-87B9-9C2185AF9A70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888840" y="133308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63440" y="133308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888840" y="375480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63440" y="375480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2D02DC-FE3C-44D2-8FFC-D13F8DB11C83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88840" y="1333080"/>
            <a:ext cx="237168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379320" y="1333080"/>
            <a:ext cx="237168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5870160" y="1333080"/>
            <a:ext cx="237168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888840" y="3754800"/>
            <a:ext cx="237168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379320" y="3754800"/>
            <a:ext cx="237168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5870160" y="3754800"/>
            <a:ext cx="237168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A9A313-3FBF-46BC-8E63-505D8A1DBBE9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888840" y="1333080"/>
            <a:ext cx="7366320" cy="463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888840" y="1333080"/>
            <a:ext cx="736632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888840" y="1333080"/>
            <a:ext cx="359460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63440" y="1333080"/>
            <a:ext cx="359460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1206000" y="355680"/>
            <a:ext cx="7721640" cy="376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888840" y="133308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63440" y="1333080"/>
            <a:ext cx="359460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888840" y="375480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88840" y="1333080"/>
            <a:ext cx="359460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63440" y="133308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63440" y="375480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88840" y="133308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63440" y="133308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888840" y="3754800"/>
            <a:ext cx="736632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888840" y="1333080"/>
            <a:ext cx="736632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888840" y="3754800"/>
            <a:ext cx="736632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888840" y="133308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63440" y="133308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888840" y="375480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63440" y="375480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06000" y="355680"/>
            <a:ext cx="7721640" cy="376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88840" y="1333080"/>
            <a:ext cx="237168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379320" y="1333080"/>
            <a:ext cx="237168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5870160" y="1333080"/>
            <a:ext cx="237168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888840" y="3754800"/>
            <a:ext cx="237168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379320" y="3754800"/>
            <a:ext cx="237168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5870160" y="3754800"/>
            <a:ext cx="237168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5C652-F922-400C-ABC9-B074F25A7421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888840" y="1333080"/>
            <a:ext cx="7366320" cy="463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7E1E1-3F90-4B69-A3F8-7D14A7263D96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888840" y="1333080"/>
            <a:ext cx="736632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91EDF-BC8E-4536-981F-D417AED541C3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888840" y="1333080"/>
            <a:ext cx="359460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63440" y="1333080"/>
            <a:ext cx="359460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79E08-297A-4480-99F1-1E8D53D73288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4A75F-0542-43B1-BDB9-C92DB2EE5FAE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1206000" y="355680"/>
            <a:ext cx="7721640" cy="376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C1091-8378-4930-A3C4-594CD12A0832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888840" y="133308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63440" y="1333080"/>
            <a:ext cx="359460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888840" y="375480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47ABD-14D2-4948-A653-69576D003B4C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888840" y="1333080"/>
            <a:ext cx="359460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63440" y="133308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663440" y="375480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8127B-E6C7-480E-A6C8-54471FCA04CC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888840" y="133308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63440" y="133308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888840" y="3754800"/>
            <a:ext cx="736632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84B38-50E9-4C91-A12C-3DD16B15A5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88840" y="133308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3440" y="1333080"/>
            <a:ext cx="359460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88840" y="375480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888840" y="1333080"/>
            <a:ext cx="736632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888840" y="3754800"/>
            <a:ext cx="736632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A6F39-963E-4B79-A882-44FA50413678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888840" y="133308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63440" y="133308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888840" y="375480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663440" y="375480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B7968-56BD-449A-8958-604B6349E203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888840" y="1333080"/>
            <a:ext cx="237168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379320" y="1333080"/>
            <a:ext cx="237168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5870160" y="1333080"/>
            <a:ext cx="237168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888840" y="3754800"/>
            <a:ext cx="237168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3379320" y="3754800"/>
            <a:ext cx="237168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5870160" y="3754800"/>
            <a:ext cx="237168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3E0AE-4A63-4F8D-8CAE-D0F6D30B5183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subTitle"/>
          </p:nvPr>
        </p:nvSpPr>
        <p:spPr>
          <a:xfrm>
            <a:off x="888840" y="1333080"/>
            <a:ext cx="7366320" cy="463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888840" y="1333080"/>
            <a:ext cx="736632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888840" y="1333080"/>
            <a:ext cx="359460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63440" y="1333080"/>
            <a:ext cx="359460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ubTitle"/>
          </p:nvPr>
        </p:nvSpPr>
        <p:spPr>
          <a:xfrm>
            <a:off x="1206000" y="355680"/>
            <a:ext cx="7721640" cy="376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888840" y="133308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63440" y="1333080"/>
            <a:ext cx="359460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888840" y="375480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88840" y="1333080"/>
            <a:ext cx="359460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3440" y="133308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3440" y="375480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888840" y="1333080"/>
            <a:ext cx="359460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63440" y="133308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663440" y="375480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888840" y="133308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63440" y="133308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888840" y="3754800"/>
            <a:ext cx="736632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888840" y="1333080"/>
            <a:ext cx="736632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888840" y="3754800"/>
            <a:ext cx="736632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888840" y="133308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63440" y="133308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888840" y="375480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663440" y="375480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888840" y="1333080"/>
            <a:ext cx="237168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3379320" y="1333080"/>
            <a:ext cx="237168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5870160" y="1333080"/>
            <a:ext cx="237168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888840" y="3754800"/>
            <a:ext cx="237168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402" name="PlaceHolder 6"/>
          <p:cNvSpPr>
            <a:spLocks noGrp="1"/>
          </p:cNvSpPr>
          <p:nvPr>
            <p:ph/>
          </p:nvPr>
        </p:nvSpPr>
        <p:spPr>
          <a:xfrm>
            <a:off x="3379320" y="3754800"/>
            <a:ext cx="237168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403" name="PlaceHolder 7"/>
          <p:cNvSpPr>
            <a:spLocks noGrp="1"/>
          </p:cNvSpPr>
          <p:nvPr>
            <p:ph/>
          </p:nvPr>
        </p:nvSpPr>
        <p:spPr>
          <a:xfrm>
            <a:off x="5870160" y="3754800"/>
            <a:ext cx="237168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888840" y="1333080"/>
            <a:ext cx="7366320" cy="463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888840" y="1333080"/>
            <a:ext cx="736632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888840" y="1333080"/>
            <a:ext cx="359460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63440" y="1333080"/>
            <a:ext cx="359460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88840" y="133308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3440" y="133308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88840" y="3754800"/>
            <a:ext cx="736632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1206000" y="355680"/>
            <a:ext cx="7721640" cy="376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888840" y="133308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63440" y="1333080"/>
            <a:ext cx="359460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888840" y="375480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888840" y="1333080"/>
            <a:ext cx="359460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63440" y="133308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63440" y="375480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888840" y="133308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3440" y="133308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888840" y="3754800"/>
            <a:ext cx="736632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888840" y="1333080"/>
            <a:ext cx="736632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888840" y="3754800"/>
            <a:ext cx="736632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888840" y="133308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63440" y="133308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888840" y="375480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63440" y="3754800"/>
            <a:ext cx="359460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888840" y="1333080"/>
            <a:ext cx="237168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379320" y="1333080"/>
            <a:ext cx="237168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5870160" y="1333080"/>
            <a:ext cx="237168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888840" y="3754800"/>
            <a:ext cx="237168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379320" y="3754800"/>
            <a:ext cx="237168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5870160" y="3754800"/>
            <a:ext cx="2371680" cy="221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subTitle"/>
          </p:nvPr>
        </p:nvSpPr>
        <p:spPr>
          <a:xfrm>
            <a:off x="888840" y="1333080"/>
            <a:ext cx="7366320" cy="463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888840" y="1333080"/>
            <a:ext cx="736632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88840" y="1879200"/>
            <a:ext cx="736632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e603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be6030"/>
              </a:solidFill>
              <a:latin typeface="Verdana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-228600"/>
            <a:ext cx="9191520" cy="142236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 rot="19007400">
            <a:off x="-329760" y="297000"/>
            <a:ext cx="1751040" cy="355320"/>
          </a:xfrm>
          <a:prstGeom prst="rect">
            <a:avLst/>
          </a:prstGeom>
          <a:solidFill>
            <a:srgbClr val="bd02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Grande"/>
                <a:ea typeface="Lucida Grande"/>
              </a:rPr>
              <a:t>HellasGr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-596880" y="3822840"/>
            <a:ext cx="10147320" cy="3035160"/>
          </a:xfrm>
          <a:prstGeom prst="roundRect">
            <a:avLst>
              <a:gd name="adj" fmla="val 6273"/>
            </a:avLst>
          </a:prstGeom>
          <a:solidFill>
            <a:srgbClr val="ebebeb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algn="ctr">
              <a:buClr>
                <a:srgbClr val="000000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algn="ctr">
              <a:buClr>
                <a:srgbClr val="000000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algn="ctr">
              <a:buClr>
                <a:srgbClr val="000000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888840" y="177840"/>
            <a:ext cx="7366320" cy="171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5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888480" y="1942920"/>
            <a:ext cx="3543480" cy="4025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3000"/>
          </a:bodyPr>
          <a:p>
            <a:pPr marL="418680" indent="-271080">
              <a:spcBef>
                <a:spcPts val="2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671760" indent="-271080">
              <a:spcBef>
                <a:spcPts val="2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2" marL="935280" indent="-271080">
              <a:spcBef>
                <a:spcPts val="2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3" marL="1198800" indent="-271440">
              <a:spcBef>
                <a:spcPts val="2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4" marL="1451880" indent="-271440">
              <a:spcBef>
                <a:spcPts val="2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5" marL="1451880" indent="-271440">
              <a:spcBef>
                <a:spcPts val="2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6" marL="1451880" indent="-271440">
              <a:spcBef>
                <a:spcPts val="2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888840" y="177840"/>
            <a:ext cx="7366320" cy="171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5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5447880" y="1942920"/>
            <a:ext cx="2806920" cy="4025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0000"/>
          </a:bodyPr>
          <a:p>
            <a:pPr marL="353160" indent="-228600">
              <a:spcBef>
                <a:spcPts val="2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566640" indent="-228600">
              <a:spcBef>
                <a:spcPts val="2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2" marL="788760" indent="-228600">
              <a:spcBef>
                <a:spcPts val="2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3" marL="1011240" indent="-228960">
              <a:spcBef>
                <a:spcPts val="2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4" marL="1224720" indent="-228960">
              <a:spcBef>
                <a:spcPts val="2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5" marL="1224720" indent="-228960">
              <a:spcBef>
                <a:spcPts val="2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6" marL="1224720" indent="-228960">
              <a:spcBef>
                <a:spcPts val="2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5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888840" y="177840"/>
            <a:ext cx="7366320" cy="171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5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888480" y="1942920"/>
            <a:ext cx="3543480" cy="4025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3000"/>
          </a:bodyPr>
          <a:p>
            <a:pPr marL="418680" indent="-271080">
              <a:spcBef>
                <a:spcPts val="2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671760" indent="-271080">
              <a:spcBef>
                <a:spcPts val="2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2" marL="935280" indent="-271080">
              <a:spcBef>
                <a:spcPts val="2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3" marL="1198800" indent="-271440">
              <a:spcBef>
                <a:spcPts val="2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4" marL="1451880" indent="-271440">
              <a:spcBef>
                <a:spcPts val="2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5" marL="1451880" indent="-271440">
              <a:spcBef>
                <a:spcPts val="2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6" marL="1451880" indent="-271440">
              <a:spcBef>
                <a:spcPts val="2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888840" y="1333080"/>
            <a:ext cx="736632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36680" indent="-258840">
              <a:spcBef>
                <a:spcPts val="1599"/>
              </a:spcBef>
              <a:buClr>
                <a:srgbClr val="c36a3d"/>
              </a:buClr>
              <a:buSzPct val="38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36a3d"/>
                </a:solidFill>
                <a:latin typeface="Verdana"/>
              </a:rPr>
              <a:t>Click to edit the outline text format</a:t>
            </a: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  <a:p>
            <a:pPr lvl="1" marL="725400" indent="-242640">
              <a:spcBef>
                <a:spcPts val="1599"/>
              </a:spcBef>
              <a:buClr>
                <a:srgbClr val="c36a3d"/>
              </a:buClr>
              <a:buSzPct val="38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36a3d"/>
                </a:solidFill>
                <a:latin typeface="Verdana"/>
              </a:rPr>
              <a:t>Second Outline Level</a:t>
            </a: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  <a:p>
            <a:pPr lvl="2" marL="1058760" indent="-258480">
              <a:spcBef>
                <a:spcPts val="1599"/>
              </a:spcBef>
              <a:buClr>
                <a:srgbClr val="c36a3d"/>
              </a:buClr>
              <a:buSzPct val="38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36a3d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  <a:p>
            <a:pPr lvl="3" marL="1376280" indent="-258840">
              <a:spcBef>
                <a:spcPts val="1599"/>
              </a:spcBef>
              <a:buClr>
                <a:srgbClr val="c36a3d"/>
              </a:buClr>
              <a:buSzPct val="38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36a3d"/>
                </a:solidFill>
                <a:latin typeface="Verdana"/>
              </a:rPr>
              <a:t>Fourth Outline Level</a:t>
            </a: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  <a:p>
            <a:pPr lvl="4" marL="1681200" indent="-258840">
              <a:spcBef>
                <a:spcPts val="1599"/>
              </a:spcBef>
              <a:buClr>
                <a:srgbClr val="c36a3d"/>
              </a:buClr>
              <a:buSzPct val="38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36a3d"/>
                </a:solidFill>
                <a:latin typeface="Verdana"/>
              </a:rPr>
              <a:t>Fifth Outline Level</a:t>
            </a: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  <a:p>
            <a:pPr lvl="5" marL="1681200" indent="-258840">
              <a:spcBef>
                <a:spcPts val="1599"/>
              </a:spcBef>
              <a:buClr>
                <a:srgbClr val="000000"/>
              </a:buClr>
              <a:buSzPct val="38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36a3d"/>
                </a:solidFill>
                <a:latin typeface="Verdana"/>
              </a:rPr>
              <a:t>Sixth Outline Level</a:t>
            </a: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  <a:p>
            <a:pPr lvl="6" marL="1681200" indent="-258840">
              <a:spcBef>
                <a:spcPts val="1599"/>
              </a:spcBef>
              <a:buClr>
                <a:srgbClr val="000000"/>
              </a:buClr>
              <a:buSzPct val="38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36a3d"/>
                </a:solidFill>
                <a:latin typeface="Verdana"/>
              </a:rPr>
              <a:t>Seventh Outline Level</a:t>
            </a: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42" name=""/>
          <p:cNvSpPr/>
          <p:nvPr/>
        </p:nvSpPr>
        <p:spPr>
          <a:xfrm>
            <a:off x="0" y="6502320"/>
            <a:ext cx="9144000" cy="355680"/>
          </a:xfrm>
          <a:prstGeom prst="rect">
            <a:avLst/>
          </a:prstGeom>
          <a:solidFill>
            <a:srgbClr val="bdbdbd"/>
          </a:solidFill>
          <a:ln w="12600">
            <a:solidFill>
              <a:srgbClr val="6565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-228600"/>
            <a:ext cx="9191520" cy="14223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 rot="19007400">
            <a:off x="-355680" y="283680"/>
            <a:ext cx="1751040" cy="355680"/>
          </a:xfrm>
          <a:prstGeom prst="rect">
            <a:avLst/>
          </a:prstGeom>
          <a:solidFill>
            <a:srgbClr val="bd02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Verdana"/>
              </a:rPr>
              <a:t>HellasGrid 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1"/>
          </p:nvPr>
        </p:nvSpPr>
        <p:spPr>
          <a:xfrm>
            <a:off x="8780040" y="6540120"/>
            <a:ext cx="281160" cy="26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19191"/>
                </a:solidFill>
                <a:latin typeface="Lucida Grande"/>
                <a:ea typeface="Lucida Gran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BD05D-2BB2-4DC8-9651-6ADD85986D74}" type="slidenum">
              <a:rPr b="0" lang="en-US" sz="1200" spc="-1" strike="noStrike">
                <a:solidFill>
                  <a:srgbClr val="919191"/>
                </a:solidFill>
                <a:latin typeface="Lucida Grande"/>
                <a:ea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8160" y="6572160"/>
            <a:ext cx="6184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19191"/>
                </a:solidFill>
                <a:latin typeface="Verdana"/>
                <a:ea typeface="Verdana"/>
              </a:rPr>
              <a:t>16th EUGridPMA Meeting, 13 May 2009, Zuri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body"/>
          </p:nvPr>
        </p:nvSpPr>
        <p:spPr>
          <a:xfrm>
            <a:off x="888840" y="888840"/>
            <a:ext cx="7366320" cy="5080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0000"/>
          </a:bodyPr>
          <a:p>
            <a:pPr marL="509760" indent="-349920">
              <a:spcBef>
                <a:spcPts val="33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84080" indent="-349920">
              <a:spcBef>
                <a:spcPts val="33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1069920" indent="-349920">
              <a:spcBef>
                <a:spcPts val="33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1355760" indent="-349920">
              <a:spcBef>
                <a:spcPts val="33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marL="1629720" indent="-349920">
              <a:spcBef>
                <a:spcPts val="33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5" marL="1629720" indent="-349920">
              <a:spcBef>
                <a:spcPts val="33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6" marL="1629720" indent="-349920">
              <a:spcBef>
                <a:spcPts val="33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" name=""/>
          <p:cNvGrpSpPr/>
          <p:nvPr/>
        </p:nvGrpSpPr>
        <p:grpSpPr>
          <a:xfrm>
            <a:off x="0" y="3124080"/>
            <a:ext cx="9144000" cy="3581280"/>
            <a:chOff x="0" y="3124080"/>
            <a:chExt cx="9144000" cy="3581280"/>
          </a:xfrm>
        </p:grpSpPr>
        <p:sp>
          <p:nvSpPr>
            <p:cNvPr id="122" name=""/>
            <p:cNvSpPr/>
            <p:nvPr/>
          </p:nvSpPr>
          <p:spPr>
            <a:xfrm>
              <a:off x="0" y="3429000"/>
              <a:ext cx="9144000" cy="8380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26262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0" y="4267080"/>
              <a:ext cx="9144000" cy="1828800"/>
            </a:xfrm>
            <a:prstGeom prst="rect">
              <a:avLst/>
            </a:prstGeom>
            <a:gradFill rotWithShape="0">
              <a:gsLst>
                <a:gs pos="0">
                  <a:srgbClr val="262626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52280" y="312408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04920" y="312408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57200" y="312408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09480" y="312408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0" y="312408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62120" y="312408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914400" y="312408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066680" y="312408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219320" y="312408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371600" y="312408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523880" y="312408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676520" y="312408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828800" y="312408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981080" y="312408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133720" y="312408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286000" y="312408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438280" y="312408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590920" y="3124080"/>
              <a:ext cx="15228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743200" y="312408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895480" y="312408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048120" y="312408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200400" y="312408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352680" y="312408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505320" y="312408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657600" y="312408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809880" y="312408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962520" y="312408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114800" y="312408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267080" y="312408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419720" y="312408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572000" y="312408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724280" y="312408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876920" y="312408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029200" y="312408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181480" y="312408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334120" y="312408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486400" y="312408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638680" y="312408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791320" y="312408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943600" y="312408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019920" y="3124080"/>
              <a:ext cx="15228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248520" y="312408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400800" y="312408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553080" y="312408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705720" y="312408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58000" y="312408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010280" y="312408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162920" y="312408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315200" y="312408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467480" y="312408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620120" y="312408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772400" y="312408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924680" y="312408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077320" y="312408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229600" y="312408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8381880" y="312408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8534520" y="312408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8686800" y="312408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8839080" y="312408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8991720" y="312408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0" y="4343400"/>
              <a:ext cx="9144000" cy="75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82844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40680" tIns="0" bIns="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1371600" y="3885840"/>
            <a:ext cx="6400800" cy="2971800"/>
          </a:xfrm>
          <a:prstGeom prst="rect">
            <a:avLst/>
          </a:prstGeom>
          <a:noFill/>
          <a:ln w="0">
            <a:noFill/>
          </a:ln>
        </p:spPr>
        <p:txBody>
          <a:bodyPr lIns="50760" rIns="142200" tIns="50760" bIns="50760" anchor="t">
            <a:normAutofit fontScale="65000"/>
          </a:bodyPr>
          <a:p>
            <a:pPr marL="91440" indent="0"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1440" indent="-65880" algn="ctr">
              <a:lnSpc>
                <a:spcPct val="110000"/>
              </a:lnSpc>
              <a:spcBef>
                <a:spcPts val="799"/>
              </a:spcBef>
              <a:buClr>
                <a:srgbClr val="ff8000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1440" indent="-65880" algn="ctr">
              <a:lnSpc>
                <a:spcPct val="110000"/>
              </a:lnSpc>
              <a:spcBef>
                <a:spcPts val="799"/>
              </a:spcBef>
              <a:buClr>
                <a:srgbClr val="99cc00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91440" indent="-65880" algn="ctr">
              <a:lnSpc>
                <a:spcPct val="110000"/>
              </a:lnSpc>
              <a:spcBef>
                <a:spcPts val="799"/>
              </a:spcBef>
              <a:buClr>
                <a:srgbClr val="4068ac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91440" indent="-65880" algn="ctr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91440" indent="-65880" algn="ctr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91440" indent="-65880" algn="ctr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rot="16200000">
            <a:off x="3869280" y="1003680"/>
            <a:ext cx="150840" cy="4844880"/>
          </a:xfrm>
          <a:prstGeom prst="pi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 type="sldNum" idx="2"/>
          </p:nvPr>
        </p:nvSpPr>
        <p:spPr>
          <a:xfrm>
            <a:off x="8034480" y="6248520"/>
            <a:ext cx="31248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FAEC5-F76B-4B47-A9E1-8B485F87C158}" type="slidenum"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88840" y="2095200"/>
            <a:ext cx="7366320" cy="26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5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2" name=""/>
          <p:cNvGrpSpPr/>
          <p:nvPr/>
        </p:nvGrpSpPr>
        <p:grpSpPr>
          <a:xfrm>
            <a:off x="0" y="2286000"/>
            <a:ext cx="9144000" cy="3581280"/>
            <a:chOff x="0" y="2286000"/>
            <a:chExt cx="9144000" cy="3581280"/>
          </a:xfrm>
        </p:grpSpPr>
        <p:sp>
          <p:nvSpPr>
            <p:cNvPr id="263" name=""/>
            <p:cNvSpPr/>
            <p:nvPr/>
          </p:nvSpPr>
          <p:spPr>
            <a:xfrm>
              <a:off x="0" y="2590920"/>
              <a:ext cx="9144000" cy="8380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26262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0" y="3429000"/>
              <a:ext cx="9144000" cy="1828800"/>
            </a:xfrm>
            <a:prstGeom prst="rect">
              <a:avLst/>
            </a:prstGeom>
            <a:gradFill rotWithShape="0">
              <a:gsLst>
                <a:gs pos="0">
                  <a:srgbClr val="262626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522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049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572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094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7621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9144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0666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2193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3716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5238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6765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8288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9810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1337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2860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4382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590920" y="2286000"/>
              <a:ext cx="15228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7432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8954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0481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32004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33526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5053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6576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8098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9625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1148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2670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4197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5720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7242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8769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0292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51814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3341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4864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56386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57913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436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019920" y="2286000"/>
              <a:ext cx="15228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2485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4008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5530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7057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8580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70102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71629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73152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74674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76201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7724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9246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80773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82296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83818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85345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86868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88390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89917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0" y="3505320"/>
              <a:ext cx="9144000" cy="75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71320" y="302760"/>
            <a:ext cx="8001000" cy="1677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571320" y="1980720"/>
            <a:ext cx="800100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142200" tIns="50760" bIns="50760" anchor="t">
            <a:normAutofit/>
          </a:bodyPr>
          <a:p>
            <a:pPr marL="442800" indent="-35244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07920" indent="-350640">
              <a:lnSpc>
                <a:spcPct val="110000"/>
              </a:lnSpc>
              <a:spcBef>
                <a:spcPts val="799"/>
              </a:spcBef>
              <a:buClr>
                <a:srgbClr val="ff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360440" indent="-317520">
              <a:lnSpc>
                <a:spcPct val="110000"/>
              </a:lnSpc>
              <a:spcBef>
                <a:spcPts val="799"/>
              </a:spcBef>
              <a:buClr>
                <a:srgbClr val="99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833480" indent="-301680">
              <a:lnSpc>
                <a:spcPct val="110000"/>
              </a:lnSpc>
              <a:spcBef>
                <a:spcPts val="799"/>
              </a:spcBef>
              <a:buClr>
                <a:srgbClr val="4068a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36760" indent="-29520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36760" indent="-29520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36760" indent="-29520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 type="sldNum" idx="3"/>
          </p:nvPr>
        </p:nvSpPr>
        <p:spPr>
          <a:xfrm>
            <a:off x="8034480" y="6248520"/>
            <a:ext cx="31248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BC039-8187-4132-98C0-3436400A6BBF}" type="slidenum"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2"/>
          <a:stretch/>
        </p:blipFill>
        <p:spPr>
          <a:xfrm>
            <a:off x="685800" y="1652760"/>
            <a:ext cx="3962520" cy="137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5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888840" y="5181480"/>
            <a:ext cx="7366320" cy="12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5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5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5" name="PlaceHolder 1"/>
          <p:cNvSpPr>
            <a:spLocks noGrp="1"/>
          </p:cNvSpPr>
          <p:nvPr>
            <p:ph type="body"/>
          </p:nvPr>
        </p:nvSpPr>
        <p:spPr>
          <a:xfrm>
            <a:off x="406440" y="3378240"/>
            <a:ext cx="4178160" cy="232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6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title"/>
          </p:nvPr>
        </p:nvSpPr>
        <p:spPr>
          <a:xfrm>
            <a:off x="406440" y="990720"/>
            <a:ext cx="4178160" cy="232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888840" y="177840"/>
            <a:ext cx="7366320" cy="171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5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ctria@grid.auth.gr" TargetMode="Externa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888840" y="1447920"/>
            <a:ext cx="736632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e6030"/>
                </a:solidFill>
                <a:latin typeface="Verdana"/>
              </a:rPr>
              <a:t>Towards Managed Credential Stores and a “national” virtual smart card</a:t>
            </a:r>
            <a:endParaRPr b="0" lang="en-US" sz="4000" spc="-1" strike="noStrike">
              <a:solidFill>
                <a:srgbClr val="be6030"/>
              </a:solidFill>
              <a:latin typeface="Verdana"/>
            </a:endParaRPr>
          </a:p>
        </p:txBody>
      </p:sp>
      <p:sp>
        <p:nvSpPr>
          <p:cNvPr id="632" name=""/>
          <p:cNvSpPr/>
          <p:nvPr/>
        </p:nvSpPr>
        <p:spPr>
          <a:xfrm>
            <a:off x="2133720" y="4965840"/>
            <a:ext cx="6858000" cy="17269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496800" algn="r">
              <a:lnSpc>
                <a:spcPct val="98000"/>
              </a:lnSpc>
              <a:spcBef>
                <a:spcPts val="5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96800" algn="r">
              <a:lnSpc>
                <a:spcPct val="98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Arial"/>
                <a:ea typeface="Arial"/>
              </a:rPr>
              <a:t>Christos Kanellopoulos (skanct@grid.auth.g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96800" algn="r">
              <a:lnSpc>
                <a:spcPct val="98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Arial"/>
                <a:ea typeface="Arial"/>
              </a:rPr>
              <a:t>Christos Triantafyllidis (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1"/>
              </a:rPr>
              <a:t>ctria@grid.auth.gr</a:t>
            </a:r>
            <a:r>
              <a:rPr b="0" lang="en-US" sz="1800" spc="-1" strike="noStrike">
                <a:solidFill>
                  <a:srgbClr val="ff6600"/>
                </a:solidFill>
                <a:latin typeface="Arial"/>
                <a:ea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96800" algn="r">
              <a:lnSpc>
                <a:spcPct val="98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Arial"/>
                <a:ea typeface="Arial"/>
              </a:rPr>
              <a:t>16th EUGridPMA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96800" algn="r">
              <a:lnSpc>
                <a:spcPct val="98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Arial"/>
                <a:ea typeface="Arial"/>
              </a:rPr>
              <a:t>Zurich, 13 May 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3" name="" descr=""/>
          <p:cNvPicPr/>
          <p:nvPr/>
        </p:nvPicPr>
        <p:blipFill>
          <a:blip r:embed="rId2"/>
          <a:stretch/>
        </p:blipFill>
        <p:spPr>
          <a:xfrm>
            <a:off x="-152280" y="3809880"/>
            <a:ext cx="9816840" cy="114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e problem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888840" y="1333080"/>
            <a:ext cx="736632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87440" indent="-258840">
              <a:lnSpc>
                <a:spcPct val="100000"/>
              </a:lnSpc>
              <a:spcBef>
                <a:spcPts val="15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36a3d"/>
                </a:solidFill>
                <a:latin typeface="Verdana"/>
              </a:rPr>
              <a:t>It has been stated numerous times: </a:t>
            </a:r>
            <a:r>
              <a:rPr b="0" lang="en-US" sz="2200" spc="-1" strike="noStrike" u="sng">
                <a:solidFill>
                  <a:srgbClr val="c36a3d"/>
                </a:solidFill>
                <a:uFillTx/>
                <a:latin typeface="Verdana"/>
              </a:rPr>
              <a:t>The users do not want to deal with certificates</a:t>
            </a: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C7E01D-176D-4B3C-B9DE-CAEB74BECBF9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till..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888840" y="1333080"/>
            <a:ext cx="736632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87440" indent="-258840">
              <a:lnSpc>
                <a:spcPct val="100000"/>
              </a:lnSpc>
              <a:spcBef>
                <a:spcPts val="15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36a3d"/>
                </a:solidFill>
                <a:latin typeface="Verdana"/>
              </a:rPr>
              <a:t>they are a proven technology for working on distributed computing infrastructures</a:t>
            </a: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  <a:p>
            <a:pPr marL="487440" indent="-258840">
              <a:lnSpc>
                <a:spcPct val="100000"/>
              </a:lnSpc>
              <a:spcBef>
                <a:spcPts val="15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36a3d"/>
                </a:solidFill>
                <a:latin typeface="Verdana"/>
              </a:rPr>
              <a:t>and most importantly the provide a solution NOW</a:t>
            </a: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59CB17-6A34-472E-B71D-B7F67F318F92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How to make the user experience better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888840" y="1333440"/>
            <a:ext cx="7366320" cy="4965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87440" indent="-258840">
              <a:lnSpc>
                <a:spcPct val="100000"/>
              </a:lnSpc>
              <a:spcBef>
                <a:spcPts val="15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36a3d"/>
                </a:solidFill>
                <a:latin typeface="Verdana"/>
              </a:rPr>
              <a:t>Try to move many of the standard operations to the web (registering to the grid, joining VOs, accessing UIs </a:t>
            </a:r>
            <a:r>
              <a:rPr b="0" i="1" lang="en-US" sz="2200" spc="-1" strike="noStrike">
                <a:solidFill>
                  <a:srgbClr val="c36a3d"/>
                </a:solidFill>
                <a:latin typeface="Verdana"/>
              </a:rPr>
              <a:t>[14th EUGridPMA meeting, Lisbon]</a:t>
            </a:r>
            <a:r>
              <a:rPr b="0" lang="en-US" sz="2200" spc="-1" strike="noStrike">
                <a:solidFill>
                  <a:srgbClr val="c36a3d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  <a:p>
            <a:pPr marL="487440" indent="-258840">
              <a:lnSpc>
                <a:spcPct val="100000"/>
              </a:lnSpc>
              <a:spcBef>
                <a:spcPts val="15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36a3d"/>
                </a:solidFill>
                <a:latin typeface="Verdana"/>
              </a:rPr>
              <a:t>Leverage emerging national AAI as a more user friendly service for the user</a:t>
            </a: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  <a:p>
            <a:pPr marL="487440" indent="-258840">
              <a:lnSpc>
                <a:spcPct val="100000"/>
              </a:lnSpc>
              <a:spcBef>
                <a:spcPts val="15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36a3d"/>
                </a:solidFill>
                <a:latin typeface="Verdana"/>
              </a:rPr>
              <a:t>Use MyProxy service for long term proxy storage. Retrieve proxies on  demand. What about security?</a:t>
            </a: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  <a:p>
            <a:pPr marL="487440" indent="-258840">
              <a:lnSpc>
                <a:spcPct val="100000"/>
              </a:lnSpc>
              <a:spcBef>
                <a:spcPts val="15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36a3d"/>
                </a:solidFill>
                <a:latin typeface="Verdana"/>
              </a:rPr>
              <a:t>User convenience vs  Security !!</a:t>
            </a: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396C29-7C0D-40FE-9ED3-B6A395C5C29A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urity vs common practic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888840" y="1333440"/>
            <a:ext cx="7366320" cy="5130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87440" indent="-258840">
              <a:lnSpc>
                <a:spcPct val="100000"/>
              </a:lnSpc>
              <a:spcBef>
                <a:spcPts val="15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36a3d"/>
                </a:solidFill>
                <a:latin typeface="Verdana"/>
              </a:rPr>
              <a:t>Almost all users generate their key pairs through the browser facilities</a:t>
            </a: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  <a:p>
            <a:pPr marL="487440" indent="-258840">
              <a:lnSpc>
                <a:spcPct val="100000"/>
              </a:lnSpc>
              <a:spcBef>
                <a:spcPts val="15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36a3d"/>
                </a:solidFill>
                <a:latin typeface="Verdana"/>
              </a:rPr>
              <a:t>The private keys can be exported from the keystore of the browser</a:t>
            </a: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  <a:p>
            <a:pPr marL="487440" indent="-258840">
              <a:lnSpc>
                <a:spcPct val="100000"/>
              </a:lnSpc>
              <a:spcBef>
                <a:spcPts val="15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36a3d"/>
                </a:solidFill>
                <a:latin typeface="Verdana"/>
              </a:rPr>
              <a:t>It is up to the user to configure the keystore in order to set a pass-phrase for accessing its contents</a:t>
            </a: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  <a:p>
            <a:pPr marL="487440" indent="-258840">
              <a:lnSpc>
                <a:spcPct val="100000"/>
              </a:lnSpc>
              <a:spcBef>
                <a:spcPts val="15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36a3d"/>
                </a:solidFill>
                <a:latin typeface="Verdana"/>
              </a:rPr>
              <a:t>The private keys are also stored on a UI protected by filesystem ACLs</a:t>
            </a: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  <a:p>
            <a:pPr marL="487440" indent="-258840">
              <a:lnSpc>
                <a:spcPct val="100000"/>
              </a:lnSpc>
              <a:spcBef>
                <a:spcPts val="15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36a3d"/>
                </a:solidFill>
                <a:latin typeface="Verdana"/>
              </a:rPr>
              <a:t>Users store long term proxies on various MyProxy services for their convenience.</a:t>
            </a: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6D0295-6389-4AFD-896C-7A2462365A2D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ommon problem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888840" y="1333080"/>
            <a:ext cx="736632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87440" indent="-258840">
              <a:lnSpc>
                <a:spcPct val="100000"/>
              </a:lnSpc>
              <a:spcBef>
                <a:spcPts val="15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36a3d"/>
                </a:solidFill>
                <a:latin typeface="Verdana"/>
              </a:rPr>
              <a:t>Browser incompatibilities (IE6 vs IE7 vs IE8 vs Firefox vs Chrome etc etc)</a:t>
            </a: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  <a:p>
            <a:pPr marL="487440" indent="-258840">
              <a:lnSpc>
                <a:spcPct val="100000"/>
              </a:lnSpc>
              <a:spcBef>
                <a:spcPts val="15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36a3d"/>
                </a:solidFill>
                <a:latin typeface="Verdana"/>
              </a:rPr>
              <a:t>How to transfer their certificates from the browser to the UI (or the other way around)</a:t>
            </a: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  <a:p>
            <a:pPr marL="487440" indent="-258840">
              <a:lnSpc>
                <a:spcPct val="100000"/>
              </a:lnSpc>
              <a:spcBef>
                <a:spcPts val="15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36a3d"/>
                </a:solidFill>
                <a:latin typeface="Verdana"/>
              </a:rPr>
              <a:t>Forgetting passphrases</a:t>
            </a: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  <a:p>
            <a:pPr marL="487440" indent="-258840">
              <a:lnSpc>
                <a:spcPct val="100000"/>
              </a:lnSpc>
              <a:spcBef>
                <a:spcPts val="15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36a3d"/>
                </a:solidFill>
                <a:latin typeface="Verdana"/>
              </a:rPr>
              <a:t>Losing the private keys</a:t>
            </a: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96341F-2C7D-4859-9286-8D89E2E7773B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ommon User Practic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888840" y="1333080"/>
            <a:ext cx="736632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87440" indent="-258840">
              <a:lnSpc>
                <a:spcPct val="100000"/>
              </a:lnSpc>
              <a:spcBef>
                <a:spcPts val="15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36a3d"/>
                </a:solidFill>
                <a:latin typeface="Verdana"/>
              </a:rPr>
              <a:t>Almost all users generate their key pairs through the browser facilities</a:t>
            </a: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  <a:p>
            <a:pPr marL="487440" indent="-258840">
              <a:lnSpc>
                <a:spcPct val="100000"/>
              </a:lnSpc>
              <a:spcBef>
                <a:spcPts val="15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36a3d"/>
                </a:solidFill>
                <a:latin typeface="Verdana"/>
              </a:rPr>
              <a:t>The private keys can be exported from the keystore of the browser</a:t>
            </a: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  <a:p>
            <a:pPr marL="487440" indent="-258840">
              <a:lnSpc>
                <a:spcPct val="100000"/>
              </a:lnSpc>
              <a:spcBef>
                <a:spcPts val="15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36a3d"/>
                </a:solidFill>
                <a:latin typeface="Verdana"/>
              </a:rPr>
              <a:t>It is up to the user to configure the keystore in order to set a pass-phrase for accessing its contents</a:t>
            </a: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  <a:p>
            <a:pPr marL="487440" indent="-258840">
              <a:lnSpc>
                <a:spcPct val="100000"/>
              </a:lnSpc>
              <a:spcBef>
                <a:spcPts val="15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36a3d"/>
                </a:solidFill>
                <a:latin typeface="Verdana"/>
              </a:rPr>
              <a:t>The private keys are also stored on a UI protected by filesystem ACLs </a:t>
            </a: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F23C5E-9604-4C2F-BBBE-5EA91063739B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n the works..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888840" y="1333080"/>
            <a:ext cx="736632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87440" indent="-258840">
              <a:lnSpc>
                <a:spcPct val="100000"/>
              </a:lnSpc>
              <a:spcBef>
                <a:spcPts val="15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36a3d"/>
                </a:solidFill>
                <a:latin typeface="Verdana"/>
              </a:rPr>
              <a:t>On the HellasGrid Training Infrastructure we are focusing on using Greek National AAI in order to provide on demand generation and delivery of key pairs.</a:t>
            </a: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  <a:p>
            <a:pPr marL="487440" indent="-258840">
              <a:lnSpc>
                <a:spcPct val="100000"/>
              </a:lnSpc>
              <a:spcBef>
                <a:spcPts val="15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36a3d"/>
                </a:solidFill>
                <a:latin typeface="Verdana"/>
              </a:rPr>
              <a:t>One MyProxy service as an online CA, to generate and store user key pairs</a:t>
            </a: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  <a:p>
            <a:pPr marL="487440" indent="-258840">
              <a:lnSpc>
                <a:spcPct val="100000"/>
              </a:lnSpc>
              <a:spcBef>
                <a:spcPts val="15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36a3d"/>
                </a:solidFill>
                <a:latin typeface="Verdana"/>
              </a:rPr>
              <a:t>Use the production MyProxy service  to use for proxy storage and delegation.</a:t>
            </a: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F1C5B3-AC49-44C5-8B16-E02A34FE90F3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206000" y="355680"/>
            <a:ext cx="7721640" cy="8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dvantages..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888840" y="1333440"/>
            <a:ext cx="7366320" cy="5181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2" marL="1109520" indent="-258480">
              <a:lnSpc>
                <a:spcPct val="100000"/>
              </a:lnSpc>
              <a:spcBef>
                <a:spcPts val="1599"/>
              </a:spcBef>
              <a:buSzPct val="100000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36a3d"/>
                </a:solidFill>
                <a:latin typeface="Verdana"/>
              </a:rPr>
              <a:t>The user does not have to deal with private/public key generation</a:t>
            </a: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  <a:p>
            <a:pPr lvl="2" marL="1109520" indent="-258480">
              <a:lnSpc>
                <a:spcPct val="100000"/>
              </a:lnSpc>
              <a:spcBef>
                <a:spcPts val="1599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36a3d"/>
                </a:solidFill>
                <a:latin typeface="Verdana"/>
              </a:rPr>
              <a:t>For normal grid usage the user just uses proxies and thus the private key pair does not have to be exposed in a large number of places.</a:t>
            </a: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  <a:p>
            <a:pPr lvl="2" marL="1109520" indent="-258480">
              <a:lnSpc>
                <a:spcPct val="100000"/>
              </a:lnSpc>
              <a:spcBef>
                <a:spcPts val="1599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36a3d"/>
                </a:solidFill>
                <a:latin typeface="Verdana"/>
              </a:rPr>
              <a:t>In case the user accidentally loses the key pair they can retrieve it again from the service.</a:t>
            </a:r>
            <a:endParaRPr b="0" lang="en-US" sz="2200" spc="-1" strike="noStrike">
              <a:solidFill>
                <a:srgbClr val="c36a3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B2BDDC-3453-4DC0-9114-8B3427F3A935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os Triantafyllidis</dc:creator>
  <dc:description/>
  <dc:language>en-US</dc:language>
  <cp:lastModifiedBy/>
  <cp:revision>0</cp:revision>
  <dc:subject/>
  <dc:title>HellasGrid CA - RA Duties</dc:title>
</cp:coreProperties>
</file>