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AF76C-5E12-4F97-BCBB-B4F8A6D1F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4F24A-28E9-4AA0-8269-AA1726C13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67A8A-D4AC-4256-B647-186FD64B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B7245-EB6E-40EF-B96D-B168A948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E4B2E-0084-4956-AE4C-9DC61521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95B16-EC02-43D3-82DE-55596C834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CCC8E-97E4-47A6-93DF-A01FC15B4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 Termination: should define clearly in Charter how to terminate a CA if the operation project/institute ends before CA lif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807D2-D308-4421-917B-54D482283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278604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Ber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1353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6 +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343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and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updates since Zurich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ID status in APGridP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 Completed : HKU, IGCA, KISTI, APAC, ASGCCA, NECTEC GOC-CA and NCH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 In Progres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KEK, NAREGI and PRAGMA-UCSD (wait for NAREGI new pat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, IHEP and NGO/Netrust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GTF RAT communicatio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y need to reply within one business 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ct time : Aug 25 – 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sult: all APGridPMA members complet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4% responded within one da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6% responded afte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reque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GridPMA Services migration to ASGC is under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eb site, Nagios, Mirror of IGTF distrib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w member in Asia Pa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(Mongolian University of Science and Technology ) is preparing CP/C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907920"/>
            <a:ext cx="8497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ff, Canada, in conjunction with OGF27 and Grid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pected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APAC/ARCS, ASGC, NAREGI/N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may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genda from APGridPMA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Policy implemened in APGridP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/Membership Termination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olls of APAC have been taken over by AR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 SL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y generation by a 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0:50:08Z</dcterms:created>
  <dc:creator>David Groep</dc:creator>
  <dc:description/>
  <dc:language>en-US</dc:language>
  <cp:lastModifiedBy>Yoshio Tanaka</cp:lastModifiedBy>
  <dcterms:modified xsi:type="dcterms:W3CDTF">2009-09-14T07:53:46Z</dcterms:modified>
  <cp:revision>131</cp:revision>
  <dc:subject/>
  <dc:title>International Grid Trust Federation Session  GGF 18 Washington, DC, USA</dc:title>
</cp:coreProperties>
</file>