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1E45F1-079A-498C-A54C-3CAABB38F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9A9AAC-FAE6-4FEF-A0B5-52D045DB6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022460-C157-412E-8E6E-3FC29E86D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D444B5-26B1-4145-A2EC-934720837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4F4221-E097-4A90-8A05-5795828B3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050560" y="274320"/>
            <a:ext cx="663588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B20739-A080-4E93-B98C-21ECEE0BA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72313C-35AB-4514-9DF3-4292295D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718521-116C-4284-AF7D-6C78CA16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98FA44-B61C-403C-AB29-CEBF599D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6188B2-094E-4A86-A8FB-925700F91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2E7E47-52B0-4DD7-B0E3-1A279C8A9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EBA63A-19A1-4EC7-93CF-1E2E2BE3C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050560" y="274320"/>
            <a:ext cx="663588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484000" y="6237000"/>
            <a:ext cx="50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cott Rea – </a:t>
            </a:r>
            <a:r>
              <a:rPr b="1" lang="en-GB" sz="1400" spc="-1" strike="noStrike" u="sng">
                <a:solidFill>
                  <a:srgbClr val="0000ff"/>
                </a:solidFill>
                <a:uFillTx/>
                <a:latin typeface="Verdana"/>
                <a:ea typeface="ＭＳ Ｐゴシック"/>
              </a:rPr>
              <a:t>scott.rea@dartmouth.edu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187280" y="981000"/>
            <a:ext cx="6697800" cy="0"/>
          </a:xfrm>
          <a:prstGeom prst="line">
            <a:avLst/>
          </a:prstGeom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51672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19E72-B02B-4359-92F4-6CD3EE13B4AD}" type="slidenum">
              <a:rPr b="1" lang="en-GB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1441440" cy="132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24360" y="333000"/>
            <a:ext cx="453384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19AA1-3769-4804-B58C-1DCC418A7490}" type="slidenum"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39640" y="404640"/>
            <a:ext cx="2095560" cy="19242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tagpma.es.net/wiki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280" y="2924280"/>
            <a:ext cx="48229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2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An 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Update from the TAGPMA</a:t>
            </a:r>
            <a:br>
              <a:rPr sz="3200"/>
            </a:br>
            <a:r>
              <a:rPr b="0" lang="en-GB" sz="2800" spc="-1" strike="noStrike">
                <a:solidFill>
                  <a:srgbClr val="0000ff"/>
                </a:solidFill>
                <a:latin typeface="Impact"/>
              </a:rPr>
              <a:t>Scott Rea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68360" y="4941720"/>
            <a:ext cx="79833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Impact"/>
              </a:rPr>
              <a:t>EuGridPMA Mtg, Berlin, DE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Impact"/>
              </a:rPr>
              <a:t>Sept 13, 2009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4572000" y="765000"/>
            <a:ext cx="3527280" cy="1287000"/>
            <a:chOff x="4572000" y="765000"/>
            <a:chExt cx="3527280" cy="1287000"/>
          </a:xfrm>
        </p:grpSpPr>
        <p:sp>
          <p:nvSpPr>
            <p:cNvPr id="87" name=""/>
            <p:cNvSpPr txBox="1"/>
            <p:nvPr/>
          </p:nvSpPr>
          <p:spPr>
            <a:xfrm>
              <a:off x="4626000" y="765000"/>
              <a:ext cx="21812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AGPM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1409400"/>
              <a:ext cx="352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Americas Gri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licy Management Authority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New Leadershi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43588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New Officers elected in July 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Chair: </a:t>
            </a: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1" lang="en-US" sz="2200" spc="-1" strike="noStrike">
                <a:solidFill>
                  <a:srgbClr val="333399"/>
                </a:solidFill>
                <a:latin typeface="Verdana"/>
              </a:rPr>
              <a:t>Scott Rea</a:t>
            </a: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 (Dartmouth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Vice Chair:</a:t>
            </a: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1" lang="en-US" sz="2200" spc="-1" strike="noStrike">
                <a:solidFill>
                  <a:srgbClr val="333399"/>
                </a:solidFill>
                <a:latin typeface="Verdana"/>
              </a:rPr>
              <a:t>Roger Impey</a:t>
            </a: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 (CANARIE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Secretary: </a:t>
            </a: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1" lang="en-US" sz="2200" spc="-1" strike="noStrike">
                <a:solidFill>
                  <a:srgbClr val="333399"/>
                </a:solidFill>
                <a:latin typeface="Verdana"/>
              </a:rPr>
              <a:t>Doug Olson</a:t>
            </a: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 (OSG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Outgoing Office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Much appreciation to our outgoing Offic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Vinod Rebello (Chair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Jim Marsteller (VC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Marg Murray (Sec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50560" y="-36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urrent TAGPMA Membershi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763640" y="1125360"/>
          <a:ext cx="6842160" cy="5115240"/>
        </p:xfrm>
        <a:graphic>
          <a:graphicData uri="http://schemas.openxmlformats.org/drawingml/2006/table">
            <a:tbl>
              <a:tblPr/>
              <a:tblGrid>
                <a:gridCol w="1943280"/>
                <a:gridCol w="504720"/>
                <a:gridCol w="1785960"/>
                <a:gridCol w="2608200"/>
              </a:tblGrid>
              <a:tr h="28296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ganiz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presenta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yp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456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uben Aqui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56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LAGr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e Stol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56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L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avier Dia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56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ARI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ger Impe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56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U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ndra Jaqu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788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NP-UF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nod Rebell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788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EL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nod Rebell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788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C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rg Murr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, MIC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752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EGrid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ke Hel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 (EU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56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CS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im Basne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LCS x 2, MIC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56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RS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reyas Chol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LC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128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N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rwin Gai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LC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56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S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ug Ols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ying Par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56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raGr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im Marstell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ying Par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56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C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ve Kelse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ying Par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56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rtmouth/HEBC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ott Re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ying Par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56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Gr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an Si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ying Par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56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----------------------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---------------------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-----------------------------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56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IAND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res Hogu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 (in-proces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56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NAMH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ichard Migu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 (in-proces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56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S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rgio Liet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 (proposed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688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DS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ott Saka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CS (proposed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0" y="260280"/>
            <a:ext cx="66358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urrent TAGPMA Membershi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23 Members from North, Central and South Americ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Covering Canada, US, Mexico, Venezuela, Chile, Peru Argentina, Brazil, and Colombia. Two Catchall CAs cover the remaining countri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15 IGTF Accredited C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9 Classic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Verdana"/>
              </a:rPr>
              <a:t>TACC - US, UFF BrGrid &amp; UFF LACGrid - Brazil, UNLPGrid - Argentina, REUNA – Chile, ULAGrid – Venezuela, GridCanada, UNAM - Mexico.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Verdana"/>
              </a:rPr>
              <a:t>NOTE: DOE Grid accredited by EUGridPM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4 SLCS (NCSA x 2, FermiLabs, and NERSC - U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2 MICS (NCSA and TACC - U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2 CAs pending accreditation, 2 more proposed &amp; acti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2 Classic pending (SENAMHI – Peru, UNIANDES - Colombia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1 Classic proposed (ANSP – Br), 1 MICS proposed (SDSC – US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5 Relying Par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(OSG, TeraGrid, THEgrid, LCG, Dartmouth/HEBC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2 Members in suspended status due to inactiv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UVA (Jim Jokl), Purdue (Greg Barne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ommunication Infrastruc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IGTF Website http://www.igtf.n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AGPMA Website http://www.tagpma.or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Hosts static, public inform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Still undergoing updat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AGPMA twiki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(s)://tagpma.es.net/wiki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hosts TAGPMA documents, tutorials et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Mailing list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gpma-general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 and other IGTF aliases managed by ESne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Email any issues direct to the Chair (Scott.Rea@Dartmouth.EDU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Summary of New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43588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9th TAGPMA F2F at PSC, Pittsburgh, 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April 30</a:t>
            </a:r>
            <a:r>
              <a:rPr b="0" lang="en-US" sz="2000" spc="-1" strike="noStrike" baseline="30000">
                <a:solidFill>
                  <a:srgbClr val="333399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– May 2</a:t>
            </a:r>
            <a:r>
              <a:rPr b="0" lang="en-US" sz="2000" spc="-1" strike="noStrike" baseline="30000">
                <a:solidFill>
                  <a:srgbClr val="333399"/>
                </a:solidFill>
                <a:latin typeface="Verdana"/>
              </a:rPr>
              <a:t>nd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, 200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Details can be found here: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ttp://indico.rnp.br/conferenceDisplay.py?confId=47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Preceded by </a:t>
            </a: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Federated Identity Day (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April 29</a:t>
            </a:r>
            <a:r>
              <a:rPr b="0" lang="en-US" sz="2000" spc="-1" strike="noStrike" baseline="30000">
                <a:solidFill>
                  <a:srgbClr val="333399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Details can be found her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http://indico.rnp.br/conferenceDisplay.py?confId=48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Verdana"/>
              </a:rPr>
              <a:t>Recent Accredita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TACC (MIC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FNAL (SLC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NCSA (Federated SLC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Next TAGPMA F2F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10th TAGPMA F2F at Banff, 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September 15</a:t>
            </a:r>
            <a:r>
              <a:rPr b="0" lang="en-US" sz="2400" spc="-1" strike="noStrike" baseline="30000">
                <a:solidFill>
                  <a:srgbClr val="333399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 – 17</a:t>
            </a:r>
            <a:r>
              <a:rPr b="0" lang="en-US" sz="2400" spc="-1" strike="noStrike" baseline="30000">
                <a:solidFill>
                  <a:srgbClr val="333399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, 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Combined with IGFT All-Hands mee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Arrangements can be found here: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ttp://indico.rnp.br/conferenceDisplay.py?confId=66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Preceded by OGF #2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Including CAO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See http://www.summit09.ca/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TAGPMA Conference Cal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43588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Fortnightly Video Conference Call are now on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Wednesdays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Next one is 23rd September, 11am CD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Verdana"/>
              </a:rPr>
              <a:t>Video arrangements: Video ESNet 884483 or GDS 0011349884483 or phone 1-510-883-7860 884483#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Verdana"/>
              </a:rPr>
              <a:t>The agenda is usually posted on tagpma-general the day before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</a:rPr>
              <a:t>Feel free to join to attend meeting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Verdana"/>
              </a:rPr>
              <a:t>Than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8T23:38:54Z</dcterms:created>
  <dc:creator>Scott Rea</dc:creator>
  <dc:description/>
  <dc:language>en-US</dc:language>
  <cp:lastModifiedBy>Scott</cp:lastModifiedBy>
  <dcterms:modified xsi:type="dcterms:W3CDTF">2009-09-14T11:05:04Z</dcterms:modified>
  <cp:revision>119</cp:revision>
  <dc:subject>EUGridPMA Berlin DE</dc:subject>
  <dc:title>TAGPMA Update</dc:title>
</cp:coreProperties>
</file>