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8F1-2F29-4F6B-8065-DE7C6423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rustworthiness of any PKI rests upon expectations for trust and the degree to which those expectations are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olicies document expectations for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e-Science, financial institutions, U.S. Feder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Demand consistent processes, efficient, transparent, reproduc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 CP operations are time consuming, lack end user transparency, difficult to re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formed trust decisions should be based on processes that consistently estimate actual organization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ly-practiced, manual CP operations are costly, time-consuming, lack end-user transparency, and are difficult to reprodu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Blacklist or whitelist individual pro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allow, coarse policy 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Ps are reference works, encode their referenc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Klobucar stated need for policy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17F-BE58-4D88-8E24-03F3594A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750-615C-4275-8B37-1B41CA13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293-B644-4659-AB5C-CA064ACD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FCC-EA06-4C7F-B76C-2F97B9B2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A5C-682E-4FDC-B6B9-3321FF3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3EA-55A4-4CE4-AF5D-38A50DAB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352-F07B-42BB-B8A4-15D6A9F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F6F-1FA2-4FF9-89CF-6844F3D7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D83-71B4-4BDB-95B3-8EE2D3A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1D7-7AED-48BA-94DD-9D2E41C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197-952D-428D-B094-3B1CDD7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2FB-F1D0-4002-A40C-39E0AF3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AE19-D468-409B-B5F4-B0CEFE76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ts3.sourceforge.net/" TargetMode="External"/><Relationship Id="rId2" Type="http://schemas.openxmlformats.org/officeDocument/2006/relationships/hyperlink" Target="http://pkipolicy.appspot.com/" TargetMode="External"/><Relationship Id="rId3" Type="http://schemas.openxmlformats.org/officeDocument/2006/relationships/hyperlink" Target="mailto:gweave01@cs.dartmouth.edu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kipolicy.appspot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Computational Framework for Certificate Policy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abriel A. Weaver, Scott Rea, Sean W. Smi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rtmouth Colle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more, higher-quality information for comparing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aring policy is a fundament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a se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enerate a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olicy provision, and a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urce Text:  Just grab the sourc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FC 2119:  Find discrepancies between significance of CP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4B3-C335-449C-B5CD-1A0C0D6B1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 -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P comparison is subjective, so we timed how long it takes to aggregate information needed to compare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ypothesis: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ed processes take less time and provide better-quality information than non-automat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Given CPs in PDF on disk or lo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do RFC 2119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l benefit comes from value-add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413-AF56-4B43-AF2C-F866832EF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534520" cy="297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314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Ma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 the content of a CP/CPS in 2527 format into 3647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ping a 2527 to 3647 requires 20% more effort than two 3647 CPs.  Avg. mapping takes 80-120 hours in a bridge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FC 3647 defines tables, takes many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mapping transforms 2527 to 3647 in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flexibly configure the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overed errors in the transformation table (2.1 -&gt; 2.6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459-34C4-4F55-A38E-98276B1D9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xtra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rases, NLP for more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pic-driven extractions (eg. How does a policy handle Personnel?) (FPKIPA-CP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pand the 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lyze the policies to extract common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ord senses (e.g. ‘reasonable’ as in Dutch law versus Engli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mparison of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EF5-9D87-49A7-A242-EADCA8C4C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sign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licy annotation (annotate phrases or word s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ically extracting mapping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porting GU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igning policy enforcement mechanisms with policy via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e the automatic certificate validation from Dublin (Dav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ract inputs to the cert. validator directly from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PM-backed serv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97120" y="3657600"/>
            <a:ext cx="539460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EDC-D31F-4AB7-88F1-850637A88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/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4640" y="4495680"/>
            <a:ext cx="5103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cts3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pkipolicy.appsp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ac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gweave01@cs.dartmouth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 workshop in Washington D.C. in 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icies document expectations for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and for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consisten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rtificate policy (CP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KI Compliance Audit, Policy Mapping for Bridging, Grid Accred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igned, built, &amp; evaluated a computational framework for C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8B5-69CF-4EE7-BB7A-C396FB901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formalization of PKI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utational Tool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ture 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6ED-951F-4AD7-8C5B-899603199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r Formalization of Certificat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Formalizing Certificate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laim that computationally processing machine-actionable CPs would be m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-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I-XML encoding of reference structure (2527, 364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chine-actionable, but human readable (FPK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gorithms are consistent, unambiguous, reproduc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670572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81-ACDF-4ABC-A135-0B08B56D26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KI audits, accreditation, and policy mapping depend up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ference and retriev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vigate texts by logical reference (versus pag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ository sets stage for processing CP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i-automated process to extract and encode P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itial repository @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kipolicy.appsp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83502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EFE-9A44-4475-BEB2-F88C82460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Enc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iginally, encoding PDF as XML took 4-6 hours.  Now down to 15 minutes at m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DF -&gt; Text -&gt; XML -&gt;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tch missing/malformed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DB1-EF0D-4509-88C5-B58B497DB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ational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Tools:  PKI Policy Buil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hine-assisted policy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py and paste in the real world (IGT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may not fully understand poli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approach:  Pull polici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fill out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references (CTS-URNs) to copied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e how many policy statements pulled from previously-approved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2A4-D107-4492-AD2A-CD3EB3D56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4:25:17Z</dcterms:created>
  <dc:creator>Michael Weaver</dc:creator>
  <dc:description/>
  <dc:language>en-US</dc:language>
  <cp:lastModifiedBy>Michael Weaver</cp:lastModifiedBy>
  <dcterms:modified xsi:type="dcterms:W3CDTF">2009-09-16T06:45:42Z</dcterms:modified>
  <cp:revision>16</cp:revision>
  <dc:subject/>
  <dc:title>A Computational Framework for Certificate Policy Operations</dc:title>
</cp:coreProperties>
</file>