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296C-F9D0-4975-A585-8AA27078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7F4-F27C-45EC-B982-65DB83A6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7965-809E-45A3-9DC1-1EC74905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96F-5643-41DE-8421-4D0EF11C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CE87-5BFA-4508-864C-BBE6FB9E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2B3-2C45-4DB9-8314-BCD11C79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C9CD-BCA1-48C9-8D0A-9DE108E3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1089-46ED-448A-AB4F-09C5DCE9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8007-2157-4A31-A759-F036821C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42B4-3172-4DF7-9E72-161FBAF4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22D-0407-44C7-B623-D6D91636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B7F-A5A7-444A-9AC1-78CA9851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3A88B-9825-40C7-99CD-1854BC6F1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isk Assessment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tagpma.es.net/wiki/bin/view/IGTF-R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gtf-rat@eugridpma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919703-06C9-4A15-8BDA-3A0F618EA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mbe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 membership is open to all IGT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ct igtf-rat@eugridpma.org to join and help with the risk assessment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592C2-49E4-49DB-A2C1-BFEA9E323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tagpma.es.net/wiki/bin/view/IGTF-RAT/2009-0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imelin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 Jan: RAT begins drafting 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Feb: Request sent to CA op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3 Feb: 57 of 80 CAs responded; reminder 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Mar: 75 of 80 CAs responded; reminder 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6 Mar: 77 of 80 CAs respo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7 Apr: 77 of 80 CAs responded; reminder 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 Apr: 78 of 80 CAs respo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May: 79 of 80 CAs respond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Aug: 80 of 80 CAs respo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92D5E-6BEB-4192-8827-FA3D76D33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ult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CAs issued certificates containing (EC)DSA keys, which will all be expired by Aug 27 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CAs issued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CAs were currently issuing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 CAs issued CRL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 CAs were currently issuing CRL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CAs had implemented automated checks for RSA keys with weak expon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1 IGTF CAs had implemented automated checks for known weak Debian OpenSSL ke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8 IGTF CAs had implemented automated checks for issued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6BF4E-2C8B-47C7-B9CB-2D94015BF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unications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tagpma.es.net/wiki/bin/view/IGTF-RAT/2009-0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imelin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5 Aug: Request sent to CA op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6 Aug: 74 CAs responded within 24 hours; 20 CAs did not; follow-up request sent to non-responding 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7 Aug: 15 more CAs responded; results posted to igtf-general, after which 1 more CA respo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 Aug: MD-Grid CA respo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ill no response from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fee79b0 IUC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42edd45 CAL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a661490 PolishGr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70140-87DA-49D1-BBC7-06D49D868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L Issues In Augu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 that failed to update their CRLs prior to the Next Update dat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3f0f4285 ULAGrid-CA-200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42edd45 CAL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 that failed to update their CRLs at least 3 days prior to the NextUpdate dat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f0e8352 NorduGri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4c3ccde UNAMgrid-c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3f0f4285 ULAGrid-CA-200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6fee79b0 IUC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42edd45 CAL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d0d064a MARG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99f9f5a3 FNAL-SLC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7bcb7b2 UNLPGri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254cc30 CERN-Roo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Ls that could not be downloaded for over 24 hour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367b75c3 UKeScienceCA-200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3f0f4285 ULAGrid-CA-200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6e3b436b AustrianGri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b54708e MaGri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98ef0ee5 UKeScienceRoot-200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Ls with Last Update date in the futu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42edd45 CAL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BC64A-8AB6-461B-9AFB-17A82671E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D5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 issuing MD5 CR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e12d831 APAC (CA cert expires Jan 20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e43b9cc Grid-Ireland (CA cert expires Jul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67b75c3 UKeScienceCA-200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A cert expires Oct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e5501f3 RMKI (CA cert expires Oct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 certificates with MD5 sign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4a509c3 CNRS-Projets (expires Apr 20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f4ba8c8 CNRS (expires Apr 20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F431D-B386-4555-BF49-92C6427A9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-1 -&gt; SHA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ttps://twiki.grid.iu.edu/bin/view/Security/HashAlgorith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su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reTLS in Java CoG Kit (jglobus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ttp://bugzilla.globus.org/globus/show_bug.cgi?id=673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A-2 support in OpenSSL starting in RHEL5/SL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Lite 3.1 using RHEL4 through 201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Lite 3.2 using RHEL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clusion: Grid middleware not ready for SHA-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8F938-232E-4ED0-A5C2-3C517E0AE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ll-Prefix Atta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ttp://www.thoughtcrime.org/software/sslsnif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ull character in subject of certificate requ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N=www.paypal.com\0.thoughtcrim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N=*\0.thoughtcrim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icks automated checks performed by 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icks TLS software hostname matching algorith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act on IGTF host certificate request verifica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: NCSA MICS does automated verification; existing sanity checks reject null-prefix reque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9E88C-66F0-437D-A3F0-485DC76AE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5:37:02Z</dcterms:created>
  <dc:creator>Jim Basney</dc:creator>
  <dc:description/>
  <dc:language>en-US</dc:language>
  <cp:lastModifiedBy>Jim Basney</cp:lastModifiedBy>
  <dcterms:modified xsi:type="dcterms:W3CDTF">2009-09-10T17:56:30Z</dcterms:modified>
  <cp:revision>2</cp:revision>
  <dc:subject/>
  <dc:title>IGTF Risk Assessment Team</dc:title>
</cp:coreProperties>
</file>