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484F-5D01-4267-BA89-A871EF3F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CCC33-3C38-4068-9FE1-11F748A3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30473-4E64-4E6B-B433-02C362F9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68C3A-AF22-4F0A-A648-FAD1BC67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0F2FC-AA7F-4E13-ABFB-32FF16ED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HEP and PRAGMA data in statistics of Oct.’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75C73-8142-4F2E-BEB4-EDD22AC9B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DD0AE-39D1-4858-8B78-01FB397A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C2B54-EBB9-4AB8-83AD-52134131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F89AA9-B061-4783-AA88-8A67B0CB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71D64-8C85-4FF7-B49B-D01EF4C72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A5FEE-FE51-449E-A16F-37C4881B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 January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4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under accredi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Pakistan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7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4, January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4322880" y="3608280"/>
            <a:ext cx="45720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57120" y="1143000"/>
          <a:ext cx="8358120" cy="520056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文字方塊 5"/>
          <p:cNvSpPr/>
          <p:nvPr/>
        </p:nvSpPr>
        <p:spPr>
          <a:xfrm>
            <a:off x="357120" y="6396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: October 15, 20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TextBox 4" descr=""/>
          <p:cNvPicPr/>
          <p:nvPr/>
        </p:nvPicPr>
        <p:blipFill>
          <a:blip r:embed="rId1"/>
          <a:stretch/>
        </p:blipFill>
        <p:spPr>
          <a:xfrm>
            <a:off x="5522760" y="4595760"/>
            <a:ext cx="2468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VTC meeting on 16 Dec.’0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participants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Completed : HKU, IGCA, KISTI, APAC, ASGCCA, NECTEC GOC-CA, NCHC, AIST, KEK, NAREGI, PRAGMA-UCSD, CNIC, IHEP, NGO/Netr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tine Self-audit report from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-4 CAs at every F2F meeting based on latest Audit Guideline do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rrection of .info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ck all CAs information at APGridPMA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te for 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rch 8 , Taipei Taiwan, collocation with ISGC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s co-located with ISGC 2010 ev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ime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n-line Registration http://event.twgrid.org/isgc2010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raft agenda from APGridPMA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from EUGridPMA and TAG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statu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CA Presentation: Mongo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-audit re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and the other th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iew Mongolia SSSCA CP/C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T and cyber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GC Piggyback Ev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te Training for Trainers (5-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imulation Tutorial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ODS Workshop (8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GC Symposium (9-12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Workshop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policies, David Kelsey, 3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security and handle security incident, Mingchao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you were hacked and what you should do, Romain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ware Security, David Groep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Service Challenge and Security Monitoring, Jinny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1:20:39Z</dcterms:created>
  <dc:creator>David Groep</dc:creator>
  <dc:description/>
  <dc:language>en-US</dc:language>
  <cp:lastModifiedBy>mac</cp:lastModifiedBy>
  <dcterms:modified xsi:type="dcterms:W3CDTF">2010-01-18T09:52:20Z</dcterms:modified>
  <cp:revision>173</cp:revision>
  <dc:subject/>
  <dc:title>International Grid Trust Federation Session  GGF 18 Washington, DC, USA</dc:title>
</cp:coreProperties>
</file>