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3778C11-DDE0-4A21-9BD1-AE0688683D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8C25228-C68A-414B-8869-CAF9A409FA99}"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98" name="PlaceHolder 1"/>
          <p:cNvSpPr>
            <a:spLocks noGrp="1"/>
          </p:cNvSpPr>
          <p:nvPr>
            <p:ph type="sldImg"/>
          </p:nvPr>
        </p:nvSpPr>
        <p:spPr>
          <a:xfrm>
            <a:off x="993600" y="768240"/>
            <a:ext cx="5115240" cy="3837240"/>
          </a:xfrm>
          <a:prstGeom prst="rect">
            <a:avLst/>
          </a:prstGeom>
          <a:ln w="0">
            <a:noFill/>
          </a:ln>
        </p:spPr>
      </p:sp>
      <p:sp>
        <p:nvSpPr>
          <p:cNvPr id="599"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E5323402-4750-4D59-9F23-6EA9B845A08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04517C34-1F74-4A53-99FE-E56BF6ECB9B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32C69EC-62E3-4EDF-9F15-643B7D431F9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530F8226-A086-45CE-A58D-11DCB38642F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4DFE42FE-D4F9-4EDC-BA69-87AFCFA208C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CF4E6DC9-CE8D-47A3-8604-3488E2FA91D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F9A1D9F8-A251-4737-8122-4534A9A657D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4CE11300-2FD4-4ABB-8EAA-B8721A9369C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C7885B2B-0E5E-45F5-8D3D-5643FCA1CB9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61851237-1373-46E5-8E39-987F8A39EDC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B98683C5-D41A-4F4B-8A02-32BDFEF2FA6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Lucida Sans"/>
              </a:rPr>
              <a:t>A Guideline on Robot Certificates</a:t>
            </a:r>
            <a:br>
              <a:rPr sz="3600"/>
            </a:br>
            <a:r>
              <a:rPr b="1" i="1" lang="en-US" sz="2800" spc="-1" strike="noStrike">
                <a:solidFill>
                  <a:srgbClr val="990000"/>
                </a:solidFill>
                <a:latin typeface="Lucida Sans"/>
              </a:rPr>
              <a:t>beyond the 1SCP stage</a:t>
            </a:r>
            <a:br>
              <a:rPr sz="4000"/>
            </a:br>
            <a:br>
              <a:rPr sz="4000"/>
            </a:br>
            <a:r>
              <a:rPr b="1" lang="en-US" sz="2000" spc="-1" strike="noStrike">
                <a:solidFill>
                  <a:srgbClr val="000066"/>
                </a:solidFill>
                <a:latin typeface="Lucida Sans"/>
              </a:rPr>
              <a:t>January 19, 2010</a:t>
            </a:r>
            <a:br>
              <a:rPr sz="2000"/>
            </a:br>
            <a:r>
              <a:rPr b="1" lang="en-US" sz="2000" spc="-1" strike="noStrike">
                <a:solidFill>
                  <a:srgbClr val="000066"/>
                </a:solidFill>
                <a:latin typeface="Lucida Sans"/>
              </a:rPr>
              <a:t>18</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Dublin meeting</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2</a:t>
            </a:r>
            <a:endParaRPr b="1" lang="en-US" sz="3000" spc="-1" strike="noStrike">
              <a:solidFill>
                <a:srgbClr val="000066"/>
              </a:solidFill>
              <a:latin typeface="Lucida Sans"/>
            </a:endParaRPr>
          </a:p>
        </p:txBody>
      </p:sp>
      <p:sp>
        <p:nvSpPr>
          <p:cNvPr id="582" name=""/>
          <p:cNvSpPr txBox="1"/>
          <p:nvPr/>
        </p:nvSpPr>
        <p:spPr>
          <a:xfrm>
            <a:off x="403200" y="1295280"/>
            <a:ext cx="874080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current process is OK, but operationally responsive team is equally good as long as all CAs do it the same way’:</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SHOULD be identified by a name that bears a reasonable resemblance to the name of the person in accordance with the stipulations made on personal end-entity certificates by the issuing CA, or both a humanly-recognisable description as well as electronic mail address of a persistent group of people responsible for the robot operations MUST be included in a commonName component of the subject name.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3</a:t>
            </a:r>
            <a:endParaRPr b="1" lang="en-US" sz="3000" spc="-1" strike="noStrike">
              <a:solidFill>
                <a:srgbClr val="000066"/>
              </a:solidFill>
              <a:latin typeface="Lucida Sans"/>
            </a:endParaRPr>
          </a:p>
        </p:txBody>
      </p:sp>
      <p:sp>
        <p:nvSpPr>
          <p:cNvPr id="58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Operationally responsive team is preferred, with all CAs doing it the same way, but current practice is also still OK’:</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subject name of the robot SHOULD contain a humanly-recognisable description as well as electronic mail address of a persistent group of people responsible for the robot operations MUST be included in a commonName component of the subject name, or the name of a single natural person responsible for the automated client.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Key Material</a:t>
            </a:r>
            <a:endParaRPr b="1" lang="en-US" sz="3000" spc="-1" strike="noStrike">
              <a:solidFill>
                <a:srgbClr val="000066"/>
              </a:solidFill>
              <a:latin typeface="Lucida Sans"/>
            </a:endParaRPr>
          </a:p>
        </p:txBody>
      </p:sp>
      <p:sp>
        <p:nvSpPr>
          <p:cNvPr id="58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ng discussion on the list on the usefulness of hardware tokens in the presence of proxy authentication and permissible derived credential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practice hardware token is always activated </a:t>
            </a:r>
            <a:br>
              <a:rPr sz="2400"/>
            </a:br>
            <a:r>
              <a:rPr b="0" lang="en-GB" sz="2400" spc="-1" strike="noStrike">
                <a:solidFill>
                  <a:srgbClr val="000066"/>
                </a:solidFill>
                <a:latin typeface="Lucida Sans"/>
              </a:rPr>
              <a:t>or activation data stored on the file system</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ctual risk not affected by the use of </a:t>
            </a:r>
            <a:br>
              <a:rPr sz="2400"/>
            </a:br>
            <a:r>
              <a:rPr b="0" lang="en-GB" sz="2400" spc="-1" strike="noStrike">
                <a:solidFill>
                  <a:srgbClr val="000066"/>
                </a:solidFill>
                <a:latin typeface="Lucida Sans"/>
              </a:rPr>
              <a:t>hardware tokens or file-based storage</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generation of keys</a:t>
            </a:r>
            <a:endParaRPr b="1" lang="en-US" sz="3000" spc="-1" strike="noStrike">
              <a:solidFill>
                <a:srgbClr val="000066"/>
              </a:solidFill>
              <a:latin typeface="Lucida Sans"/>
            </a:endParaRPr>
          </a:p>
        </p:txBody>
      </p:sp>
      <p:sp>
        <p:nvSpPr>
          <p:cNvPr id="58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 key material based on which a robot certificate is issued MUST be generated</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cally on an appropriately secured computer system</a:t>
            </a:r>
            <a:endParaRPr b="0" lang="en-US" sz="24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f which the natural person responsible for the robot is the sole user and administrator, or</a:t>
            </a:r>
            <a:endParaRPr b="0" lang="en-US" sz="20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o which only those people responsible for the robots operation have access,</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	</a:t>
            </a:r>
            <a:r>
              <a:rPr b="0" lang="en-GB" sz="2400" spc="-1" strike="noStrike">
                <a:solidFill>
                  <a:srgbClr val="000066"/>
                </a:solidFill>
                <a:latin typeface="Lucida Sans"/>
              </a:rPr>
              <a:t>and where the key material is generated using trustworthy cryptographic software.</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storage of keys (not proxies)</a:t>
            </a:r>
            <a:endParaRPr b="1" lang="en-US" sz="3000" spc="-1" strike="noStrike">
              <a:solidFill>
                <a:srgbClr val="000066"/>
              </a:solidFill>
              <a:latin typeface="Lucida Sans"/>
            </a:endParaRPr>
          </a:p>
        </p:txBody>
      </p:sp>
      <p:sp>
        <p:nvSpPr>
          <p:cNvPr id="59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MUST be stored </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secure hardware token</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local file system on an appropriate computer system to which only those people responsible for the robots operation have access – and to which no other people have any access, either privileged or unprivileg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computer system where the private key is stored MUST be appropriately secured, be actively monitored for security events, and MUST be located in a secured room where access is controlled and limited to only authorized personnel.</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SHOULD NOT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left in plain-text form for extended periods of inactivity</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sent over any kind of network unprotect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nd the private key and activation data MUST NOT be sent in clear text over any kind of network.</a:t>
            </a:r>
            <a:endParaRPr b="0" lang="en-US" sz="2000" spc="-1" strike="noStrike">
              <a:solidFill>
                <a:srgbClr val="000066"/>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a:t>
            </a:r>
            <a:endParaRPr b="1" lang="en-US" sz="3000" spc="-1" strike="noStrike">
              <a:solidFill>
                <a:srgbClr val="000066"/>
              </a:solidFill>
              <a:latin typeface="Lucida Sans"/>
            </a:endParaRPr>
          </a:p>
        </p:txBody>
      </p:sp>
      <p:sp>
        <p:nvSpPr>
          <p:cNvPr id="59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Usag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keyUsage</a:t>
            </a:r>
            <a:r>
              <a:rPr b="0" lang="en-GB" sz="2000" spc="-1" strike="noStrike">
                <a:solidFill>
                  <a:srgbClr val="000066"/>
                </a:solidFill>
                <a:latin typeface="Lucida Sans"/>
              </a:rPr>
              <a:t> and </a:t>
            </a:r>
            <a:r>
              <a:rPr b="0" i="1" lang="en-GB" sz="2000" spc="-1" strike="noStrike">
                <a:solidFill>
                  <a:srgbClr val="000066"/>
                </a:solidFill>
                <a:latin typeface="Lucida Sans"/>
              </a:rPr>
              <a:t>extendedKeyUsage</a:t>
            </a:r>
            <a:r>
              <a:rPr b="0" lang="en-GB" sz="2000" spc="-1" strike="noStrike">
                <a:solidFill>
                  <a:srgbClr val="000066"/>
                </a:solidFill>
                <a:latin typeface="Lucida Sans"/>
              </a:rPr>
              <a:t> extensions MUST be set, and MUST be at least as restrictive as those for certificates issued to human individuals. The extensions SHOULD be restricted to only those needed for correct operation of the robot.</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bjectAlternativeNam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subjectAlternativeName</a:t>
            </a:r>
            <a:r>
              <a:rPr b="0" lang="en-GB" sz="2000" spc="-1" strike="noStrike">
                <a:solidFill>
                  <a:srgbClr val="000066"/>
                </a:solidFill>
                <a:latin typeface="Lucida Sans"/>
              </a:rPr>
              <a:t> extension of the certificate MUST include at least one </a:t>
            </a:r>
            <a:r>
              <a:rPr b="0" i="1" lang="en-GB" sz="2000" spc="-1" strike="noStrike">
                <a:solidFill>
                  <a:srgbClr val="000066"/>
                </a:solidFill>
                <a:latin typeface="Lucida Sans"/>
              </a:rPr>
              <a:t>email</a:t>
            </a:r>
            <a:r>
              <a:rPr b="0" lang="en-GB" sz="2000" spc="-1" strike="noStrike">
                <a:solidFill>
                  <a:srgbClr val="000066"/>
                </a:solidFill>
                <a:latin typeface="Lucida Sans"/>
              </a:rPr>
              <a:t> attribute with an email address of the responsible natural person, or an email address that addresses a persistent group of people responsible for the robot operations that will react appropriately, within the certificate revocation grace period, to valid requests for information.</a:t>
            </a:r>
            <a:endParaRPr b="0" lang="en-US" sz="2000" spc="-1" strike="noStrike">
              <a:solidFill>
                <a:srgbClr val="000066"/>
              </a:solidFill>
              <a:latin typeface="Lucida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 certificatePolicies</a:t>
            </a:r>
            <a:endParaRPr b="1" lang="en-US" sz="3000" spc="-1" strike="noStrike">
              <a:solidFill>
                <a:srgbClr val="000066"/>
              </a:solidFill>
              <a:latin typeface="Lucida Sans"/>
            </a:endParaRPr>
          </a:p>
        </p:txBody>
      </p:sp>
      <p:sp>
        <p:nvSpPr>
          <p:cNvPr id="59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robots require appropriate assertion of 1SC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naming alternative 2 and 3 we need</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 new 1SCP for these robo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r a new version of { igtf.2.3.3.1}</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xt steps</a:t>
            </a:r>
            <a:endParaRPr b="1" lang="en-US" sz="3000" spc="-1" strike="noStrike">
              <a:solidFill>
                <a:srgbClr val="000066"/>
              </a:solidFill>
              <a:latin typeface="Lucida Sans"/>
            </a:endParaRPr>
          </a:p>
        </p:txBody>
      </p:sp>
      <p:sp>
        <p:nvSpPr>
          <p:cNvPr id="59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ed on discussions today:</a:t>
            </a:r>
            <a:br>
              <a:rPr sz="2400"/>
            </a:b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 the Guidelines document</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pose to TAGPMA and APGridPM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tart working under the new guidelin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be more permissive for current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tice new CAs to issue robot cer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olve </a:t>
            </a:r>
            <a:r>
              <a:rPr b="0" lang="en-US" sz="2000" spc="-1" strike="noStrike">
                <a:solidFill>
                  <a:srgbClr val="000066"/>
                </a:solidFill>
                <a:latin typeface="Lucida Sans"/>
              </a:rPr>
              <a:t>Alexey’s problem, I hope …</a:t>
            </a: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BACKGROUND</a:t>
            </a:r>
            <a:br>
              <a:rPr sz="4000"/>
            </a:b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obot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1SCP</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obot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Robots, also known as automated clients, are entities that perform automated tasks without human intervention.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Production ICT environments typically support repetitive, ongoing processes - either internal system processes or processes relating to the applications being run (e.g. by a site or by a portal system).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These procedures and repetitive processes are typically automated, and generally run using an identity with the necessary privileges to perform their tasks.</a:t>
            </a: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cceptable Robot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e know what Robots a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hich robots are acceptable end-entiti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facto standard set by UKeScience</a:t>
            </a:r>
            <a:br>
              <a:rPr sz="2000"/>
            </a:br>
            <a:r>
              <a:rPr b="0" i="1" lang="en-GB" sz="2000" spc="-1" strike="noStrike">
                <a:solidFill>
                  <a:srgbClr val="000066"/>
                </a:solidFill>
                <a:latin typeface="Lucida Sans"/>
              </a:rPr>
              <a:t>naming, private key handling, 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servative approach chosen</a:t>
            </a:r>
            <a:br>
              <a:rPr sz="2000"/>
            </a:br>
            <a:r>
              <a:rPr b="0" i="1" lang="en-GB" sz="2000" spc="-1" strike="noStrike">
                <a:solidFill>
                  <a:srgbClr val="000066"/>
                </a:solidFill>
                <a:latin typeface="Lucida Sans"/>
              </a:rPr>
              <a:t>Full name in subjectDN,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pied by INFN and DutchGrid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itial consent by EUGridPMA was never formalis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o, what are ‘acceptable robot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Definitions of a Robot</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ia the 1SCP document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since the 1SCP series was designed to be orthogonal for RP trust evaluation purposes, not to be normativ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Robot Entities’ { igtf.2.3.3.1 }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scribes the type on ent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a particular robot implementation is ‘acceptabl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PKP Secure Hardware Token’ { igtf. 2.3.1.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ays the key is on a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this is needed for a Robot, or for a person, or for a Martian</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uideline on Approved Robot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d Robots are those robots </a:t>
            </a:r>
            <a:br>
              <a:rPr sz="2400"/>
            </a:br>
            <a:r>
              <a:rPr b="0" lang="en-GB" sz="2400" spc="-1" strike="noStrike">
                <a:solidFill>
                  <a:srgbClr val="000066"/>
                </a:solidFill>
                <a:latin typeface="Lucida Sans"/>
              </a:rPr>
              <a:t>that meet our criteria for acceptance under the Classic (or MICS, or SLCS) profil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	</a:t>
            </a:r>
            <a:r>
              <a:rPr b="0" i="1" lang="en-GB" sz="2000" spc="-1" strike="noStrike">
                <a:solidFill>
                  <a:srgbClr val="000066"/>
                </a:solidFill>
                <a:latin typeface="Lucida Sans"/>
              </a:rPr>
              <a:t>“</a:t>
            </a:r>
            <a:r>
              <a:rPr b="0" i="1" lang="en-GB" sz="2000" spc="-1" strike="noStrike">
                <a:solidFill>
                  <a:srgbClr val="000066"/>
                </a:solidFill>
                <a:latin typeface="Lucida Sans"/>
              </a:rPr>
              <a:t>This document describes guidelines on the generation and storage of private key material, naming, and permissible key usage of automated clients (robots) that can hold credentials issued by IGTF Accredited Authorities.”</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s a Guidelines document, not a 1SCP or an AP</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aged by the EUGridPMA, on IGTF reques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signed OID { igtf.4.1.1.1.6 }</a:t>
            </a:r>
            <a:endParaRPr b="0" lang="en-US" sz="20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objectid/?oid=1.2.840.113612.5.4.1.1.1.6</a:t>
            </a:r>
            <a:endParaRPr b="0" lang="en-US" sz="16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guidelines/robot/</a:t>
            </a:r>
            <a:endParaRPr b="0" lang="en-US" sz="16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But What Do We Approve Of?</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ems to reach consensus on</a:t>
            </a:r>
            <a:endParaRPr b="0" lang="en-US" sz="24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Nam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generat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storag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s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ertificatePolicie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quired contact information in EEC</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aming</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ic naming requirement:</a:t>
            </a:r>
            <a:br>
              <a:rPr sz="2400"/>
            </a:br>
            <a:r>
              <a:rPr b="0" i="1" lang="en-GB" sz="2000" spc="-1" strike="noStrike">
                <a:solidFill>
                  <a:srgbClr val="000066"/>
                </a:solidFill>
                <a:latin typeface="Lucida Sans"/>
              </a:rPr>
              <a:t>The subject distinguished name of a robot MUST unambiguously identify the entity as a robot by including the string “Robot”, followed by a non-alphanumeric, </a:t>
            </a:r>
            <a:br>
              <a:rPr sz="2000"/>
            </a:br>
            <a:r>
              <a:rPr b="0" i="1" lang="en-GB" sz="2000" spc="-1" strike="noStrike">
                <a:solidFill>
                  <a:srgbClr val="000066"/>
                </a:solidFill>
                <a:latin typeface="Lucida Sans"/>
              </a:rPr>
              <a:t>non-whitespace separator, in a commonName component of the subject name. The separator SHOULD be either a COLON (“:”) or a forward SLASH (“/”) character.</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n the rest of the name? We discussed:</a:t>
            </a:r>
            <a:endParaRPr b="0" lang="en-US" sz="24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MUST have the full name of a responsible natural person</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SHOULD have full name of responsible person OR MUST have recognisable description PLUS email address of a persistent group of people responsible for the robot operations in the CommonName</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robot SHOULD contain a humanly-recognisable description as well as electronic mail address of a persistent group of people responsible for the robot operations MUST be included, OR MUST have have on single responsible natural person</a:t>
            </a:r>
            <a:endParaRPr b="0" lang="en-US" sz="18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1</a:t>
            </a:r>
            <a:endParaRPr b="1" lang="en-US" sz="3000" spc="-1" strike="noStrike">
              <a:solidFill>
                <a:srgbClr val="000066"/>
              </a:solidFill>
              <a:latin typeface="Lucida Sans"/>
            </a:endParaRPr>
          </a:p>
        </p:txBody>
      </p:sp>
      <p:sp>
        <p:nvSpPr>
          <p:cNvPr id="580"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intaining the current, confusing, status-quo </a:t>
            </a:r>
            <a:r>
              <a:rPr b="0" lang="en-GB" sz="2000" spc="-1" strike="noStrike">
                <a:solidFill>
                  <a:srgbClr val="000066"/>
                </a:solidFill>
                <a:latin typeface="Wingdings"/>
                <a:ea typeface="Wingdings"/>
              </a:rPr>
              <a:t></a:t>
            </a:r>
            <a:r>
              <a:rPr b="0" lang="en-GB" sz="2000" spc="-1" strike="noStrike">
                <a:solidFill>
                  <a:srgbClr val="000066"/>
                </a:solidFill>
                <a:latin typeface="Lucida Sans"/>
              </a:rPr>
              <a:t>:</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MUST be identified by a name that bears a reasonable resemblance to the name of the person in accordance with the stipulations made on personal end-entity certificates by the issuing CA.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med person thereby assumes responsibility for actions undertaken by the robot and for the actions of those persons that have access to and or can activate the private key pertaining to the robot relating to the robots activitie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0-01-15T10:31:07Z</dcterms:modified>
  <cp:revision>495</cp:revision>
  <dc:subject/>
  <dc:title>European Grid Policy Management Authority</dc:title>
</cp:coreProperties>
</file>