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4004-B5E1-413F-B8A8-D7087472A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2419-F06A-49C4-B82D-0180E8D9D2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8772-D33C-4690-A0D8-5A094A4D96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53F70-7291-4585-9077-1C6E936A9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2365-BDBE-4646-BB01-6974E046A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D768D-2FB6-427B-9279-77E986CD3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80996-C026-4F64-AF92-D24DC901E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FEF30-0098-48DA-A5EE-B921737E1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70AAF-BBF6-4B8E-B1A0-4DD07DBCB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A33FF-B3CC-4841-A9EE-A93513C00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EAEBF-7370-4913-9016-94C9023B2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FD3EB-8FFE-44B5-A214-802144435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A601B-28A7-4B64-BC6B-0D016A373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C66BC-0753-430A-AC52-0601F8D20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F4352-A7F8-43CC-9254-5B839DC61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DE344-1A92-4B4E-9246-A3C7FE069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51AAB-2158-469C-A629-B47FB3948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57104-E837-48B3-B7A9-8F34A1D4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5B62C-918A-4DA7-91ED-E6528539C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DDA9E-658B-4E0E-BDA9-90D8F7195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31AC-2BF3-420E-AA59-D66167B7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3E29-EA20-4357-9861-191D925AB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F2AA5-028F-4F23-95ED-F18682644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559C-7DD2-464E-A627-F2C52BF8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1297D-DF1D-4862-BA7B-EC7AAEA4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CC71-5F07-47E7-82A7-0BC74D994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6E36-387C-4E77-A425-F8B8712D9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7EED-2164-43C9-AFD3-4913A2202B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A64C-07A8-41A6-98B7-516E53276D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Law now exists, so this can be updated.</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This procedure will be defined in CP/CPS</a:t>
            </a:r>
            <a:endParaRPr b="1" lang="en-US" sz="18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rtificates</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0" lang="sr-Latn-CS" sz="3200" spc="-1" strike="noStrike">
                <a:solidFill>
                  <a:srgbClr val="ffffff"/>
                </a:solidFill>
                <a:latin typeface="Arial"/>
              </a:rPr>
              <a:t>Issued</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274</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user certificates:</a:t>
            </a:r>
            <a:r>
              <a:rPr b="0" lang="en-US" sz="3200" spc="-1" strike="noStrike">
                <a:solidFill>
                  <a:srgbClr val="ffffff"/>
                </a:solidFill>
                <a:latin typeface="Arial"/>
              </a:rPr>
              <a:t>	</a:t>
            </a:r>
            <a:r>
              <a:rPr b="0" lang="en-US" sz="3200" spc="-1" strike="noStrike">
                <a:solidFill>
                  <a:srgbClr val="ffffff"/>
                </a:solidFill>
                <a:latin typeface="Arial"/>
              </a:rPr>
              <a:t>7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host certificates: 90</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Will add this procedure to CP/CPS</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P/CPS will be  updated to describe thi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we add this in CP/CPS?</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the manual be written, or published on-line? Should the RA’s keep the identification verification documents, or send them to CA?</a:t>
            </a:r>
            <a:endParaRPr b="1" lang="en-US" sz="18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VAIO</cp:lastModifiedBy>
  <cp:lastPrinted>1904-01-01T00:00:00Z</cp:lastPrinted>
  <dcterms:modified xsi:type="dcterms:W3CDTF">2010-01-20T10:38:18Z</dcterms:modified>
  <cp:revision>136</cp:revision>
  <dc:subject/>
  <dc:title>PowerPoint Presentation</dc:title>
</cp:coreProperties>
</file>