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353-3161-44B0-99CE-A78CDA85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87E-0C5B-4375-AE64-9D9D083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F3E-BBB4-4729-A4EC-D72180E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82F-2408-43CB-ACC7-AB7059A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F14-DF07-4B46-9E81-66E312C2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D89-0309-4FA6-88E7-C34DC5A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020-F6CA-4C6C-B336-C6A755BB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380-8958-4123-BEE2-350780F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3B7-C03B-435D-83C6-76F650F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E06-BA68-4F7F-B3AF-7F4C048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81A-19BB-4A78-8CB2-B47B717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542-83D6-4593-9C08-F31E96B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90F-3E5C-421A-B50C-285A6B65704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InterWiki" TargetMode="External"/><Relationship Id="rId2" Type="http://schemas.openxmlformats.org/officeDocument/2006/relationships/hyperlink" Target="https://grid.ie/eugridpma/wiki/InterWiki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AA_Profi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Dubl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19 Jan 2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efinition of “attribute”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is a string, a named property which may be associated with an entity... </a:t>
            </a: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expand this definition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assertion is a statement that a subject is a holder of a specific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 VOMS, an attribute is a group, role or generalised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ED9-4681-4686-9ACA-BE788952CE5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ttribut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xplai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Relying party requirements on lifetime of attributes, schema etc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attribute assertion must link the attribute to one and only one explicitly named entity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lifetime of the assertion should take into account the dynamic nature. Not more than 24 hours. (MS)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ynamic updating of the attribute schema by the VO is required ...</a:t>
            </a: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51FE-18EA-4659-BC8B-F5C65FAB0B1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very AA must have an Attribute Practice Statement (APS Document) and assign it a globally unique object identifier (OID)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023-12E6-43FF-9536-A4B638FC875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should at least contai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8F0-C8B7-44FD-9F81-BC88FEB130F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APS should be public and made available, except for the operational environment which must be disclosed to the accrediting bod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PS document should be structured as defined in a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57A-0E14-4748-9060-F28C0364C1C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aming ... AA:&lt;reasonable representation of name of aasp &gt; - &lt;arbitrary non-null string identify the server or VO set by CA or requested by AASP&gt;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xamp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wlcg-vom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voms411.cern.ch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6DDB-2081-452E-816B-C8C70A7FB14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proces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be one AASP per organis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erson requesting should be appropriately authorised by the organisation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B6F-C58F-40AB-BD07-232D45B5D57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These guidelines are intended to facilitate accreditation of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s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rather than an individual Attribute Authority (a hardware/software installation) or Virtual Organization (a collaborative organisation). An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is an organization (or group within an organization) that runs Attribute Authority Services, including one or more Attribute Authorities, for one or more Virtual Organizations. To achieve sustainability, an AASP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operate AA services as a long-term commitmen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VO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have an AA operated by a single AASP. If the AA service is replicated for reasons of performance and/or fault tolerance then there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means of ensuring consistency. If a VO wishes to have a distributed AA operated by multiple AASPs then these AASPs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accredited individually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853-EAB8-4DDC-ADC2-97C2DADE737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ervice should be operated in accordance with the requirements of the VO Membership Management Policy (ref) and this documen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ich body does the accreditation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caling problems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2D0-DBBC-4D4E-AD1F-ED51EF03B25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9AD8-B379-4016-8E02-03A71F7598A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gress since Jan 200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y littl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t, would now be useful to establish best practice as we move into the EGI era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o…To kick-start the ac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propose to go through some of th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e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s://grid.ie/eugridpma/wiki/AA_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591B-56F8-44D2-8AAE-8336B07A021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igning key must have a minimum length of 2048 bits and should be dedicated to attribute signing functions and tied to the AAS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67C-B020-4887-AE13-99E0C889168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oftware-based private keys of the AA must be suitably protected by the operating system and must only be accessible by the service, trained personnel with procedural control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9E8-63DA-4825-9168-FEE640BA175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As are encouraged to consider using an HSM which must adopt a similar or better level of securit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pies of the private key must be encrypted or must only be available in clear-text in a system which is at least as well protected as the original system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A32-8426-4571-A6EA-8CC6F4CFCCA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Under “Site Security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CA profile said..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pass phrase of the encrypted private key must be kept also on an offline medium, separated from the encrypted keys and guarded in a safe place where only the authorized personnel of the Authority have access. Alternatively, another documented procedure that is equally secure may be used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064-267C-43F7-9D1D-14512AB5BA5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revo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revocation.... </a:t>
            </a: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But RFC3281 has provision for a CRL.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entire PKC certification path must be verified. Revocation of the AA certificate will kill all assertions signed by the AA. The AC is bound to a specific serial number of the end entity. Revocation of the end entity certificate must stop the issue of ACs. Also RP checks the validity of the identity certificat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king a specific AC makes no sense as there are many other issued ACs containing the same attribute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case for revoking AC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C5F2-B4E3-42B1-B741-3914BFC8D93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lifetim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aximum lifetime of the assertion should be 24 hours... </a:t>
            </a: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expand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cause there is no revocation mechanism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B1FC-874C-4A0D-84BE-889D6043A72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10-01-18T17:35:02Z</dcterms:modified>
  <cp:revision>75</cp:revision>
  <dc:subject/>
  <dc:title>Grid Security</dc:title>
</cp:coreProperties>
</file>