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3D3-0229-4619-B12A-74C208BA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E7E-1FA0-43A2-8943-628C223B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230-6FBA-471A-89B1-64A9F020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76F-C632-45D2-9DA6-63FC267C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1C1-1225-4A89-BC07-6021F19A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98E-349B-4A5A-A190-466D7370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772-A652-4163-B3FE-1BC03AEE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932-89DA-4508-B4C7-5F21161F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C0C-3337-4623-8808-FF4DE069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C3A-784E-403B-9782-D4B779F7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12C-5C03-4AC1-8CB6-6DF71162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9A8-E888-49E7-9E18-860E776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D6D1B-19B3-4CDD-8138-4E68EA4F12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E52CF-3E77-453A-9B50-E863458B2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oxtyhouse.ie/" TargetMode="External"/><Relationship Id="rId2" Type="http://schemas.openxmlformats.org/officeDocument/2006/relationships/hyperlink" Target="http://www.odessa.ie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lcome to Dubl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ID not broadcast: Cs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name and password on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 to web and you will be prompted for username and passwo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pop-up window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-con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ing name: EU Grid P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micro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upload slides to the agend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aur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lagher’s Boxty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oxtyhouse.i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itional Irish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e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odessa.i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confirm numbers for today at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s / L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oyer outsid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p to Book of Kel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Science Gallery café has good coff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shop under the st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9:07:20Z</dcterms:created>
  <dc:creator>David O'Callaghan</dc:creator>
  <dc:description/>
  <dc:language>en-US</dc:language>
  <cp:lastModifiedBy>David O'Callaghan</cp:lastModifiedBy>
  <dcterms:modified xsi:type="dcterms:W3CDTF">2010-01-18T09:18:37Z</dcterms:modified>
  <cp:revision>1</cp:revision>
  <dc:subject/>
  <dc:title>Welcome to Dublin!</dc:title>
</cp:coreProperties>
</file>