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277-E538-4752-ABE1-BACA5295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5C1-97FE-42A9-9953-ACE9AF30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1A5-3C39-4077-8557-50625692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5E8-6D92-44DC-9C06-700CA05E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3D95-F9C7-4B87-8902-A6778EA6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7D8F-D940-4DD8-B2C6-3B2DF4D7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ACD7-C73F-40A6-9753-5EA11F7C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9AF3-6ABA-487B-B4D6-7674563F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FE21-6FB0-411C-8D1F-71E44FF5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30CA-A05C-4E7F-B23D-76C6D605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D5B5-DA2A-46B0-B410-0583535D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388-A3A5-4B67-9EE3-631F45F4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823C-3A02-4FB4-82C0-3B493B7B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7B06-83C6-4E15-AA3D-13811D3A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D965-D9AE-40A8-8BBF-A3BA74E2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2C79-415A-48B9-B757-80D52C2D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3AD6-A957-4946-A55E-DD7A30D9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E47-E8C8-4B06-8B8E-2590FD3D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39B-AE09-45AB-8EE7-34B1C140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9A6-21BF-4587-A389-36E8C405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DB8-4C32-4D23-B04A-6536BC2C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743-C79C-4086-864B-3EF1304E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23F-AF4A-4837-881D-99D7F7E1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20C-75D2-4DCB-BB3A-187C94A7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00000" y="623736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92000" y="6237360"/>
            <a:ext cx="53406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703D-B17D-4A23-81EE-4F70B27A008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2D2B-8C70-42ED-B2DE-216A79D25F1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cience.am/ca/policy" TargetMode="External"/><Relationship Id="rId2" Type="http://schemas.openxmlformats.org/officeDocument/2006/relationships/hyperlink" Target="http://www.escience.am/ca/policy" TargetMode="External"/><Relationship Id="rId3" Type="http://schemas.openxmlformats.org/officeDocument/2006/relationships/hyperlink" Target="http://www.escience.am/ca/policy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rmeSFo CA update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including self-audit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5080" y="4149360"/>
            <a:ext cx="3959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menian e-Science Foundatio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sen Hayrapetyan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93080" y="504720"/>
            <a:ext cx="13906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tems rated differently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42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ng RAs to the list of entities who can request revoca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ing CA encrypted private key from the pass phras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Ls were issued in v1 format. V2 format was recommended by Audito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ing the role of RA in proper section of the CP/CP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rlDistributionPoints extension points to PEM-formatted certificat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5B2-0C2F-447B-A6F7-60E8F0B260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tems rated differently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842472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ving the safe with CA machine to the room where the physical access is restricted to CA personnel solely (access to the safe itsel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restricted to CA personnel solely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tructuring CP/CPS according to RFC 3647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9900"/>
                </a:solidFill>
                <a:latin typeface="Arial"/>
                <a:ea typeface="Arial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P/CPS does not include the CA obligation to maintain the archive of records collected by RA, but it is included in ArmeSFo CA agreement with its R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5EA-419E-496C-92E7-275CEB9BA6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 on identified issu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3640" y="2362320"/>
            <a:ext cx="769284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s related to physical securit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CA machine safe to more protected area (D or C):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ending (we will probably move it in sp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ng encrypted key from its password (D or C):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ending, will be fixed together with previous iss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/CPS-related issues –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t fixed yet (planned for March-April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 policy approval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s are not specified as entities who can request revoc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 or 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 operation is nor described in sufficient det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6FD-8C37-49B4-8597-728FE81BC0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 on identified issu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364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romise and disaster recover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 document detailing the procedure for CA person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L forma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lDistributionPoints extension in EE certificates points to PEM-formatted CRL. Should be DER-format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L version (D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ixed, we issue v2 CRL n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ation of SHA1 and MD5 sums of CA root certificate in the CA repository along with instructions how to verify them (C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ixed, the info is published in CA reposi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28C-F4E1-4BD8-AC3F-4E23158135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us since January 2008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42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presented at 1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UGridPMA meeting, January 2008, Amsterdam, Netherland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then…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new versions of CP/CPS issu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 profile harmonised with Grid Certificate Profile v0.2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 of issued EE certificates discontinued: LDAP repository is no longer maintain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d to CRL v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ed by external auditor - Jens Jensen, UK e-Science 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037-7E27-4573-BAD2-79F666A2D9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P/CPS ch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efly certificate profile changes - GCP v0.25 is implemented for EE certificat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 root certificate had been accorded with GCP v0.25 prior to January 2008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893-E486-48BA-B678-FE00DA5ED7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rtificate profile ch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34440" y="2361960"/>
            <a:ext cx="834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removed from EE certificates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CertType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BaseUrl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aCaPolicyUrl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Comment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CaRevocationUrl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subjectKeyIdentifier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authorityKeyIdentifier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issuerAlt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add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rtificate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extendedKeyUsage: 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clientA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add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rtificates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extendedKeyUsage: 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clientAuth, serverA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unse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U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tensio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/ser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s: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nonRepudiation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keyAgre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se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endedKeyUs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rtificate: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emailProte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can be traced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ion His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P/CPSes (vv 0.5, 0.6, 0.7)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escience.am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ca/poli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AA2-DC7F-405D-B599-4B76B490CF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L v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7920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CRL v2 is recommended b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IETF PKI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F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28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ing to CRL v2 was rated as high-priority issue by the Auditor (mark D) during external aud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starting with CP/CPS v0.7 (came into effect on 12 June 2009), we are issuing CRL v2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CRL extensions are set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cRLNumber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authorityKeyIdentifi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DA8-DFF5-4093-B2EA-CD1C271E72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f and external aud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audit performed in December 2007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sent to EUGridPM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tor appointed by PMA: David O’Callagha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ted by Jens Jensen during his visit to Armenia (to work on NATO Collaborative Linkage Grant “Improved Cybersecurity for NATO Partner Countries”), 04-07 June 2009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f the audit issues fixe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F2E-6DB3-457E-88B7-3F93D5D160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the self-aud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es were rated on the sc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it is OK”),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minor recommendation”, would be nice to change)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major recommendation”, this really ought to be changed)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Advice”, MUST be actually changed), X (“not applicable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 issues of type 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10 issues of type 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5 issues of type 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89A-9BA4-438F-8ED4-F36400F470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the external aud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dentified by external Auditor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 issues of type 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 issues of type 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 issues of type 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CE8-6B29-4160-91A9-560F665BC9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arison of the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0000" y="2424240"/>
          <a:ext cx="6397560" cy="3697200"/>
        </p:xfrm>
        <a:graphic>
          <a:graphicData uri="http://schemas.openxmlformats.org/drawingml/2006/table">
            <a:tbl>
              <a:tblPr/>
              <a:tblGrid>
                <a:gridCol w="4094280"/>
                <a:gridCol w="23032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item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7AF-CD65-4E50-8172-1E2D7188CF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5:26:32Z</dcterms:created>
  <dc:creator>User</dc:creator>
  <dc:description/>
  <dc:language>en-US</dc:language>
  <cp:lastModifiedBy>User</cp:lastModifiedBy>
  <dcterms:modified xsi:type="dcterms:W3CDTF">2010-01-16T19:22:09Z</dcterms:modified>
  <cp:revision>11</cp:revision>
  <dc:subject/>
  <dc:title>ArmeSFo CA update (including self-audit)</dc:title>
</cp:coreProperties>
</file>