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EBB-3DC2-42A3-94FA-CBF9E1BC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1A1-3C7B-4750-9EE6-77DFD47A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BD9-579C-49AB-8784-F6E9358E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683-B7AA-4E2C-9FAC-38B59E16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5E7-235A-4E46-BDB7-429D14D0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608-BC52-4B54-8F53-9EFDCC4C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A3C-9ADE-42FE-B952-E8F393D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B45-D3FD-489F-B619-6BDD951C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1E6-C91D-454D-9842-E2D0C1A7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9A6-D063-43FD-A2C2-FFD224C8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C34-D74A-476A-BCC8-28F29A1D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ACE-1BE8-4E1E-8ED6-56548D02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79ED3-F8A3-47F7-B3DF-0467D0A42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U GridPMA Dub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– TLS rene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another middlew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nnouncements from Glo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necessarily seen by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t specifically a Globu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bounces not unhear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sponding members not unhear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sponding CAs definitely heard o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ing all P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n theory, round the clock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ing CA stuff, not othe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affecting P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up on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report at PMA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action – testing C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revious Six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09: Apache mod_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TMCP: Yet Another “Too Many CAs”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o f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GTF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issuing a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idn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finishing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(DSA) and MD5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ms test to igtf-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NUL 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iddlew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heck for embedded NUL ch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Another comm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 CAs responded within 24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20 that didn't, six responded after a quick p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relinquished role a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s took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not taken a step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TF A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-ish – RAT comm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ecure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two members respond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