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48774B-39D1-4F87-A962-8BC0769698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ACEC8F-A83C-4F87-AD49-0480B13BC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F64F2D1E-7992-40C5-99CB-D6F6CE56E1B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5690060E-09FC-42B6-B651-8BD35A05BA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CFE0F8F0-0170-49AE-A2DF-3699FC6D5F4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3C56F53-60C7-4DFF-B117-60DE39251D4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9DD0E47-DD27-4067-8C85-1C0BFE7EC0A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9ADE7AC8-6BBA-4A52-91AC-8F3E03B401D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AC55739A-974F-49C5-A3CF-7AA341B0ED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67000EA9-8A84-4F45-9A0B-684F63855F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17F22A66-7822-4BF2-889C-FD38C7C64F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26FD105D-D9DE-41D0-A3E2-AF6F635896E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Berlin meeting – Sept 2009 - </a:t>
              </a:r>
              <a:fld id="{B6DC10EC-6D15-429E-9002-9978A8B7895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9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April 19-21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iga, Latv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IGMANET</a:t>
            </a:r>
            <a:br>
              <a:rPr sz="4000"/>
            </a:br>
            <a:r>
              <a:rPr b="1" i="1" lang="en-GB" sz="2000" spc="-1" strike="noStrike">
                <a:solidFill>
                  <a:srgbClr val="000066"/>
                </a:solidFill>
                <a:latin typeface="Lucida Sans"/>
              </a:rPr>
              <a:t>AND EDGAR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onnect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o connect via telephone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+31 20 716 529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menu option "3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ose the conference number 98002 and confirm by "#"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and the Global Dialling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0031800198002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a H323 over IP direct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ial hdmcu1.surfnet.nl (192.87.102.230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nter the conference number: 98002 and confirm by "#“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llaboration environment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ebconf.vc.dfn.de/r88168684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4-19T06:26:57Z</dcterms:modified>
  <cp:revision>484</cp:revision>
  <dc:subject/>
  <dc:title>European Grid Policy Management Authority</dc:title>
</cp:coreProperties>
</file>