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931-36B3-474F-A893-C9EB8029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3398-6735-40DF-ADB9-806C87D8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A6E-F093-41AC-8C4B-32667630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7E2-AAA8-46D6-99D6-AD94FFFF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561-06DE-4FB3-BCD5-F69D7702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8F7-D88B-4A3F-8C2C-C1D0D423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2ED3-1FC2-417C-BA22-9B6F1123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28A-0D34-485B-AEC0-2160E744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FE6-8142-4AA6-ADDE-B69F8D6B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893-E007-4A61-B58F-399643F5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C8A-1BCC-43B6-9465-D8BEA7BC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B11-50B3-4CC8-B616-AE82A64F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Utopia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ter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harter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2" marL="1143000" indent="-230040">
              <a:spcBef>
                <a:spcPts val="799"/>
              </a:spcBef>
              <a:buClr>
                <a:srgbClr val="333399"/>
              </a:buClr>
              <a:buFont typeface="Charter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Charter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harter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harter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harter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te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A24D08-0940-4991-9E88-AFF2F5BD51D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man Ahmad Malik, N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55748E-CE76-447B-B6BE-582F27846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334360" y="304920"/>
            <a:ext cx="1243080" cy="125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6840" y="28036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3480"/>
                <a:tab algn="l" pos="7237440"/>
                <a:tab algn="l" pos="7959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b84700"/>
                </a:solidFill>
                <a:latin typeface="Arial"/>
              </a:rPr>
              <a:t>PK-GRID-CA</a:t>
            </a:r>
            <a:br>
              <a:rPr sz="4000"/>
            </a:br>
            <a:r>
              <a:rPr b="1" lang="en-US" sz="4000" spc="-1" strike="noStrike">
                <a:solidFill>
                  <a:srgbClr val="b84700"/>
                </a:solidFill>
                <a:latin typeface="Arial"/>
              </a:rPr>
              <a:t>Audit Report</a:t>
            </a:r>
            <a:endParaRPr b="0" lang="en-US" sz="40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2519280" y="4962600"/>
            <a:ext cx="503892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Usman Ahmad Mal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K-Grid-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ational Centre for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907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audit once per year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being done regularly since 2009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CA staff to be maintained and verified at least once per year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the list is maintained and verifi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ublication and repository responsibilities 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sitory to run on best effort basis (24x7 availability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Yes, run on best effort basis, had a few un-announced downtimes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root to be published as root of trust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 root cert is publish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ository/publication requirement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l requirements are met, every required info is publish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istribution of published info by the PMA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information is re-distributed by PMA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o validate integrity of its root of trust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provid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anchor to trust anchor repository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provid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3D7-0800-4C76-A1CA-7F0768513D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46F79-A638-4315-A61F-823D4B361D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907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vacy and confidentiality 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cy and confidentiality policy governed by local law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describ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romise and disaster recovery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compromise and disaster recovery procedure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romise and disaster recovery procedures are document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istration Authority to keep record archival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doing at the moment, CA is maintaining all records (D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D6B-9F4C-43A8-86BB-4904BC26B74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5189B-2D6A-41D4-8090-6E91DDD0BA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590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800" spc="-1" strike="noStrike">
                <a:solidFill>
                  <a:srgbClr val="cc3300"/>
                </a:solidFill>
                <a:latin typeface="Arial"/>
              </a:rPr>
              <a:t>THANK YOU</a:t>
            </a:r>
            <a:endParaRPr b="0" lang="en-US" sz="8800" spc="-1" strike="noStrike">
              <a:solidFill>
                <a:srgbClr val="cc3300"/>
              </a:solidFill>
              <a:latin typeface="Utop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K-Grid-CA Update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d and managed by National Centre for Physics, ISB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edited in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russels in 2004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ng whole of Pakistan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user community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tal Certificates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17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pired Certificates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 9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voked Certificates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 3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tive Certificate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 4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r Certificates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101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st Certificates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 74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reviewed by PMA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January 2009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internal audit completed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arch 2010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changes in CP-CPS, version 1.1.3.0 submitted to PMA for approval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pril 2010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4CA-66A7-4401-8A11-107B6290A0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332AF-0ED0-4141-9E59-96942FED89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 (audit score)</a:t>
            </a:r>
            <a:endParaRPr b="0" lang="en-US" sz="2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/CP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PK-Grid-CA has a CP-CP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A per country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single CA in the country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D assigned to CP-CP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IANA assigned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-CPS Administration/Change Management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scribed in CP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S available on the web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available on the web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S Structured according to RFC3647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, structured according to RFC3647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D08-C9CA-4402-BCA1-667EDD22542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DCB22-0E88-42D2-B219-0AB586D207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547280"/>
            <a:ext cx="9072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CA System</a:t>
            </a:r>
            <a:endParaRPr b="0" lang="en-US" sz="2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dicated machine, running no other service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CA signing machine is a dedicated machine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cure environment with controlled acces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secure environment is described in CP-CP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 system is offline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completely offline, do not have HSM (A/X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cure environment documented/approved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Documented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Approved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In process (A/X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CA Key</a:t>
            </a:r>
            <a:endParaRPr b="0" lang="en-US" sz="2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imum length 2048 bit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4096 bit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ng term use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valid for 10 year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17A-D1C4-4AED-8962-64295FCDD6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CD8B6-8449-4B2F-8830-7DC4AB09A3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 Key protection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described in CPS, protected with pass-phrase of min. 15 chars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fline copies of private key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secure offline copies are kept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fline copies of private key pass-phrase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secure offline copies are kept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mpered proof logs for online CAs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Not running an online CA (X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ition of CA’s cryptographic data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described in the CP-CPS, transition took place in 2007 (A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verlap requirement (both keys operating)</a:t>
            </a:r>
            <a:endParaRPr b="0" lang="en-US" sz="2400" spc="-1" strike="noStrike">
              <a:solidFill>
                <a:srgbClr val="000000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Yes, overlap happened in 2008, old certificates and CRLs are no more valid (X)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4C6-3E03-499B-A60C-1B131399B44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C6948-3A68-4823-8080-5C0CE70AD9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720" y="1620360"/>
            <a:ext cx="907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 Certificate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certificate x.509 compliant and published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time no longer than 20 year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 years lifetime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time must not be less than 2x life time of an EE certificate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 years lifetime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ce with OGF GFD.12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uthentication Profile ID is missing in EE certificates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rtificate Revocation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cation request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described in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cation ASAP, one working day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also describ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r obligation to inform CA in case of compromise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included in the new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74F-3427-45E6-8719-69C165EBDC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A9856-FD7E-4E42-BE66-F9E9739EE7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618920"/>
            <a:ext cx="907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of revocation request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described in the CPS and follow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L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CRL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publish CRL to a web repository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L lifetime no more than 30 day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x. lifetime is 30 day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new CRL 7 days before the expiration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ssed a few times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issue and publish CRL immediately after revocation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RL is issued and published ASAP after revocation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L compliant with RFC5280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compliant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E Certificates and Keys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31480" indent="-227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length of 1024 bit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minimum length is 1024 bit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633-DD54-4B4F-B545-379E17E02F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88259-7852-4510-9F78-563C5BCA03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618920"/>
            <a:ext cx="907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ertificate lifetime must be no longer than 13 month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fetime is 12 month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certificates not to be shared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explicitly mention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ryptographic data generated by the applicant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EE generate cryptographic data through a browser module using the secure online CA portal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r obligation in protecting the private key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explicitly mentioned in the new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ertificates compliance with OGF GFD.125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uthentication Profile OID is missing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to be meaningful for CN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describ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keys in software tokens must be re-keyed and not renewed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 do not renew private keys, instead we rekey (A) 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199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keys in hardware tokens may be renewed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Not mentioned in the CPS (B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359-CC08-438A-B607-00B7FE28A02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A291A-985B-431C-8A54-6C2B12E46B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udit Report</a:t>
            </a:r>
            <a:endParaRPr b="0" lang="en-US" sz="4400" spc="-1" strike="noStrike">
              <a:solidFill>
                <a:srgbClr val="cc3300"/>
              </a:solidFill>
              <a:latin typeface="Utop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907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s may not be renewed/re-keyed consecutively for more than 5 year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explicitly mentioned in the CP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rd Archival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and archive all requests, issued certificates/CRLs, revocation requests, login/logout/reboot of signing machine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all relevant records are kept and archived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 of records to external auditor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record archives are available to external auditors (peer CAs) on request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s must be kept for three year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kept for at least three years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dits </a:t>
            </a:r>
            <a:endParaRPr b="0" lang="en-US" sz="2400" spc="-1" strike="noStrike">
              <a:solidFill>
                <a:srgbClr val="333399"/>
              </a:solidFill>
              <a:latin typeface="Charter"/>
            </a:endParaRPr>
          </a:p>
          <a:p>
            <a:pPr lvl="2" marL="114300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being audited by other CAs</a:t>
            </a:r>
            <a:endParaRPr b="0" lang="en-US" sz="2000" spc="-1" strike="noStrike">
              <a:solidFill>
                <a:srgbClr val="333399"/>
              </a:solidFill>
              <a:latin typeface="Charter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es, we accept it (A)</a:t>
            </a:r>
            <a:endParaRPr b="0" lang="en-US" sz="1800" spc="-1" strike="noStrike">
              <a:solidFill>
                <a:srgbClr val="333399"/>
              </a:solidFill>
              <a:latin typeface="Char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48B-E77B-4D36-B015-9106EC26DF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7626A-7BC2-4A94-92ED-0C088374A7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09:21:53Z</dcterms:created>
  <dc:creator>tim</dc:creator>
  <dc:description/>
  <dc:language>en-US</dc:language>
  <cp:lastModifiedBy>Usman A. Malik</cp:lastModifiedBy>
  <dcterms:modified xsi:type="dcterms:W3CDTF">2010-04-20T06:19:08Z</dcterms:modified>
  <cp:revision>656</cp:revision>
  <dc:subject/>
  <dc:title>T0-T1 distribution</dc:title>
</cp:coreProperties>
</file>