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6131-3E12-4D9A-B924-80AA514A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87930-A16A-43C1-8B9B-302934BF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2552DD-6587-4846-BBA5-C2156000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769E4-3C05-4A9F-9A38-E639772B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9A12E6-913C-4526-8EF3-E79D8C46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E02BC-565C-4585-B9FD-B9002E2B0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690E8-9F1A-40CE-8C19-4AC083029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E44B7-8F29-410A-B912-2C108A4B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1CF4C-CB26-48C5-B075-F705880B4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 April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6, April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5522760" y="3602160"/>
            <a:ext cx="26640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ertStatistics-201004.tiff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/Host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2F Mee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 was held in Taipei in conjunction with ISGC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ate 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enue: Academia Sinica, Taip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cipation of member 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1 CA presented in person, 2 representatives joined remotely,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3786120" y="35053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CA Accreditation: Mongolia – new phase CP/CPS review is still undergo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ume Routine Self-Audit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CA should present self-auditing report once every two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, NECTEC, and CNIC, SDG reported this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urrent audit template should be followed but the procedure has to be clearly defined before next F2F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, IGCA, ASGCCA, NCHC will report in next mee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9144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F2F meeting on 8 Mar.’10 (I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6320" y="679320"/>
            <a:ext cx="914400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GTF Policy Document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 Policy and Robot Certificate  are endor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of CA Contact (d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tus matrix of Accreditation and Operation Status will be drafted by Eric for comment. (will be finished by end Ap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GridPMA spring F2F meeting will be joint with ISG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All Hands Meeting is also welcomed to be held at ISGC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40000"/>
              </a:lnSpc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and ARCS are two candidates for the F2F meeting i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half of 2010 and 2011. They will explore possible dates later. Eric is looking f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andidate in South East Asia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ree proposals should be available for vote in early M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8:18:38Z</dcterms:created>
  <dc:creator>David Groep</dc:creator>
  <dc:description/>
  <dc:language>en-US</dc:language>
  <cp:lastModifiedBy>bluesea520</cp:lastModifiedBy>
  <dcterms:modified xsi:type="dcterms:W3CDTF">2010-04-19T06:59:25Z</dcterms:modified>
  <cp:revision>216</cp:revision>
  <dc:subject/>
  <dc:title>International Grid Trust Federation Session  GGF 18 Washington, DC, USA</dc:title>
</cp:coreProperties>
</file>