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68627FE-38E9-4CCB-8EC9-28DF385DF8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6692E03-ABB7-48D8-A80D-11308D574B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654FF777-003B-4832-89E3-B47D23FCDBA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BC4C3AC0-83E1-4B4B-AFB9-A1D6E8017EA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86BFDBFD-7F51-4804-A16C-595CE246A1A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E696F04A-A5EA-4925-BD1F-3C4F0949109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D07D9814-9EAD-49E0-A35B-43C652B13E7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A66DD3CB-FEEA-4DF9-AAA6-5C85635CD87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536A713F-360C-44D7-BE2E-75890EF3CBF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70746769-BCD2-4B0A-9C26-3F2AD21950A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88D71106-BA5B-4768-A336-ED8AC560750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23B818E2-404F-420A-A48F-D2EB64E1259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CD57D3A9-E39A-402F-9AE1-B76B062BCEC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0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ember 20-22, 2010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Zagreb, Croat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SRCE</a:t>
            </a:r>
            <a:br>
              <a:rPr sz="4000"/>
            </a:br>
            <a:r>
              <a:rPr b="1" i="1" lang="en-GB" sz="2000" spc="-1" strike="noStrike">
                <a:solidFill>
                  <a:srgbClr val="000066"/>
                </a:solidFill>
                <a:latin typeface="Lucida Sans"/>
              </a:rPr>
              <a:t>AND DOBRISA DOBRENIC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onnecting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o connect via telephone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+31 20 716 5293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ose menu option "3“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ose the conference number 98003 and confirm by "#"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a H323 and the Global Dialling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0031800198003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a H323 over IP direct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hdmcu1.surfnet.nl (192.87.102.230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nter the conference number: 98003 and confirm by "#“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ollaboration environment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s://connect.srce.hr/eugrid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onday, Sep 20 meeting in front of Srce at 20.00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lace: Pri zvoncu, XII Vrbik 1 (http://www.prizvoncu.com/)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is is domestic restaurant next to the Srce and quite near The Movie Hotel as well as International Hotel (1 km)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uesday, Sep 21 meeting in front of Movie Hotel (http://www.themoviehotel.com/) at 19.00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nner place: Konoba Didov san - Gornji grad, Mletacka 11 (http://www.konoba-didovsan.com/)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mall domestic restaurant (just 25 places for us) with a hint of Adriatic coast (!) in downtown Zagreb. We are going there with tramway and will take a stroll through the heart of the c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0-09-20T07:30:10Z</dcterms:modified>
  <cp:revision>488</cp:revision>
  <dc:subject/>
  <dc:title>European Grid Policy Management Authority</dc:title>
</cp:coreProperties>
</file>