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ACA46B0-4EA5-45A1-A2D6-D79D2C9B98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F3D199B-4D16-4B19-AB07-1117AC0370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0F4F22A-3764-48C2-9F4E-9ECDB121306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0CBE6115-7CA8-4637-98F7-77EC344ADEE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76D1DE8-8FA7-43E6-8BD9-09B3DC03F90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B3BBC7A-53DC-4368-B48F-871CA1637CD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645B788-664D-42BF-A7AA-0B91EE87B87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AF90DE0-2A67-42F1-987A-6EF5981B5B3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10480D5-3CFD-4F09-AD30-D866188DDBE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0D2C2A9-FBAD-420B-9B78-A1C6D281719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922367FE-7582-4E87-BA5B-8676E03DE53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94B1F44C-FEA9-424A-8767-E1651A0C69F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A7FEB38-83EA-45D9-9FC5-91E58966F5B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1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4-26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Utrecht, the Netherland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IGTF All Hands meeting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Taipei, 21+22 March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Prague, 11-13 May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NC201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Prague, 16-19 May 2011 (REFEDs: 15 Ma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3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jubljana, 12-14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4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Januar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URFnet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oost van Dijk en Thijs Kinkhorst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4" descr="H:\Home\davidg\Template\Logos\surfnet-transparent.gif"/>
          <p:cNvPicPr/>
          <p:nvPr/>
        </p:nvPicPr>
        <p:blipFill>
          <a:blip r:embed="rId1"/>
          <a:stretch/>
        </p:blipFill>
        <p:spPr>
          <a:xfrm>
            <a:off x="708120" y="2619360"/>
            <a:ext cx="268452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0" y="28080"/>
            <a:ext cx="914400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Monday 24 09:30 – 17: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Welcome, agenda, minutes last meeting, note taker, introd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Round-table up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4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s from the APGridPMA (Eric Y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IGTF Risk Assessment Team report (Jens Jens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Report-out from the self-audit review te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EUMedGrid II Support Programme: Around the Med (Onur Temizsoyl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: DFN-PKI Grid CA (Reimer Karlsen-Masu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2.45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Discussion: role for PMA with introduction of STS services in e-Infrastructur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 security Token Service at SURFnet (Remco Poortinga-van Wijnen, 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uthorization Working Group (Dave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5.3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 from TAGPMA (Scott R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uthorization Working Group II (Dave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0" y="0"/>
            <a:ext cx="89679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Tuesday 25 09:30 – 17: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A Update I: BEGrid (Jean-Christophe Real, 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I: DZ e-Science Grid (Aouaouche El-Maouha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I: MREN CA (Lidija Milosavljevi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II: HIAST initial presentation (Ghassan Saba and Houssam Ab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rivate key protection and CA based key generation services (Scott R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3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lanning of 2012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1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Jens’ Soap boxes Ltd. (Jens Jens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5.3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meeting structure: length of meetings and where best to do the self-audits report etc.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AOPS Working Group (Christos Kanellopoulos, Yoshio Tanak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7.2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resentation of the next meeting in Prague, C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Wednesday 26 09:30 – 13: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II: RDIG CA update (Eygene Riabinki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V: UGrid CA (Sergii Stirenk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s to the MICS Profile, text edits from the TAGPMA (David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presentation III: KOSTAR/UAE (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4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losing and AO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Ursula Epting, Dave Kelsey and David O'Callaghan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1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nner Monday, 20.00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457200" y="798480"/>
            <a:ext cx="8491680" cy="5699160"/>
          </a:xfrm>
          <a:prstGeom prst="rect">
            <a:avLst/>
          </a:prstGeom>
          <a:ln w="0">
            <a:noFill/>
          </a:ln>
        </p:spPr>
      </p:pic>
      <p:sp>
        <p:nvSpPr>
          <p:cNvPr id="575" name="Right Arrow 4"/>
          <p:cNvSpPr/>
          <p:nvPr/>
        </p:nvSpPr>
        <p:spPr>
          <a:xfrm>
            <a:off x="797040" y="3997440"/>
            <a:ext cx="677880" cy="3538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3" descr="H:\Home\davidg\Template\Logos\surfnet-transparent-small.gif"/>
          <p:cNvPicPr/>
          <p:nvPr/>
        </p:nvPicPr>
        <p:blipFill>
          <a:blip r:embed="rId2"/>
          <a:stretch/>
        </p:blipFill>
        <p:spPr>
          <a:xfrm>
            <a:off x="797040" y="3660840"/>
            <a:ext cx="631800" cy="303120"/>
          </a:xfrm>
          <a:prstGeom prst="rect">
            <a:avLst/>
          </a:prstGeom>
          <a:ln w="0">
            <a:noFill/>
          </a:ln>
        </p:spPr>
      </p:pic>
      <p:sp>
        <p:nvSpPr>
          <p:cNvPr id="577" name="Left Arrow 6"/>
          <p:cNvSpPr/>
          <p:nvPr/>
        </p:nvSpPr>
        <p:spPr>
          <a:xfrm>
            <a:off x="5767560" y="4025880"/>
            <a:ext cx="603000" cy="264960"/>
          </a:xfrm>
          <a:prstGeom prst="leftArrow">
            <a:avLst>
              <a:gd name="adj1" fmla="val 50000"/>
              <a:gd name="adj2" fmla="val 49952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TextBox 9"/>
          <p:cNvSpPr/>
          <p:nvPr/>
        </p:nvSpPr>
        <p:spPr>
          <a:xfrm>
            <a:off x="3421080" y="4307040"/>
            <a:ext cx="296532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urks Restaurant Se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riastraat 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nner Tuesday, 20.00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371520" y="1085760"/>
            <a:ext cx="8772480" cy="5334120"/>
          </a:xfrm>
          <a:prstGeom prst="rect">
            <a:avLst/>
          </a:prstGeom>
          <a:ln w="0">
            <a:noFill/>
          </a:ln>
        </p:spPr>
      </p:pic>
      <p:sp>
        <p:nvSpPr>
          <p:cNvPr id="581" name="Right Arrow 4"/>
          <p:cNvSpPr/>
          <p:nvPr/>
        </p:nvSpPr>
        <p:spPr>
          <a:xfrm>
            <a:off x="884160" y="5530680"/>
            <a:ext cx="679680" cy="35424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3" descr="H:\Home\davidg\Template\Logos\surfnet-transparent-small.gif"/>
          <p:cNvPicPr/>
          <p:nvPr/>
        </p:nvPicPr>
        <p:blipFill>
          <a:blip r:embed="rId2"/>
          <a:stretch/>
        </p:blipFill>
        <p:spPr>
          <a:xfrm>
            <a:off x="884160" y="5194440"/>
            <a:ext cx="633600" cy="303120"/>
          </a:xfrm>
          <a:prstGeom prst="rect">
            <a:avLst/>
          </a:prstGeom>
          <a:ln w="0">
            <a:noFill/>
          </a:ln>
        </p:spPr>
      </p:pic>
      <p:sp>
        <p:nvSpPr>
          <p:cNvPr id="583" name="Left Arrow 6"/>
          <p:cNvSpPr/>
          <p:nvPr/>
        </p:nvSpPr>
        <p:spPr>
          <a:xfrm rot="18819000">
            <a:off x="6208560" y="1859040"/>
            <a:ext cx="604800" cy="265320"/>
          </a:xfrm>
          <a:prstGeom prst="leftArrow">
            <a:avLst>
              <a:gd name="adj1" fmla="val 50000"/>
              <a:gd name="adj2" fmla="val 50033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4011480" y="2433600"/>
            <a:ext cx="296388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lamat Mak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oorstraat 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NEXT MEETINGS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1-24T08:17:15Z</dcterms:modified>
  <cp:revision>493</cp:revision>
  <dc:subject/>
  <dc:title>European Grid Policy Management Authority</dc:title>
</cp:coreProperties>
</file>