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3DB-F36E-47DD-8F5A-C4BE61BF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937-6914-4D6C-80A0-58D1344F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0A0-DCF0-4007-A738-35F05EF0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44A-7046-4AA4-8EB3-857A1B19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9F51-FC36-4A7C-9466-DD9C995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BAFA-525F-4043-A038-E6072D6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1930-C0AB-4653-925D-C6D940C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FACA-C325-4AC2-A577-94FBE56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A6FD-037F-4A94-A6CD-A54DD00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41D-D330-40BE-812C-D1370C1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6E97-FF51-460A-B690-4F919C6C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874-3E31-4D9B-8FE7-9157296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9E5-8C9E-4A8C-BAEF-FE9ECA4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3F78-805C-484B-890A-AEB6AAA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17B-963F-4D0A-AEAE-C0708025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DD5-BED3-43A2-ACA9-2F9FC645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B0D-6D88-45B2-BE9D-DEC94D31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70B-729D-4855-A6C2-4411B2F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182-454C-4BA4-A113-B7ACB126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EDC-E870-40AA-9A02-AC1D7B2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610-D9FF-4B3E-8500-7D6C32A0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DCF-EE59-477C-97E6-B95D991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D9C-7707-486C-914E-5A1F451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537-48CD-46EF-8B50-FB327FD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7F6FAA-BDEB-42DD-BA57-CD1EF130E41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72F127-146C-471D-AB30-0233026BF92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76764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br>
              <a:rPr sz="6000"/>
            </a:b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 in Algeri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78900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uaouche El-Maou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maouhab@wissal.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UMEDGrid-support &amp; EPIK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61927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26560" y="285228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erian Research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 e-Science Gri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Initiative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619272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ARN 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echnological infrastructure f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69200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RN -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310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ational backbone based on 4 PoPs actually and 10 PoPs which are under de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rnational Connectivity through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ANT (European Research Network) with </a:t>
            </a:r>
            <a:r>
              <a:rPr b="0" lang="fr-FR" sz="2200" spc="-1" strike="noStrike">
                <a:solidFill>
                  <a:srgbClr val="ff3300"/>
                </a:solidFill>
                <a:latin typeface="Arial"/>
              </a:rPr>
              <a:t>155 Mbp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rough EC EUMEDCONNECT2 project (May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rnet commodity with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622 Mbp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through commercial Provider (May 201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75452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RN</a:t>
            </a:r>
            <a:br>
              <a:rPr sz="3500"/>
            </a:b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ction plan (201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RN Backbone with G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international connectivity to GE l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30 Universities to FE (10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ll others (50) universities centers, research centers and high schools to FE (1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073240" y="2498760"/>
            <a:ext cx="2305080" cy="7207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8320" y="2421000"/>
            <a:ext cx="2122560" cy="293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2395440"/>
            <a:ext cx="695160" cy="3096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142360" y="2998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571120" y="3214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284000" y="24282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85360" y="27853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0008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7004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34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GEAN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6200" y="26028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1197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600" spc="-1" strike="noStrike">
                <a:solidFill>
                  <a:srgbClr val="ff0000"/>
                </a:solidFill>
                <a:latin typeface="Calibri"/>
              </a:rPr>
              <a:t>STM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3440" y="1844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Calibri"/>
              </a:rPr>
              <a:t>ST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8320" y="2536920"/>
            <a:ext cx="1327320" cy="25635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523960"/>
            <a:ext cx="2073240" cy="3034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78280" y="4791240"/>
            <a:ext cx="849240" cy="3348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4095720"/>
            <a:ext cx="1484280" cy="1119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 rot="10800000">
            <a:off x="4145760" y="5144760"/>
            <a:ext cx="1500840" cy="7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86" name=""/>
          <p:cNvSpPr/>
          <p:nvPr/>
        </p:nvSpPr>
        <p:spPr>
          <a:xfrm>
            <a:off x="5705640" y="4327560"/>
            <a:ext cx="952200" cy="8366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3400" y="2781360"/>
            <a:ext cx="476280" cy="3747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08600" y="2793960"/>
            <a:ext cx="179280" cy="722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120" y="2808360"/>
            <a:ext cx="528480" cy="257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0600" y="376200"/>
            <a:ext cx="3925800" cy="2057400"/>
          </a:xfrm>
          <a:prstGeom prst="pie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>
            <a:off x="1926720" y="720"/>
            <a:ext cx="2429640" cy="430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92" name=""/>
          <p:cNvSpPr/>
          <p:nvPr/>
        </p:nvSpPr>
        <p:spPr>
          <a:xfrm>
            <a:off x="1263600" y="3308400"/>
            <a:ext cx="1305000" cy="19368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5200" y="3348000"/>
            <a:ext cx="41400" cy="1890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7800" y="2878200"/>
            <a:ext cx="390600" cy="1476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2475000"/>
            <a:ext cx="243000" cy="7524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9280" y="2629080"/>
            <a:ext cx="88560" cy="1267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505240"/>
            <a:ext cx="1657440" cy="7585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24320" y="2619360"/>
            <a:ext cx="190440" cy="10000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43720" y="2752560"/>
            <a:ext cx="276120" cy="4669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14640" y="2629080"/>
            <a:ext cx="419400" cy="1234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760" y="2514600"/>
            <a:ext cx="51444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24640" y="2419200"/>
            <a:ext cx="133200" cy="238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476440"/>
            <a:ext cx="152640" cy="2286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8400" y="2390760"/>
            <a:ext cx="361800" cy="284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0120" y="2400480"/>
            <a:ext cx="514440" cy="95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2400" y="214308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eja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3238560"/>
            <a:ext cx="628560" cy="57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3124080"/>
            <a:ext cx="362160" cy="371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V="1" rot="10800000">
            <a:off x="-2265480" y="3358800"/>
            <a:ext cx="3093120" cy="18072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12" name=""/>
          <p:cNvSpPr/>
          <p:nvPr/>
        </p:nvSpPr>
        <p:spPr>
          <a:xfrm>
            <a:off x="574560" y="5857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Ad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4040" y="5929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3b76"/>
                </a:solidFill>
                <a:latin typeface="Calibri"/>
              </a:rPr>
              <a:t>Tamanras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8560" y="1284120"/>
            <a:ext cx="806400" cy="1167120"/>
          </a:xfrm>
          <a:prstGeom prst="line">
            <a:avLst/>
          </a:prstGeom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907920"/>
            <a:ext cx="4029120" cy="73296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MESR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GRSD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MBB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UNIV. ALGER (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1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2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ouzarea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i-Messou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ly-Brahim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Maherz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Kharroub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rgan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 ENT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STHB, EN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ES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000" spc="-1" strike="noStrike">
                <a:solidFill>
                  <a:srgbClr val="f13415"/>
                </a:solidFill>
                <a:latin typeface="Calibri"/>
              </a:rPr>
              <a:t>ENV,ENTP,ENSH,INA,EPAU,ISMAL,INPS,INC,ESC,ENS(KOUB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(BOUZAREAH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ERIST,CDTA,CDER,CS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STDL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EAD,CRAP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UDTS,UD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DRU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VREDE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F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26680" y="2286000"/>
            <a:ext cx="1515600" cy="33732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. ES-SENIA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STO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ENSET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CRA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ANDRS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IGM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629080"/>
            <a:ext cx="123840" cy="37116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800" y="1785960"/>
            <a:ext cx="2132640" cy="21564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 Constantine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Emir AEK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CRBiotec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86480" y="1990800"/>
            <a:ext cx="171360" cy="64764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5950080"/>
            <a:ext cx="95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003b76"/>
                </a:solidFill>
                <a:latin typeface="Calibri"/>
              </a:rPr>
              <a:t>(U. Adrar, UE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440" y="350028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(U. Biskra,CRSTR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75920" y="485784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(U. Ghardaia, URAER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5788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86680" y="264312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1920" y="307188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6720" y="292896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4720" y="328608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335772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Sidi Bel Abb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129120"/>
            <a:ext cx="38160" cy="180720"/>
          </a:xfrm>
          <a:prstGeom prst="pie">
            <a:avLst/>
          </a:prstGeom>
          <a:solidFill>
            <a:srgbClr val="f1341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19160" y="3103560"/>
            <a:ext cx="219240" cy="1681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8920" y="2714760"/>
            <a:ext cx="95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ordj Bou Arreridj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00720" y="2809800"/>
            <a:ext cx="323640" cy="76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3160" y="257184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i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2685960"/>
            <a:ext cx="123840" cy="97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0480" y="292896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Oum-El-Boua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762280"/>
            <a:ext cx="24768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92640" y="2868480"/>
            <a:ext cx="179280" cy="1890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0718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Tissemsi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29760" y="0"/>
            <a:ext cx="714240" cy="50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35760" y="291960"/>
            <a:ext cx="1265040" cy="505080"/>
            <a:chOff x="6035760" y="291960"/>
            <a:chExt cx="1265040" cy="50508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035760" y="291960"/>
              <a:ext cx="12650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145200" y="35676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ARN M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862680" y="2571840"/>
            <a:ext cx="54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Guelm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58040" y="250020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71476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70720" y="2712600"/>
            <a:ext cx="29520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192440" y="2477880"/>
            <a:ext cx="173160" cy="2988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18720" y="2500200"/>
            <a:ext cx="48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l-Tar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20480" y="2643120"/>
            <a:ext cx="80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ostagan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12560" y="2863800"/>
            <a:ext cx="366840" cy="13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00280" y="6215040"/>
            <a:ext cx="285840" cy="1440"/>
          </a:xfrm>
          <a:prstGeom prst="line">
            <a:avLst/>
          </a:prstGeom>
          <a:ln w="381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0280" y="6357960"/>
            <a:ext cx="285840" cy="144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280" y="65008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0280" y="6643800"/>
            <a:ext cx="285840" cy="144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0280" y="6072120"/>
            <a:ext cx="285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92920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Lien 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30080" y="607212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080" y="621504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9360" y="6357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360" y="65008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596360" y="5735520"/>
            <a:ext cx="1547640" cy="11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Dz e-Science Grid</a:t>
            </a:r>
            <a:br>
              <a:rPr sz="5400"/>
            </a:b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 infrastructure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e-Science communities a plate-form for developing activities which need resources for calculate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un set of Grid resources “clusters” on ARN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rvice to users for porting, deploying and submitting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Participation to</a:t>
            </a:r>
            <a:br>
              <a:rPr sz="4800"/>
            </a:b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EC Projects (FP7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CONNEC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Grid-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P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26920" y="0"/>
            <a:ext cx="740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MEDCONNECT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1:09:25Z</dcterms:created>
  <dc:creator>Boomscud</dc:creator>
  <dc:description/>
  <dc:language>en-US</dc:language>
  <cp:lastModifiedBy>houbla</cp:lastModifiedBy>
  <dcterms:modified xsi:type="dcterms:W3CDTF">2011-01-25T00:48:38Z</dcterms:modified>
  <cp:revision>33</cp:revision>
  <dc:subject/>
  <dc:title>dzGrid Initiative GRID nationale</dc:title>
</cp:coreProperties>
</file>