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517C33-F15A-4BC8-B77C-14BE0C4C7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CACB56-611A-4E7E-A7B7-3A48D1051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92A89D-BF32-43FD-8862-21A24243F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D0C646-8DCE-4F89-B48B-122A9127F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A79DBE-5C9F-4305-BCD4-A7C7D5DBF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050560" y="274320"/>
            <a:ext cx="663588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977EC0-E17A-4157-A03D-BD7330B85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361AFB-044C-42AC-B2DB-D5FDD36B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7ADCFA-2313-4FE1-AB8E-C69CCBB1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8F87CD-551A-4019-A399-0F9215C02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4FFC7C-451A-4435-9268-672D50CB9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496607-C842-4DE0-A89C-55D8251AC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03DD99-F203-44A7-8F83-3A146F297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050560" y="274320"/>
            <a:ext cx="663588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484000" y="6237000"/>
            <a:ext cx="50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cott Rea – </a:t>
            </a:r>
            <a:r>
              <a:rPr b="1" lang="en-GB" sz="1400" spc="-1" strike="noStrike" u="sng">
                <a:solidFill>
                  <a:srgbClr val="0000ff"/>
                </a:solidFill>
                <a:uFillTx/>
                <a:latin typeface="Verdana"/>
                <a:ea typeface="ＭＳ Ｐゴシック"/>
              </a:rPr>
              <a:t>scott.rea@HEBCA.org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187280" y="981000"/>
            <a:ext cx="6697800" cy="0"/>
          </a:xfrm>
          <a:prstGeom prst="line">
            <a:avLst/>
          </a:prstGeom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516720" y="6237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EF537-AEC1-4C8F-8002-D389C448EF02}" type="slidenum">
              <a:rPr b="1" lang="en-GB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654200" cy="1128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24360" y="333000"/>
            <a:ext cx="453384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8C78D-F3BF-46C4-BF91-EFF6C4B977F2}" type="slidenum"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2011320" cy="13716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Scott.Rea@HEBCA.org" TargetMode="External"/><Relationship Id="rId2" Type="http://schemas.openxmlformats.org/officeDocument/2006/relationships/hyperlink" Target="mailto:Roger.Impey@nrc-cnrc.gc.ca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gtf.net/" TargetMode="External"/><Relationship Id="rId2" Type="http://schemas.openxmlformats.org/officeDocument/2006/relationships/hyperlink" Target="http://www.tagpma.org/" TargetMode="External"/><Relationship Id="rId3" Type="http://schemas.openxmlformats.org/officeDocument/2006/relationships/hyperlink" Target="http://tagpma.es.net/wiki" TargetMode="External"/><Relationship Id="rId4" Type="http://schemas.openxmlformats.org/officeDocument/2006/relationships/hyperlink" Target="mailto:Scott.Rea@HEBCA.org" TargetMode="Externa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280" y="2924280"/>
            <a:ext cx="48229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32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An 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Update from the TAGPMA</a:t>
            </a:r>
            <a:br>
              <a:rPr sz="3200"/>
            </a:br>
            <a:r>
              <a:rPr b="0" lang="en-GB" sz="2800" spc="-1" strike="noStrike">
                <a:solidFill>
                  <a:srgbClr val="0000ff"/>
                </a:solidFill>
                <a:latin typeface="Impact"/>
              </a:rPr>
              <a:t>Scott Rea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68360" y="4941720"/>
            <a:ext cx="798336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00"/>
                </a:solidFill>
                <a:latin typeface="Impact"/>
              </a:rPr>
              <a:t>21</a:t>
            </a:r>
            <a:r>
              <a:rPr b="0" lang="en-GB" sz="2800" spc="-1" strike="noStrike" baseline="30000">
                <a:solidFill>
                  <a:srgbClr val="008000"/>
                </a:solidFill>
                <a:latin typeface="Impact"/>
              </a:rPr>
              <a:t>st</a:t>
            </a:r>
            <a:r>
              <a:rPr b="0" lang="en-GB" sz="2800" spc="-1" strike="noStrike">
                <a:solidFill>
                  <a:srgbClr val="008000"/>
                </a:solidFill>
                <a:latin typeface="Impact"/>
              </a:rPr>
              <a:t> EUGridPMA, Utrecht, NL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Impact"/>
              </a:rPr>
              <a:t>Jan 25, 2011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4572000" y="765000"/>
            <a:ext cx="3527280" cy="1287000"/>
            <a:chOff x="4572000" y="765000"/>
            <a:chExt cx="3527280" cy="1287000"/>
          </a:xfrm>
        </p:grpSpPr>
        <p:sp>
          <p:nvSpPr>
            <p:cNvPr id="87" name=""/>
            <p:cNvSpPr txBox="1"/>
            <p:nvPr/>
          </p:nvSpPr>
          <p:spPr>
            <a:xfrm>
              <a:off x="4626000" y="765000"/>
              <a:ext cx="21812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TAGPM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1409400"/>
              <a:ext cx="3527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 Americas Grid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olicy Management Authority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Leadershi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43588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Current Offic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Chair: 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Scott Rea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 (HEBC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Scott.Rea@HEBCA.or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Vice Chair: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Roger Impey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 (CANARI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Roger.Impey@nrc-cnrc.gc.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(since July 2009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Secretary: 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Alan Sill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 (THEGrid)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an.sill@ttu.edu 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Jim Marsteller</a:t>
            </a: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(TeraGrid)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am@psc.ed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Alan handles logistics &amp; scribe, Jim handles membership &amp; accreditation tracking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(since Nov 2010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Verdana"/>
              </a:rPr>
              <a:t>Doug Olson</a:t>
            </a: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 (OSG)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lolson@lbl.gov resigned in Nov 2010 due to changing role at OS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050560" y="-36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urrent TAGPMA Membershi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763640" y="1125360"/>
          <a:ext cx="6842160" cy="5102280"/>
        </p:xfrm>
        <a:graphic>
          <a:graphicData uri="http://schemas.openxmlformats.org/drawingml/2006/table">
            <a:tbl>
              <a:tblPr/>
              <a:tblGrid>
                <a:gridCol w="1943280"/>
                <a:gridCol w="504720"/>
                <a:gridCol w="1785960"/>
                <a:gridCol w="2608200"/>
              </a:tblGrid>
              <a:tr h="18432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ganiz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presentativ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yp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9008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uben Aqui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08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LAGri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e Stol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08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L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ula Veno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08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AR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oger Impe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08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U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ndra Jaqu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432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NP-U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nod Rebell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764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EL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nod Rebell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432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TBA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, MI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432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EGrid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ke Hel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 (EU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08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C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im Basne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LCS x 2, MICS x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432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RS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reyas Choli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L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432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N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rwin Gain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L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08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S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rek Simme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L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08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S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ug Ols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lying Part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08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raGri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im Marstell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lying Part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08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C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ve Kelse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lying Part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08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BC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ott Re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lying Part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432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RA Gri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erry Perez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lying Part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432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I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bbie Bucc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lying Part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432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Gri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an Si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lying Part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432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------------------------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-----------------------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-------------------------------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08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ICS UT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haniel Mendoz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LCS (in-process: Op Review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08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IAND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dres Hogu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 (in-process: Op Review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08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NAMH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ichard Migue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 (in-process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08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S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rgio Liett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 (in-process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432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DS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ott Saka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CS (in-process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0" y="260280"/>
            <a:ext cx="663588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urrent TAGPMA Membershi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25 Members from North, Central and South Americ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Covering Canada, US, Mexico, Venezuela, Chile, Peru Argentina, Brazil, and Colombia. Two Catchall CAs cover the remaining countri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17 IGTF Accredited C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Verdana"/>
              </a:rPr>
              <a:t>9 Classic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Verdana"/>
              </a:rPr>
              <a:t>TACC - US, UFF BrGrid &amp; UFF LACGrid - Brazil, UNLPGrid - Argentina, REUNA – Chile, ULAGrid – Venezuela, GridCanada, UNAM - Mexico.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Verdana"/>
              </a:rPr>
              <a:t>NOTE: DOE Grid accredited by EUGridPM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Verdana"/>
              </a:rPr>
              <a:t>5 SLCS (NCSA x 2, FermiLabs, NERSC, and PSC - U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Verdana"/>
              </a:rPr>
              <a:t>3 MICS (NCSA - US, CILogin - US and TACC - U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6 CAs in-process, pending accredit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Verdana"/>
              </a:rPr>
              <a:t>3 Classic pending (SENAMHI – Peru, UNIANDES – Colombia, ANSP – Br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Verdana"/>
              </a:rPr>
              <a:t>1 MICS pending (SDSC – US)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Verdana"/>
              </a:rPr>
              <a:t>1 SLCS pending (NICS UTK – U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7 Relying Part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(OSG, TeraGrid, THEgrid, LCG, HEBCA, NIH, SURA Grid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2 relying parties added at last F2F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1 Member in suspended status due to inactivit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Verdana"/>
              </a:rPr>
              <a:t>UVA (Jim Jokl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1 Member representative un-specified due to change in personn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ommunication Infrastruct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IGTF Website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www.igtf.n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TAGPMA Website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www.tagpma.org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Hosts static, public inform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Still undergoing updat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TAGPMA twiki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http(s)://tagpma.es.net/wiki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hosts TAGPMA documents, tutorials etc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Contains agenda and minutes from bi-weekly meeting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I.e. more active (in-process) type inform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Mailing list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gpma-general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Mailing lists have been moved over to Google Apps for Education, also enabling Calendar, Docs &amp; Si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Email any issues direct to the Chair (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Verdana"/>
                <a:hlinkClick r:id="rId4"/>
              </a:rPr>
              <a:t>Scott.Rea@HEBCA.org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Summary of New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43588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Symposium on Authentication Technologies; Roundtable on Cloud and Grid Security Standards</a:t>
            </a: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(</a:t>
            </a: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October 4</a:t>
            </a:r>
            <a:r>
              <a:rPr b="1" lang="en-US" sz="1400" spc="-1" strike="noStrike" baseline="30000">
                <a:solidFill>
                  <a:srgbClr val="333399"/>
                </a:solidFill>
                <a:latin typeface="Verdana"/>
              </a:rPr>
              <a:t>th</a:t>
            </a: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, 2010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Verdana"/>
              </a:rPr>
              <a:t>Details can be found here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GB" sz="1300" spc="-1" strike="noStrike">
                <a:solidFill>
                  <a:srgbClr val="333399"/>
                </a:solidFill>
                <a:latin typeface="Verdana"/>
              </a:rPr>
              <a:t>http://indico.rnp.br/conferenceDisplay.py?confId=85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12</a:t>
            </a:r>
            <a:r>
              <a:rPr b="1" lang="en-US" sz="1400" spc="-1" strike="noStrike" baseline="30000">
                <a:solidFill>
                  <a:srgbClr val="333399"/>
                </a:solidFill>
                <a:latin typeface="Verdana"/>
              </a:rPr>
              <a:t>th</a:t>
            </a: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 TAGPMA F2F &amp; IGTF 5</a:t>
            </a:r>
            <a:r>
              <a:rPr b="1" lang="en-US" sz="1400" spc="-1" strike="noStrike" baseline="30000">
                <a:solidFill>
                  <a:srgbClr val="333399"/>
                </a:solidFill>
                <a:latin typeface="Verdana"/>
              </a:rPr>
              <a:t>th</a:t>
            </a: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 Anniversary at Texas Tech Uni, Lubbock, TX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Verdana"/>
              </a:rPr>
              <a:t>October 5 – 7, 2010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Verdana"/>
              </a:rPr>
              <a:t>Details can be found here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GB" sz="1300" spc="-1" strike="noStrike">
                <a:solidFill>
                  <a:srgbClr val="333399"/>
                </a:solidFill>
                <a:latin typeface="Verdana"/>
              </a:rPr>
              <a:t>http://indico.rnp.br/conferenceDisplay.py?confId=85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Verdana"/>
              </a:rPr>
              <a:t>Most Recent Accredita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Verdana"/>
              </a:rPr>
              <a:t>NCSA CILogin (MICS) – Oct 7, 2010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Verdana"/>
              </a:rPr>
              <a:t>NICS &amp; UNIANDES just awaiting Operational Review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Membershi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Verdana"/>
              </a:rPr>
              <a:t>3 CAs (2xClassic, 1xMICS) in process for accreditatio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Verdana"/>
              </a:rPr>
              <a:t>2 Relying Parties (SURA, NIH) added – Oct 7, 2010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Authentication Profil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Verdana"/>
              </a:rPr>
              <a:t>MICS 1.2 approved by TAGPMA (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ttp://tagpma.es.net/wiki/bin/view/Main/TagMICS)</a:t>
            </a:r>
            <a:r>
              <a:rPr b="0" lang="en-US" sz="15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Next TAGPMA F2F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13th TAGPMA F2F planned for Bogota, Columb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1-3 June, 201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Details to follow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TAGPMA Conference Cal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43588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Fortnightly Video Conference Call are now on 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Wednesdays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Next one is 26th January, 11am CD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Verdana"/>
              </a:rPr>
              <a:t>Video arrangements: Video ESNet 884483 or GDS 0011349884483 or phone 1-510-883-7860 884483#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Verdana"/>
              </a:rPr>
              <a:t>The agenda is usually posted on tagpma-general the day before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Verdana"/>
              </a:rPr>
              <a:t>Feel free to join to attend meeting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Verdana"/>
              </a:rPr>
              <a:t>Than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8T23:38:54Z</dcterms:created>
  <dc:creator>Scott Rea</dc:creator>
  <dc:description/>
  <dc:language>en-US</dc:language>
  <cp:lastModifiedBy>Scott</cp:lastModifiedBy>
  <dcterms:modified xsi:type="dcterms:W3CDTF">2011-01-25T13:10:31Z</dcterms:modified>
  <cp:revision>129</cp:revision>
  <dc:subject>21st EUGridPMA</dc:subject>
  <dc:title>TAGPMA Update</dc:title>
</cp:coreProperties>
</file>