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2CAD62-ED9C-4E83-A3AA-DAA9B771C1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4A96336-50E7-4354-85C6-31F6B79AC5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771558C-C274-4718-8FEA-A27908EED7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71C039C-2C40-4B4A-AD2B-CF519772324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9E9328D-5DB3-4AFE-A833-893CDEAB81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2078BDC-A631-476D-B443-211C56D96EF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2DE0FFE-C0D9-4554-8578-626FE4AF29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3CE2AEA-5B94-45EA-B2F6-FF771B1F46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79262F3-4089-49C5-B6B1-A09D4A8FBE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C67FB31-042B-4592-B60E-F755FB791B2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DB0F1AF-A1F1-46D1-990E-A1FDCEBFA4A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16DCA59-330A-4ACC-9CF3-0F8ED83E9F2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E22FA89-5DC9-4CFB-A2E5-27BB8ACD75F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curity Token Services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for e-Infrastructures?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ecurity Mechanisms: new direc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Infrastructure supported by a series of EU projects on software develop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atusLab, VENUS-C, EDG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+ M/W project develop middleware roadm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n EMI roadmap is a study on ‘native integration’ of multiple security mechanisms, based around the Security Token Service (ST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EMI STS Roadm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urity Token Service (STS) development dependent on DCI user need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ork owner in EMI is SWITCH (CH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totype after the first year of the EMI projec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itial prototype dependent on Shibboleth IdP v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 collaboration with the WS-Trust interop grou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206280" y="6002280"/>
            <a:ext cx="893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I DJRA1.3.1, 17 Dec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s://twiki.cern.ch/twiki/bin/view/EMI/DeliverableDJRA1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S role in the infrastructu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as a trusted source of security toke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erived from yet other tokens (translato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foreseen in EMI, ties in with online CAs and attribute authorities (like VOM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s a bit like a generalised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3" descr="C:\Users\davidg\Desktop\Trans\STS-IdP_integration.png"/>
          <p:cNvPicPr/>
          <p:nvPr/>
        </p:nvPicPr>
        <p:blipFill>
          <a:blip r:embed="rId1"/>
          <a:stretch/>
        </p:blipFill>
        <p:spPr>
          <a:xfrm>
            <a:off x="1814400" y="3244680"/>
            <a:ext cx="51768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ther STS characterist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translates anything to anyth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 general it is WS-* like security (WS-Tru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a trusted source of SAML meta-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nking it to an on-line CA is just an edge case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does trust establish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o there is a need for relying parties to ‘trust’ the tokens coming out of 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 not easily fit any of the current IGTF AP mod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echnology is different, but in EGI-EMI scenarios the logical role may be equivalent or complementa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onsider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we help facilitate trust building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ke we do today for PKIX-based trust model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facilitate trust establishment via SAML-metadat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cussion 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 to STS concepts and practical experienc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thanks to Remco and SURFne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iscussion on our role and feasi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f we decide to continue on this track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gue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 plans for STS and EMI roadm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cope of the new 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jubljana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itial concepts around a Profile and trust guidelin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eginning 2012: recommendations/guidelines/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BUT NOW ...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1T13:21:30Z</dcterms:modified>
  <cp:revision>496</cp:revision>
  <dc:subject/>
  <dc:title>European Grid Policy Management Authority</dc:title>
</cp:coreProperties>
</file>