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92F3F-76FD-4ADB-98E4-06EB2C08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E7FBC-98B5-41C9-AA54-70182DF0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65D4F-BEC2-4FA8-892B-5371FF8CB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F6924-33B2-4F0F-A7B9-1ED05A42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9AE93-542F-4E05-B8B3-4A2F3E67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78808-6002-4B83-856F-29E534813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B73BF-1047-48C7-BE2A-27A721E0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 24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19048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914400"/>
          <a:ext cx="7486920" cy="492912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5120"/>
                <a:gridCol w="1905120"/>
              </a:tblGrid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1, Dec.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TextBox 4" descr=""/>
          <p:cNvPicPr/>
          <p:nvPr/>
        </p:nvPicPr>
        <p:blipFill>
          <a:blip r:embed="rId1"/>
          <a:stretch/>
        </p:blipFill>
        <p:spPr>
          <a:xfrm>
            <a:off x="5645160" y="39132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hart 2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vious APGridPMA meeting was held on Oct. 12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Operation Policy and Practice Update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T, IGCA, KEK, NCHC, and ASG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ly self audit report mechanism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APGridPMA F2F Meeting will be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delayed from last mee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DS Workshop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: Natural Disaster Mitigation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I: Life Science (20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a@home Hackfest (20-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GF Tutorial (DEGISCO) (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TF All-Hands Meeting (21 - 22 March) +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GC 2010 Symposium(22 - 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31 (21-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: Comments are welco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mac</cp:lastModifiedBy>
  <dcterms:modified xsi:type="dcterms:W3CDTF">2011-01-24T08:42:23Z</dcterms:modified>
  <cp:revision>229</cp:revision>
  <dc:subject/>
  <dc:title>International Grid Trust Federation Session  GGF 18 Washington, DC, USA</dc:title>
</cp:coreProperties>
</file>