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419D-A4EA-4168-967D-24C1BFF1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43B8-D3DA-4278-81EA-4F9E0DBD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14B9-4189-47F8-BBFF-6D4F1F04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F35E-70B1-406E-9A06-C1396B85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620E-D79C-4E2B-8C29-AD647AEE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C7EC-8D6C-4E03-B340-68F99CC6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5776-1E46-40A0-9367-2A63BA59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8558-280F-4950-8E4B-AF80F1C8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547C-25D6-4EE6-BAB0-3F215C0B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2439-F6DB-4E92-A9FB-E9B69320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E4E5-9EC9-4A93-8689-D15A1E33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E3F8-2B5C-4B80-A3F6-289B6C52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360" t="6749" r="2352" b="217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267760" y="6124680"/>
            <a:ext cx="517320" cy="376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23960" y="5262480"/>
            <a:ext cx="1800000" cy="876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2222640" y="1770120"/>
            <a:ext cx="6921360" cy="50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4880" y="293760"/>
            <a:ext cx="76946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04880" y="1668600"/>
            <a:ext cx="769464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rcRect l="0" t="-35346" r="-25969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1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599C43-9E03-4CBA-A4DC-44EA9B2DD138}" type="slidenum">
              <a: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BEgrid CA update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rPr>
              <a:t>25 january 2011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rcRect l="0" t="-35346" r="-25969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BEgrid CA update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5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rPr>
              <a:t>25 january 2011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70CDC-2AC0-4ADC-8708-1C83ED776122}" type="slidenum">
              <a: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pentrust.com/" TargetMode="External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4520" y="293400"/>
            <a:ext cx="769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EUGridPMA – BEgrid CA updat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04520" y="1668600"/>
            <a:ext cx="769788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net – Jean-Christophe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trecht – 25 January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ertificate request (local RA)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user make the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orresponding RA contact him: 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ersonnal identification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email addres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if the user is entitled to use the Grid (collect needed documents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RA validates the reques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A signs the certificate (automatic)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8920" y="358560"/>
            <a:ext cx="75308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ertificate request (no local RA)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user make the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grid PKI staff contact him: 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ersonnal identification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email addres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if the user is entitled to use the Grid (collect needed documents, contact the institution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grid PKI staff validates the reques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A signs the certificate (automatic)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Some statistic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628640"/>
          <a:ext cx="7530840" cy="4111560"/>
        </p:xfrm>
        <a:graphic>
          <a:graphicData uri="http://schemas.openxmlformats.org/drawingml/2006/table">
            <a:tbl>
              <a:tblPr/>
              <a:tblGrid>
                <a:gridCol w="1139760"/>
                <a:gridCol w="1914480"/>
                <a:gridCol w="2332080"/>
                <a:gridCol w="2144520"/>
              </a:tblGrid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Issuance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Revocation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Expiration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48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7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8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8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3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5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Futur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till use our own (Opentrust) CA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e are happy with i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Need to renew the licenc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witch to TERENA’s Personnal Certificat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ill be investigated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hat will happen for the local RA’s ?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9280" y="1982520"/>
            <a:ext cx="753264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92d2"/>
              </a:buClr>
              <a:buSzPct val="70000"/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OLD system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OpenC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Was working but...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Lot of work on BELNET part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No local RA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92d2"/>
              </a:buClr>
              <a:buSzPct val="7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all of tender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0092d2"/>
              </a:buClr>
              <a:buSzPct val="7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KI system (not only) for the BEgrid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duct / Full Servic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6 answ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4 Full Service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2 Software product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tl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96B9-9FF8-4AC3-ABC9-38888E05B5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0092d2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OpenTrust PKI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opentrust.com/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We may operate as much CA and Root CA as we wan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We may deliver as much certificates as we wan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ive since the 28</a:t>
            </a:r>
            <a:r>
              <a:rPr b="1" lang="nl-BE" sz="2400" spc="-1" strike="noStrike" baseline="33000">
                <a:solidFill>
                  <a:srgbClr val="0092d2"/>
                </a:solidFill>
                <a:latin typeface="Arial"/>
              </a:rPr>
              <a:t>th</a:t>
            </a: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 october 2008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4e504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Modul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A, RA, EE, Log, Managemen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ay be splitted on different serv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Internal certificates for modul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Access rights per module / certificate profil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ertificates: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file per institution (associated RA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BEgrid CA certificate profil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337080" cy="46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BEgrid CA certificate profil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69600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411280" y="1413000"/>
          <a:ext cx="434340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413000"/>
                    <a:ext cx="43434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LNET / BEgrid staff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uthority for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entral RA / backup R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onitoring of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upervision of the local RA’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ocal RA’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urrently: 12 peopl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taff of the various institution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Trained by BEgrid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itl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local RA’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Managed by a 2 year convention between the RA, its institution and BELNE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Followed a training by BELNE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hould know their users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Should have a backup person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Validates the certificate / revocation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23:45Z</dcterms:created>
  <dc:creator>Elke</dc:creator>
  <dc:description/>
  <dc:language>en-US</dc:language>
  <cp:lastModifiedBy>Jean-Christophe Real</cp:lastModifiedBy>
  <dcterms:modified xsi:type="dcterms:W3CDTF">2011-01-24T14:23:13Z</dcterms:modified>
  <cp:revision>11</cp:revision>
  <dc:subject/>
  <dc:title>Title presentation</dc:title>
</cp:coreProperties>
</file>