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2.gif" ContentType="image/gif"/>
  <Override PartName="/ppt/media/image16.jpeg" ContentType="image/jpeg"/>
  <Override PartName="/ppt/media/image14.gif" ContentType="image/gif"/>
  <Override PartName="/ppt/media/image31.jpeg" ContentType="image/jpeg"/>
  <Override PartName="/ppt/media/image47.wmf" ContentType="image/x-wmf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33.jpeg" ContentType="image/jpeg"/>
  <Override PartName="/ppt/media/image41.jpeg" ContentType="image/jpeg"/>
  <Override PartName="/ppt/media/image54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png" ContentType="image/png"/>
  <Override PartName="/ppt/media/image46.wmf" ContentType="image/x-wmf"/>
  <Override PartName="/ppt/media/image48.jpeg" ContentType="image/jpeg"/>
  <Override PartName="/ppt/media/image53.png" ContentType="image/png"/>
  <Override PartName="/ppt/media/image56.jpeg" ContentType="image/jpeg"/>
  <Override PartName="/ppt/media/image32.jpeg" ContentType="image/jpeg"/>
  <Override PartName="/ppt/media/image30.jpeg" ContentType="image/jpeg"/>
  <Override PartName="/ppt/media/image3.jpeg" ContentType="image/jpe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2.jpeg" ContentType="image/jpeg"/>
  <Override PartName="/ppt/media/image2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777600" y="767880"/>
            <a:ext cx="55436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i-FI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C8517C-8044-472B-A64B-BD09B9D02D11}" type="slidenum">
              <a:rPr b="0" lang="fi-FI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5B965A-D880-48FE-AF52-AD0E0570916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5 Watt /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374B5F-7075-4AB4-9FF0-17918F55C5AF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779400" y="770040"/>
            <a:ext cx="5540400" cy="3835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5892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6D3F26-5C5A-47A1-9757-E9ECFFD6045B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888D8B-4FDB-4CC3-90C1-B4577F28918E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CC82D7-EF9E-4A1D-B845-6106DF5DE467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77796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F134A5-1853-4ACC-AB71-3B7B349F3754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782640" y="771480"/>
            <a:ext cx="5537160" cy="3834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592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6C00CD-1F14-41F8-8014-C67D84237D81}" type="slidenum">
              <a:rPr b="0" lang="fi-FI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781200" y="771480"/>
            <a:ext cx="5537160" cy="3834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592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126A-10AC-4B16-8CBA-E5725FF05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5BA2-7374-4F3A-A2FA-062B3443E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A0DC-7C00-4035-85F8-AE0C8FD34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684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020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3312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0684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8020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C0CB-AA28-4B1E-98B7-D560B704A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9246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D337-2862-47CD-AEE9-46387493D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0684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020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3312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0684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8020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DEAC-63D3-46DA-9527-C70C3D26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82C6-188D-4BB0-B9E7-E92471E6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EEFE-2234-4485-BCF4-379ED270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DDB2-AA3B-43BE-89B6-55130BA5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2160D-E61B-4AB2-A74A-B357BF92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E798-53BB-483F-BC4C-D863C5D739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9246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2C57E-99EC-4C85-B1CF-8D38C3E6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F05C-556F-4574-9007-9385548E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273B-6DDA-49FD-90AB-CA59E9F2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11A1-DB59-4369-BD3F-A355CC20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9124-171C-471D-838E-36272183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E3E83-C496-4E0F-AA85-569393D9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0684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0200" y="21333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3312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0684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280200" y="4277160"/>
            <a:ext cx="25459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4EC8-1B6A-4B34-BD34-6BB28AC7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A4B1-2B43-4791-B504-9F62D15AC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1076-2745-4E7B-A220-9191B08B3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792468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07FA-7657-44D0-983C-75CA7987E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2C7A-173E-4B42-A188-C47796AA5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4920" y="42771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792B-8E37-4EC2-999B-3ABB442D7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4920" y="2133360"/>
            <a:ext cx="3858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3120" y="4277160"/>
            <a:ext cx="79074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976C-C02F-4C19-B07B-EC94729B9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6040" y="65242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9533-118C-495A-AE61-5D9CB954D173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5" descr="Prace_ppt_etusivu_ylapalkki"/>
          <p:cNvPicPr/>
          <p:nvPr/>
        </p:nvPicPr>
        <p:blipFill>
          <a:blip r:embed="rId2"/>
          <a:stretch/>
        </p:blipFill>
        <p:spPr>
          <a:xfrm>
            <a:off x="0" y="0"/>
            <a:ext cx="9906120" cy="12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4" descr="Prace_ppt_etusivu_korjattu"/>
          <p:cNvPicPr/>
          <p:nvPr/>
        </p:nvPicPr>
        <p:blipFill>
          <a:blip r:embed="rId2"/>
          <a:stretch/>
        </p:blipFill>
        <p:spPr>
          <a:xfrm>
            <a:off x="0" y="-9360"/>
            <a:ext cx="9906120" cy="6876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2" descr="Prace_ppt_alapalkki_logot"/>
          <p:cNvPicPr/>
          <p:nvPr/>
        </p:nvPicPr>
        <p:blipFill>
          <a:blip r:embed="rId3"/>
          <a:stretch/>
        </p:blipFill>
        <p:spPr>
          <a:xfrm>
            <a:off x="0" y="6039000"/>
            <a:ext cx="9906120" cy="895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5" descr="Prace_ppt_etusivu_ylapalkki"/>
          <p:cNvPicPr/>
          <p:nvPr/>
        </p:nvPicPr>
        <p:blipFill>
          <a:blip r:embed="rId2"/>
          <a:stretch/>
        </p:blipFill>
        <p:spPr>
          <a:xfrm>
            <a:off x="0" y="0"/>
            <a:ext cx="9906120" cy="1206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7466040" y="65242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DD04-16EA-4293-AAD7-B28151117357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3"/>
          </p:nvPr>
        </p:nvSpPr>
        <p:spPr>
          <a:xfrm>
            <a:off x="200160" y="652464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3384360" y="652464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image" Target="../media/image4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wmf"/><Relationship Id="rId6" Type="http://schemas.openxmlformats.org/officeDocument/2006/relationships/image" Target="../media/image48.jpe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jpe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46.wmf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47.wmf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47.wmf"/><Relationship Id="rId18" Type="http://schemas.openxmlformats.org/officeDocument/2006/relationships/image" Target="../media/image55.pn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gif"/><Relationship Id="rId10" Type="http://schemas.openxmlformats.org/officeDocument/2006/relationships/image" Target="../media/image13.png"/><Relationship Id="rId11" Type="http://schemas.openxmlformats.org/officeDocument/2006/relationships/image" Target="../media/image14.gif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www.flaggezeigen.de/catalog/product_info.php?products_id=848&amp;osCsid=419ba85839d98946a8c35337d98692f3" TargetMode="External"/><Relationship Id="rId4" Type="http://schemas.openxmlformats.org/officeDocument/2006/relationships/image" Target="../media/image24.png"/><Relationship Id="rId5" Type="http://schemas.openxmlformats.org/officeDocument/2006/relationships/hyperlink" Target="http://www.flaggezeigen.de/catalog/product_info.php?products_id=469&amp;osCsid=419ba85839d98946a8c35337d98692f3" TargetMode="External"/><Relationship Id="rId6" Type="http://schemas.openxmlformats.org/officeDocument/2006/relationships/image" Target="../media/image25.png"/><Relationship Id="rId7" Type="http://schemas.openxmlformats.org/officeDocument/2006/relationships/hyperlink" Target="http://www.flaggezeigen.de/catalog/product_info.php?products_id=474&amp;osCsid=419ba85839d98946a8c35337d98692f3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www.flaggezeigen.de/catalog/product_info.php?products_id=476&amp;osCsid=419ba85839d98946a8c35337d98692f3" TargetMode="External"/><Relationship Id="rId10" Type="http://schemas.openxmlformats.org/officeDocument/2006/relationships/image" Target="../media/image27.jpeg"/><Relationship Id="rId11" Type="http://schemas.openxmlformats.org/officeDocument/2006/relationships/hyperlink" Target="http://www.flaggezeigen.de/catalog/product_info.php?products_id=443&amp;osCsid=419ba85839d98946a8c35337d98692f3" TargetMode="External"/><Relationship Id="rId12" Type="http://schemas.openxmlformats.org/officeDocument/2006/relationships/image" Target="../media/image28.jpeg"/><Relationship Id="rId13" Type="http://schemas.openxmlformats.org/officeDocument/2006/relationships/hyperlink" Target="http://www.flaggezeigen.de/catalog/product_info.php?products_id=527&amp;osCsid=419ba85839d98946a8c35337d98692f3" TargetMode="External"/><Relationship Id="rId14" Type="http://schemas.openxmlformats.org/officeDocument/2006/relationships/image" Target="../media/image29.jpeg"/><Relationship Id="rId15" Type="http://schemas.openxmlformats.org/officeDocument/2006/relationships/hyperlink" Target="http://www.flaggezeigen.de/catalog/product_info.php?products_id=529&amp;osCsid=419ba85839d98946a8c35337d98692f3" TargetMode="External"/><Relationship Id="rId16" Type="http://schemas.openxmlformats.org/officeDocument/2006/relationships/image" Target="../media/image30.jpeg"/><Relationship Id="rId17" Type="http://schemas.openxmlformats.org/officeDocument/2006/relationships/hyperlink" Target="http://www.flaggezeigen.de/catalog/product_info.php?products_id=531&amp;osCsid=419ba85839d98946a8c35337d98692f3" TargetMode="External"/><Relationship Id="rId18" Type="http://schemas.openxmlformats.org/officeDocument/2006/relationships/image" Target="../media/image31.jpeg"/><Relationship Id="rId19" Type="http://schemas.openxmlformats.org/officeDocument/2006/relationships/hyperlink" Target="http://www.flaggezeigen.de/catalog/product_info.php?products_id=550&amp;osCsid=419ba85839d98946a8c35337d98692f3" TargetMode="External"/><Relationship Id="rId20" Type="http://schemas.openxmlformats.org/officeDocument/2006/relationships/image" Target="../media/image32.jpeg"/><Relationship Id="rId21" Type="http://schemas.openxmlformats.org/officeDocument/2006/relationships/hyperlink" Target="http://www.flaggezeigen.de/catalog/product_info.php?products_id=553&amp;osCsid=419ba85839d98946a8c35337d98692f3" TargetMode="External"/><Relationship Id="rId22" Type="http://schemas.openxmlformats.org/officeDocument/2006/relationships/image" Target="../media/image33.jpeg"/><Relationship Id="rId23" Type="http://schemas.openxmlformats.org/officeDocument/2006/relationships/hyperlink" Target="http://www.flaggezeigen.de/catalog/product_info.php?products_id=533&amp;osCsid=419ba85839d98946a8c35337d98692f3" TargetMode="External"/><Relationship Id="rId24" Type="http://schemas.openxmlformats.org/officeDocument/2006/relationships/image" Target="../media/image34.jpeg"/><Relationship Id="rId25" Type="http://schemas.openxmlformats.org/officeDocument/2006/relationships/hyperlink" Target="http://www.flaggezeigen.de/catalog/product_info.php?products_id=565&amp;osCsid=419ba85839d98946a8c35337d98692f3" TargetMode="External"/><Relationship Id="rId26" Type="http://schemas.openxmlformats.org/officeDocument/2006/relationships/image" Target="../media/image35.jpeg"/><Relationship Id="rId27" Type="http://schemas.openxmlformats.org/officeDocument/2006/relationships/hyperlink" Target="http://www.flaggezeigen.de/catalog/product_info.php?products_id=921&amp;osCsid=419ba85839d98946a8c35337d98692f3" TargetMode="External"/><Relationship Id="rId28" Type="http://schemas.openxmlformats.org/officeDocument/2006/relationships/image" Target="../media/image36.jpeg"/><Relationship Id="rId29" Type="http://schemas.openxmlformats.org/officeDocument/2006/relationships/hyperlink" Target="http://www.flaggezeigen.de/catalog/product_info.php?products_id=544&amp;osCsid=419ba85839d98946a8c35337d98692f3" TargetMode="External"/><Relationship Id="rId30" Type="http://schemas.openxmlformats.org/officeDocument/2006/relationships/image" Target="../media/image37.jpeg"/><Relationship Id="rId31" Type="http://schemas.openxmlformats.org/officeDocument/2006/relationships/image" Target="../media/image38.jpeg"/><Relationship Id="rId32" Type="http://schemas.openxmlformats.org/officeDocument/2006/relationships/image" Target="../media/image39.jpeg"/><Relationship Id="rId33" Type="http://schemas.openxmlformats.org/officeDocument/2006/relationships/image" Target="../media/image25.png"/><Relationship Id="rId34" Type="http://schemas.openxmlformats.org/officeDocument/2006/relationships/image" Target="../media/image40.png"/><Relationship Id="rId35" Type="http://schemas.openxmlformats.org/officeDocument/2006/relationships/image" Target="../media/image41.jpeg"/><Relationship Id="rId36" Type="http://schemas.openxmlformats.org/officeDocument/2006/relationships/image" Target="../media/image42.jpeg"/><Relationship Id="rId3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4647960"/>
            <a:ext cx="99061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AC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urope’s Supercomputing Research Infrastructure</a:t>
            </a:r>
            <a:endParaRPr b="0" lang="en-US" sz="30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-360" y="558972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ules Wolfrat– 2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UGridPMA meeting,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D967-9D93-4447-8349-3C0EF326A6AD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PRACE Tier-0 System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99800" y="2133360"/>
            <a:ext cx="86994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ier-0 System provides cycles since Augu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Jugene: BlueGene/P in GCS@Jueli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72 Racks, 1 PFlop/s Pe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35% of capacity provided to PR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ier-0 System provided by GENCI since Febr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urie: Bull Cluster with Intel CPUs operated by C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.6 PFlop/s peak in Oct. 201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Largest fraction of capacity provided to PR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system at HLRS annou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16680" indent="-2844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 CRAY XE6 system (one Petaflop/s end of 201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Procurements (in alphabetical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BSC, CINECA, GCS@LR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ocurement plan  based on analysis of user requirements and mark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Curie"/>
          <p:cNvPicPr/>
          <p:nvPr/>
        </p:nvPicPr>
        <p:blipFill>
          <a:blip r:embed="rId1"/>
          <a:srcRect l="1388" t="7058" r="1823" b="12086"/>
          <a:stretch/>
        </p:blipFill>
        <p:spPr>
          <a:xfrm>
            <a:off x="7400880" y="4021200"/>
            <a:ext cx="2233800" cy="1855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JUGENE_46"/>
          <p:cNvPicPr/>
          <p:nvPr/>
        </p:nvPicPr>
        <p:blipFill>
          <a:blip r:embed="rId2"/>
          <a:srcRect l="0" t="24421" r="0" b="0"/>
          <a:stretch/>
        </p:blipFill>
        <p:spPr>
          <a:xfrm>
            <a:off x="7257960" y="2349360"/>
            <a:ext cx="251928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2280" y="4406760"/>
            <a:ext cx="842004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7cbb"/>
                </a:solidFill>
                <a:latin typeface="Arial"/>
              </a:rPr>
              <a:t>CALLS FOR PROPOSALS</a:t>
            </a:r>
            <a:endParaRPr b="0" lang="en-US" sz="40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2280" y="2906280"/>
            <a:ext cx="8420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26F2-F197-40DF-93E2-C4EB75DCC1FF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EAF5-F81E-4AD0-8467-2F2690D3BD14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Accessing the PRACE RI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s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peer-review: “the best systems for the best sci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types of resource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est / evaluation 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oject access – for a specific project, grant period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~ 1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ogramme access – resources managed by a communit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-of-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ly national funding through partn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model has to respect national interests (R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95360" y="1534680"/>
            <a:ext cx="68342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67cbb"/>
                </a:solidFill>
                <a:latin typeface="Arial"/>
              </a:rPr>
              <a:t>PRINCIPLES of Peer Revie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5000" y="2357280"/>
            <a:ext cx="43765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t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 to r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032440" y="2357280"/>
            <a:ext cx="43783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orit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ing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paralle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sure fairness to the science pro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11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FF1F-8D22-4023-A774-A1F16ABA5A9B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67cbb"/>
                </a:solidFill>
                <a:latin typeface="Arial"/>
              </a:rPr>
              <a:t>Types of Acces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33480" y="2133360"/>
            <a:ext cx="8972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paratory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nly technical peer re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ct 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th technical and scientific peer re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amm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th technical and scientific peer revie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0DED-30D0-4FD4-9AF4-96838898EC14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5400" y="1213920"/>
            <a:ext cx="9353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67cbb"/>
                </a:solidFill>
                <a:latin typeface="Arial"/>
              </a:rPr>
              <a:t>JUGENE@Jülich: #5 worldwide, #1 in Europ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pic>
        <p:nvPicPr>
          <p:cNvPr id="284" name="Picture 5" descr="E:\current.jpg"/>
          <p:cNvPicPr/>
          <p:nvPr/>
        </p:nvPicPr>
        <p:blipFill>
          <a:blip r:embed="rId1"/>
          <a:stretch/>
        </p:blipFill>
        <p:spPr>
          <a:xfrm>
            <a:off x="0" y="2209680"/>
            <a:ext cx="6715080" cy="4648320"/>
          </a:xfrm>
          <a:prstGeom prst="rect">
            <a:avLst/>
          </a:prstGeom>
          <a:ln w="0">
            <a:noFill/>
          </a:ln>
        </p:spPr>
      </p:pic>
      <p:sp>
        <p:nvSpPr>
          <p:cNvPr id="285" name="Inhaltsplatzhalter 5"/>
          <p:cNvSpPr/>
          <p:nvPr/>
        </p:nvSpPr>
        <p:spPr>
          <a:xfrm>
            <a:off x="5810400" y="3500280"/>
            <a:ext cx="36446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Blue 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el 1"/>
          <p:cNvSpPr/>
          <p:nvPr/>
        </p:nvSpPr>
        <p:spPr>
          <a:xfrm>
            <a:off x="6943680" y="4599000"/>
            <a:ext cx="243828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7e04"/>
                </a:solidFill>
                <a:latin typeface="Arial"/>
              </a:rPr>
              <a:t>1</a:t>
            </a:r>
            <a:r>
              <a:rPr b="1" lang="de-DE" sz="4800" spc="-1" strike="noStrike" baseline="30000">
                <a:solidFill>
                  <a:srgbClr val="e67e04"/>
                </a:solidFill>
                <a:latin typeface="Arial"/>
              </a:rPr>
              <a:t>st </a:t>
            </a:r>
            <a:r>
              <a:rPr b="1" lang="de-DE" sz="4800" spc="-1" strike="noStrike">
                <a:solidFill>
                  <a:srgbClr val="e67e04"/>
                </a:solidFill>
                <a:latin typeface="Arial"/>
              </a:rPr>
              <a:t>PR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e67e04"/>
                </a:solidFill>
                <a:latin typeface="Arial"/>
              </a:rPr>
              <a:t>syste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8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4CD0-3C0E-4783-B439-A6A579CB5CC5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7920" y="1071360"/>
            <a:ext cx="89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67cbb"/>
                </a:solidFill>
                <a:latin typeface="Arial"/>
              </a:rPr>
              <a:t>Jülich Blue Gene/P Configuration</a:t>
            </a:r>
            <a:endParaRPr b="0" lang="en-US" sz="36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0520" y="2036880"/>
            <a:ext cx="9209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2 Racks Blue Gene/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3728 Compute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4 processor cores, 2 GB mem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294912 CPU co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144 TB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PFlop/s pea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25.5 TFlop/s Linp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00 I/O nodes (10GigE)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&gt;60 GB/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2 MW power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27A4-43B8-4424-9481-C7C78334EAF1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177840" y="2349360"/>
            <a:ext cx="9726480" cy="3103560"/>
            <a:chOff x="177840" y="2349360"/>
            <a:chExt cx="9726480" cy="3103560"/>
          </a:xfrm>
        </p:grpSpPr>
        <p:sp>
          <p:nvSpPr>
            <p:cNvPr id="292" name="Rectangle 3"/>
            <p:cNvSpPr/>
            <p:nvPr/>
          </p:nvSpPr>
          <p:spPr>
            <a:xfrm>
              <a:off x="2524320" y="2503440"/>
              <a:ext cx="1263600" cy="121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855720" y="2503440"/>
              <a:ext cx="1668600" cy="1836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5"/>
            <p:cNvSpPr/>
            <p:nvPr/>
          </p:nvSpPr>
          <p:spPr>
            <a:xfrm>
              <a:off x="855720" y="4952880"/>
              <a:ext cx="887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6"/>
            <p:cNvSpPr/>
            <p:nvPr/>
          </p:nvSpPr>
          <p:spPr>
            <a:xfrm flipV="1">
              <a:off x="855720" y="2349360"/>
              <a:ext cx="0" cy="260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7"/>
            <p:cNvSpPr/>
            <p:nvPr/>
          </p:nvSpPr>
          <p:spPr>
            <a:xfrm rot="16200000">
              <a:off x="-45000" y="3499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c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8"/>
            <p:cNvSpPr/>
            <p:nvPr/>
          </p:nvSpPr>
          <p:spPr>
            <a:xfrm>
              <a:off x="9216000" y="50846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 rot="20521800">
              <a:off x="36684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3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0"/>
            <p:cNvSpPr/>
            <p:nvPr/>
          </p:nvSpPr>
          <p:spPr>
            <a:xfrm rot="20521800">
              <a:off x="945000" y="4963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5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 rot="20521800">
              <a:off x="1553040" y="4939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7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2"/>
            <p:cNvSpPr/>
            <p:nvPr/>
          </p:nvSpPr>
          <p:spPr>
            <a:xfrm rot="20521800">
              <a:off x="2270520" y="4939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9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3"/>
            <p:cNvSpPr/>
            <p:nvPr/>
          </p:nvSpPr>
          <p:spPr>
            <a:xfrm rot="20521800">
              <a:off x="2929320" y="4963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1/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 rot="20521800">
              <a:off x="353052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1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5"/>
            <p:cNvSpPr/>
            <p:nvPr/>
          </p:nvSpPr>
          <p:spPr>
            <a:xfrm rot="20521800">
              <a:off x="419256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3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6"/>
            <p:cNvSpPr/>
            <p:nvPr/>
          </p:nvSpPr>
          <p:spPr>
            <a:xfrm rot="20521800">
              <a:off x="4910400" y="4963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5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7"/>
            <p:cNvSpPr/>
            <p:nvPr/>
          </p:nvSpPr>
          <p:spPr>
            <a:xfrm rot="20521800">
              <a:off x="548964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7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 rot="20521800">
              <a:off x="6179040" y="4939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9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9"/>
            <p:cNvSpPr/>
            <p:nvPr/>
          </p:nvSpPr>
          <p:spPr>
            <a:xfrm rot="20521800">
              <a:off x="689472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1/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0"/>
            <p:cNvSpPr/>
            <p:nvPr/>
          </p:nvSpPr>
          <p:spPr>
            <a:xfrm rot="20521800">
              <a:off x="7496640" y="49636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1/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1"/>
            <p:cNvSpPr/>
            <p:nvPr/>
          </p:nvSpPr>
          <p:spPr>
            <a:xfrm rot="20521800">
              <a:off x="8160120" y="49399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3/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>
              <a:off x="151776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>
              <a:off x="217980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>
              <a:off x="2838600" y="48765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5"/>
            <p:cNvSpPr/>
            <p:nvPr/>
          </p:nvSpPr>
          <p:spPr>
            <a:xfrm>
              <a:off x="350064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26"/>
            <p:cNvSpPr/>
            <p:nvPr/>
          </p:nvSpPr>
          <p:spPr>
            <a:xfrm>
              <a:off x="416088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>
              <a:off x="482148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>
              <a:off x="548352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9"/>
            <p:cNvSpPr/>
            <p:nvPr/>
          </p:nvSpPr>
          <p:spPr>
            <a:xfrm>
              <a:off x="614376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0"/>
            <p:cNvSpPr/>
            <p:nvPr/>
          </p:nvSpPr>
          <p:spPr>
            <a:xfrm>
              <a:off x="680436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746460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2"/>
            <p:cNvSpPr/>
            <p:nvPr/>
          </p:nvSpPr>
          <p:spPr>
            <a:xfrm>
              <a:off x="812664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33"/>
            <p:cNvSpPr/>
            <p:nvPr/>
          </p:nvSpPr>
          <p:spPr>
            <a:xfrm>
              <a:off x="878688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34"/>
            <p:cNvSpPr/>
            <p:nvPr/>
          </p:nvSpPr>
          <p:spPr>
            <a:xfrm>
              <a:off x="855720" y="3727440"/>
              <a:ext cx="662040" cy="12254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5"/>
            <p:cNvSpPr/>
            <p:nvPr/>
          </p:nvSpPr>
          <p:spPr>
            <a:xfrm>
              <a:off x="1517760" y="4340160"/>
              <a:ext cx="3965760" cy="6127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36"/>
            <p:cNvSpPr/>
            <p:nvPr/>
          </p:nvSpPr>
          <p:spPr>
            <a:xfrm>
              <a:off x="2524320" y="3727440"/>
              <a:ext cx="976320" cy="612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7"/>
            <p:cNvSpPr/>
            <p:nvPr/>
          </p:nvSpPr>
          <p:spPr>
            <a:xfrm>
              <a:off x="3500640" y="3727440"/>
              <a:ext cx="3963960" cy="612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8"/>
            <p:cNvSpPr/>
            <p:nvPr/>
          </p:nvSpPr>
          <p:spPr>
            <a:xfrm>
              <a:off x="3500640" y="3116160"/>
              <a:ext cx="3963960" cy="611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9"/>
            <p:cNvSpPr/>
            <p:nvPr/>
          </p:nvSpPr>
          <p:spPr>
            <a:xfrm>
              <a:off x="5484960" y="2503440"/>
              <a:ext cx="3965760" cy="610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2505240" y="3725640"/>
              <a:ext cx="82440" cy="612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1"/>
            <p:cNvSpPr/>
            <p:nvPr/>
          </p:nvSpPr>
          <p:spPr>
            <a:xfrm>
              <a:off x="9369720" y="48751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42"/>
            <p:cNvSpPr/>
            <p:nvPr/>
          </p:nvSpPr>
          <p:spPr>
            <a:xfrm rot="20521800">
              <a:off x="8739360" y="494280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05/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43"/>
            <p:cNvSpPr/>
            <p:nvPr/>
          </p:nvSpPr>
          <p:spPr>
            <a:xfrm>
              <a:off x="773280" y="43401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44"/>
            <p:cNvSpPr/>
            <p:nvPr/>
          </p:nvSpPr>
          <p:spPr>
            <a:xfrm>
              <a:off x="773280" y="372744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5"/>
            <p:cNvSpPr/>
            <p:nvPr/>
          </p:nvSpPr>
          <p:spPr>
            <a:xfrm>
              <a:off x="773280" y="31143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6"/>
            <p:cNvSpPr/>
            <p:nvPr/>
          </p:nvSpPr>
          <p:spPr>
            <a:xfrm>
              <a:off x="773280" y="250344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7"/>
            <p:cNvSpPr/>
            <p:nvPr/>
          </p:nvSpPr>
          <p:spPr>
            <a:xfrm>
              <a:off x="442800" y="4187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8"/>
            <p:cNvSpPr/>
            <p:nvPr/>
          </p:nvSpPr>
          <p:spPr>
            <a:xfrm>
              <a:off x="444600" y="35733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49"/>
            <p:cNvSpPr/>
            <p:nvPr/>
          </p:nvSpPr>
          <p:spPr>
            <a:xfrm>
              <a:off x="444600" y="2982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50"/>
            <p:cNvSpPr/>
            <p:nvPr/>
          </p:nvSpPr>
          <p:spPr>
            <a:xfrm>
              <a:off x="444600" y="23493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1"/>
            <p:cNvSpPr/>
            <p:nvPr/>
          </p:nvSpPr>
          <p:spPr>
            <a:xfrm>
              <a:off x="5650200" y="4416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52"/>
            <p:cNvSpPr/>
            <p:nvPr/>
          </p:nvSpPr>
          <p:spPr>
            <a:xfrm>
              <a:off x="7548840" y="38034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53"/>
            <p:cNvSpPr/>
            <p:nvPr/>
          </p:nvSpPr>
          <p:spPr>
            <a:xfrm>
              <a:off x="7548840" y="3192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54"/>
            <p:cNvSpPr/>
            <p:nvPr/>
          </p:nvSpPr>
          <p:spPr>
            <a:xfrm>
              <a:off x="6075000" y="2655720"/>
              <a:ext cx="262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Regular PRACE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55"/>
            <p:cNvSpPr/>
            <p:nvPr/>
          </p:nvSpPr>
          <p:spPr>
            <a:xfrm>
              <a:off x="4255560" y="3262320"/>
              <a:ext cx="25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8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Regular PRACE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6"/>
            <p:cNvSpPr/>
            <p:nvPr/>
          </p:nvSpPr>
          <p:spPr>
            <a:xfrm>
              <a:off x="4328280" y="388116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ular NIC/GCS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57"/>
            <p:cNvSpPr/>
            <p:nvPr/>
          </p:nvSpPr>
          <p:spPr>
            <a:xfrm>
              <a:off x="2264400" y="4492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ular NIC/GCS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8"/>
            <p:cNvSpPr/>
            <p:nvPr/>
          </p:nvSpPr>
          <p:spPr>
            <a:xfrm>
              <a:off x="3792600" y="2504880"/>
              <a:ext cx="1684440" cy="615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59"/>
            <p:cNvSpPr/>
            <p:nvPr/>
          </p:nvSpPr>
          <p:spPr>
            <a:xfrm>
              <a:off x="2617920" y="25588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ACE Early Access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60"/>
            <p:cNvSpPr/>
            <p:nvPr/>
          </p:nvSpPr>
          <p:spPr>
            <a:xfrm>
              <a:off x="2508840" y="2836800"/>
              <a:ext cx="122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st allo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61"/>
            <p:cNvSpPr/>
            <p:nvPr/>
          </p:nvSpPr>
          <p:spPr>
            <a:xfrm>
              <a:off x="3712320" y="2832120"/>
              <a:ext cx="182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nd allocation peri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62"/>
          <p:cNvSpPr/>
          <p:nvPr/>
        </p:nvSpPr>
        <p:spPr>
          <a:xfrm>
            <a:off x="560520" y="1295280"/>
            <a:ext cx="79246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67cbb"/>
                </a:solidFill>
                <a:latin typeface="Arial"/>
              </a:rPr>
              <a:t>Scheme of Calls for JUG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3"/>
          <p:cNvSpPr/>
          <p:nvPr/>
        </p:nvSpPr>
        <p:spPr>
          <a:xfrm>
            <a:off x="538920" y="5694480"/>
            <a:ext cx="89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5% of Capacity provided by PRACE corresponding to 40 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ly Access Call assisted by the SSC Establish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6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1560-383E-4DA5-96F9-4F7387767362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7cbb"/>
                </a:solidFill>
                <a:latin typeface="Arial"/>
              </a:rPr>
              <a:t>Proposal Statistic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5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7 for project acce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6 for the 1st of Augu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1 for the 1st of Decemb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8 for combined acc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ject leaders from 1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elgium – 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lgaria -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nmark – 1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land -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rance – 5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rmany - 1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ece – 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reland -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aly – 4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herlands –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oland – 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ortugal – 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pain – 1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weden – 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witzerland – 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UK - 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D456-E3D6-45F5-8962-2F8E6B9C0D93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7cbb"/>
                </a:solidFill>
                <a:latin typeface="Arial"/>
              </a:rPr>
              <a:t>Proposal Statistics II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471,509,270 core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subscription: facto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trophysics 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emistry and Materials -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 Sciences and Environment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gineering and Energy -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ndamental Physics -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thematics and Computing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ine and Life Sciences 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6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5F94-C1E8-4721-96E0-67C80A4BD73F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67cbb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and Moti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the PRACE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an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E Implement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E as Relying Pa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liennummernplatzhalter 4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23BF-8253-4A93-98C6-9F10CC1C2A6E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82280" y="4406760"/>
            <a:ext cx="842004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7cbb"/>
                </a:solidFill>
                <a:latin typeface="Arial"/>
              </a:rPr>
              <a:t>DEVELOPMENT PROJECTS</a:t>
            </a:r>
            <a:endParaRPr b="0" lang="en-US" sz="40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82280" y="2906280"/>
            <a:ext cx="84200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C6EF-2D9C-471D-8EA1-3B2528822BD7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B133-ED8C-47DA-BDB2-21E6C422AF13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The First Implementation Phase Projec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84121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Implementation Phase Project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udget: 28.5 Mio €  (20 Mio € EC fund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uration: July 2010 – June 20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ortium: all 20 Partners of the AIS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more Implementation Phase Projects envis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20 Mio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€ EC funding ea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jor Challenges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er-1, Industry involvement, Application scaling with commun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EC funding for P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p to 70 Mio € in FP7 for preparation and implemen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25 Mio € in open calls for Exascale pro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o-funding of the Infrastructure in FP8 would further strengthen the European integ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D980-551E-4D47-BD4E-86B857B153E5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4312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First Implementation Phase Projec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33480" y="2133720"/>
            <a:ext cx="82677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&amp; Community support through application enab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&gt; 40% of the total workforce in the project is her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upport can be requested along with proposals for Preparatory Access to the Tier-0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loyment and operation of the Technical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laboration with Communities and other Research 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a model for cross-national Tier-1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is activity will be extended in the future implementation phase proje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peration with vendors for future HP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~20% of the total workforce + 5 Million € for prototypes (50% EC-fund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development of the legal, organisational and financi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ation and further extension of the very successful training programme started in the Preparatory Phas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liennummernplatzhalter 1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A695-FF85-43F9-91EE-A50AA0042392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PRACE Implementation Phase Work Package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33480" y="2133360"/>
            <a:ext cx="8701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1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2 Evolution of the Research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3 Dissemination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4 HPC Ecosystem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5 Industrial Us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6 Technical Operation and Evolution of the Distribute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7 Enabling Petascale  Applications: Efficient Use of Tier-0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P8 Support for the procurement and commissioning of HP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WP9 Futur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8F60-6E78-4EC3-A978-83E68C43F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2BAA-EE0B-4515-B1F9-5FF3F96BE049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Second Implementation Phase Projec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e: mid 2011 – mid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seen budget: 38 Million € / 20 Millio € EC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tegration of Tier-1 services (DEISA-typ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nter close collaborations with scientific and industrial communities to scale important codes for Tier-0 and Tier-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ntinue and extend the started programmes f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echnology assess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ocurement guid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PRACE RI is a Relying Party 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anks for the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y services rely on the IG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UNICORE for remote job submission and workflow schedul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Globus services: GridFTP, GSISSH, GR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Accounting ser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Trouble ticket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ternal services (BSCW, wiki, SV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DB1F-C866-4575-A7C4-D921A73099BD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But ….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s can be troublesome fo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A not available, e.g. institution does not want to collab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n take a long time to get one. TCS of course is very welcome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wever, some services seem to have problems with some clients and TCS issued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8246-4B79-47E3-852E-012774B0D757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Clients 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fferent behaviour of web clients, difficult to provide clear user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version of certificates can have unexpected results, difficult to support (e.g. keystores and Java dependenc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SISSH is great, but native support by ssh would be wel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6AED-2798-4F0B-97CB-E2975164ACF9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Federations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 have user communities using other infrastructures too, also exchanging data among jo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at can STS do for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foreseen in EMI, ties in with online CAs and attribute authorities (like VO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LDAP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use LDAP repositories for AuthZ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formation is copied to local LDAP repositories, XUUDB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 among AuthZ providers important for collab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02BD-8C4F-44B0-995C-F680A28D6EE0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73"/>
          <p:cNvSpPr/>
          <p:nvPr/>
        </p:nvSpPr>
        <p:spPr>
          <a:xfrm>
            <a:off x="2362320" y="4005360"/>
            <a:ext cx="792000" cy="223920"/>
          </a:xfrm>
          <a:prstGeom prst="rightArrow">
            <a:avLst>
              <a:gd name="adj1" fmla="val 50000"/>
              <a:gd name="adj2" fmla="val 5593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4"/>
          <p:cNvSpPr/>
          <p:nvPr/>
        </p:nvSpPr>
        <p:spPr>
          <a:xfrm>
            <a:off x="5168880" y="4005360"/>
            <a:ext cx="1008000" cy="215640"/>
          </a:xfrm>
          <a:prstGeom prst="rightArrow">
            <a:avLst>
              <a:gd name="adj1" fmla="val 50000"/>
              <a:gd name="adj2" fmla="val 5899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2"/>
          <p:cNvSpPr/>
          <p:nvPr/>
        </p:nvSpPr>
        <p:spPr>
          <a:xfrm>
            <a:off x="3081240" y="5854680"/>
            <a:ext cx="28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b) Federated User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2"/>
          <p:cNvSpPr/>
          <p:nvPr/>
        </p:nvSpPr>
        <p:spPr>
          <a:xfrm>
            <a:off x="6278400" y="5854680"/>
            <a:ext cx="3589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c) Authorized Access to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19"/>
          <p:cNvSpPr/>
          <p:nvPr/>
        </p:nvSpPr>
        <p:spPr>
          <a:xfrm>
            <a:off x="117360" y="5854680"/>
            <a:ext cx="2808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a) PRACE Project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2616120" y="2425680"/>
            <a:ext cx="1079640" cy="928800"/>
          </a:xfrm>
          <a:prstGeom prst="rect">
            <a:avLst/>
          </a:prstGeom>
          <a:noFill/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537080" y="2371680"/>
            <a:ext cx="1117440" cy="968400"/>
          </a:xfrm>
          <a:prstGeom prst="rect">
            <a:avLst/>
          </a:prstGeom>
          <a:noFill/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3514680" y="4581360"/>
            <a:ext cx="1028880" cy="1001880"/>
          </a:xfrm>
          <a:prstGeom prst="rect">
            <a:avLst/>
          </a:prstGeom>
          <a:noFill/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5011560" y="3200400"/>
            <a:ext cx="519120" cy="318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f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te B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970440" y="5477040"/>
            <a:ext cx="515880" cy="22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f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560" rIns="1656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t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6" descr="j0195384"/>
          <p:cNvPicPr/>
          <p:nvPr/>
        </p:nvPicPr>
        <p:blipFill>
          <a:blip r:embed="rId1"/>
          <a:stretch/>
        </p:blipFill>
        <p:spPr>
          <a:xfrm flipH="1">
            <a:off x="2649240" y="2060640"/>
            <a:ext cx="452520" cy="558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7" descr="j0195384"/>
          <p:cNvPicPr/>
          <p:nvPr/>
        </p:nvPicPr>
        <p:blipFill>
          <a:blip r:embed="rId2"/>
          <a:stretch/>
        </p:blipFill>
        <p:spPr>
          <a:xfrm flipH="1">
            <a:off x="3255840" y="5183280"/>
            <a:ext cx="409680" cy="5047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8" descr="j0195384"/>
          <p:cNvPicPr/>
          <p:nvPr/>
        </p:nvPicPr>
        <p:blipFill>
          <a:blip r:embed="rId3"/>
          <a:stretch/>
        </p:blipFill>
        <p:spPr>
          <a:xfrm>
            <a:off x="5226120" y="1989000"/>
            <a:ext cx="395280" cy="4892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3"/>
          <p:cNvSpPr/>
          <p:nvPr/>
        </p:nvSpPr>
        <p:spPr>
          <a:xfrm>
            <a:off x="2651040" y="3240000"/>
            <a:ext cx="435240" cy="2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f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t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9"/>
          <p:cNvGrpSpPr/>
          <p:nvPr/>
        </p:nvGrpSpPr>
        <p:grpSpPr>
          <a:xfrm>
            <a:off x="3728880" y="3645000"/>
            <a:ext cx="793440" cy="718560"/>
            <a:chOff x="3728880" y="3645000"/>
            <a:chExt cx="793440" cy="718560"/>
          </a:xfrm>
        </p:grpSpPr>
        <p:sp>
          <p:nvSpPr>
            <p:cNvPr id="403" name="AutoShape 110"/>
            <p:cNvSpPr/>
            <p:nvPr/>
          </p:nvSpPr>
          <p:spPr>
            <a:xfrm>
              <a:off x="3728880" y="3645000"/>
              <a:ext cx="792000" cy="71856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c845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11"/>
            <p:cNvSpPr/>
            <p:nvPr/>
          </p:nvSpPr>
          <p:spPr>
            <a:xfrm>
              <a:off x="3800880" y="3715560"/>
              <a:ext cx="721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DA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20"/>
          <p:cNvGrpSpPr/>
          <p:nvPr/>
        </p:nvGrpSpPr>
        <p:grpSpPr>
          <a:xfrm>
            <a:off x="2720880" y="2619360"/>
            <a:ext cx="513000" cy="376200"/>
            <a:chOff x="2720880" y="2619360"/>
            <a:chExt cx="513000" cy="376200"/>
          </a:xfrm>
        </p:grpSpPr>
        <p:graphicFrame>
          <p:nvGraphicFramePr>
            <p:cNvPr id="406" name="Object 17"/>
            <p:cNvGraphicFramePr/>
            <p:nvPr/>
          </p:nvGraphicFramePr>
          <p:xfrm>
            <a:off x="2720880" y="2619360"/>
            <a:ext cx="513000" cy="376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07" name="Object 1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20880" y="2619360"/>
                      <a:ext cx="51300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Text Box 18"/>
            <p:cNvSpPr/>
            <p:nvPr/>
          </p:nvSpPr>
          <p:spPr>
            <a:xfrm>
              <a:off x="2720880" y="2637000"/>
              <a:ext cx="483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AutoShape 144"/>
          <p:cNvSpPr/>
          <p:nvPr/>
        </p:nvSpPr>
        <p:spPr>
          <a:xfrm rot="13395600">
            <a:off x="3322800" y="3257280"/>
            <a:ext cx="739440" cy="158760"/>
          </a:xfrm>
          <a:custGeom>
            <a:avLst/>
            <a:gdLst>
              <a:gd name="textAreaLeft" fmla="*/ 114120 w 739440"/>
              <a:gd name="textAreaRight" fmla="*/ 646560 w 739440"/>
              <a:gd name="textAreaTop" fmla="*/ 39960 h 158760"/>
              <a:gd name="textAreaBottom" fmla="*/ 118800 h 158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0" descr="logo_juelich_412"/>
          <p:cNvPicPr/>
          <p:nvPr/>
        </p:nvPicPr>
        <p:blipFill>
          <a:blip r:embed="rId6"/>
          <a:stretch/>
        </p:blipFill>
        <p:spPr>
          <a:xfrm>
            <a:off x="6681960" y="2060640"/>
            <a:ext cx="782640" cy="347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4" descr="cineca"/>
          <p:cNvPicPr/>
          <p:nvPr/>
        </p:nvPicPr>
        <p:blipFill>
          <a:blip r:embed="rId7"/>
          <a:stretch/>
        </p:blipFill>
        <p:spPr>
          <a:xfrm>
            <a:off x="6059520" y="4595760"/>
            <a:ext cx="579240" cy="303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0" descr="hlrs_big"/>
          <p:cNvPicPr/>
          <p:nvPr/>
        </p:nvPicPr>
        <p:blipFill>
          <a:blip r:embed="rId8"/>
          <a:stretch/>
        </p:blipFill>
        <p:spPr>
          <a:xfrm>
            <a:off x="8447040" y="2289240"/>
            <a:ext cx="498600" cy="266760"/>
          </a:xfrm>
          <a:prstGeom prst="rect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</p:pic>
      <p:pic>
        <p:nvPicPr>
          <p:cNvPr id="413" name="Picture 63" descr="logo_bsc_short"/>
          <p:cNvPicPr/>
          <p:nvPr/>
        </p:nvPicPr>
        <p:blipFill>
          <a:blip r:embed="rId9"/>
          <a:stretch/>
        </p:blipFill>
        <p:spPr>
          <a:xfrm>
            <a:off x="7329600" y="4941720"/>
            <a:ext cx="325440" cy="39708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414" name="Picture 64" descr="jugene_72rack_0805"/>
          <p:cNvPicPr/>
          <p:nvPr/>
        </p:nvPicPr>
        <p:blipFill>
          <a:blip r:embed="rId10"/>
          <a:srcRect l="0" t="16516" r="0" b="0"/>
          <a:stretch/>
        </p:blipFill>
        <p:spPr>
          <a:xfrm>
            <a:off x="6681960" y="2421000"/>
            <a:ext cx="826920" cy="390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1" descr="logo-lrz-kl"/>
          <p:cNvPicPr/>
          <p:nvPr/>
        </p:nvPicPr>
        <p:blipFill>
          <a:blip r:embed="rId11"/>
          <a:stretch/>
        </p:blipFill>
        <p:spPr>
          <a:xfrm>
            <a:off x="9416880" y="3716280"/>
            <a:ext cx="325440" cy="465120"/>
          </a:xfrm>
          <a:prstGeom prst="rect">
            <a:avLst/>
          </a:prstGeom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</p:pic>
      <p:sp>
        <p:nvSpPr>
          <p:cNvPr id="416" name="Line 78"/>
          <p:cNvSpPr/>
          <p:nvPr/>
        </p:nvSpPr>
        <p:spPr>
          <a:xfrm flipH="1" flipV="1">
            <a:off x="7040520" y="2852280"/>
            <a:ext cx="504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79"/>
          <p:cNvSpPr/>
          <p:nvPr/>
        </p:nvSpPr>
        <p:spPr>
          <a:xfrm flipH="1" flipV="1">
            <a:off x="6608880" y="3357720"/>
            <a:ext cx="1077840" cy="5378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1"/>
          <p:cNvSpPr/>
          <p:nvPr/>
        </p:nvSpPr>
        <p:spPr>
          <a:xfrm flipH="1">
            <a:off x="6934320" y="3828960"/>
            <a:ext cx="752400" cy="5810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82"/>
          <p:cNvSpPr/>
          <p:nvPr/>
        </p:nvSpPr>
        <p:spPr>
          <a:xfrm flipH="1">
            <a:off x="7467120" y="3828960"/>
            <a:ext cx="266760" cy="9082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86"/>
          <p:cNvSpPr/>
          <p:nvPr/>
        </p:nvSpPr>
        <p:spPr>
          <a:xfrm>
            <a:off x="7821720" y="3828960"/>
            <a:ext cx="11113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9"/>
          <p:cNvSpPr/>
          <p:nvPr/>
        </p:nvSpPr>
        <p:spPr>
          <a:xfrm flipV="1">
            <a:off x="7910640" y="2924280"/>
            <a:ext cx="622080" cy="8380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72"/>
          <p:cNvSpPr/>
          <p:nvPr/>
        </p:nvSpPr>
        <p:spPr>
          <a:xfrm rot="2572200">
            <a:off x="7037280" y="3215160"/>
            <a:ext cx="405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" rIns="1080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llow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76"/>
          <p:cNvGrpSpPr/>
          <p:nvPr/>
        </p:nvGrpSpPr>
        <p:grpSpPr>
          <a:xfrm>
            <a:off x="7473960" y="3306600"/>
            <a:ext cx="664920" cy="860040"/>
            <a:chOff x="7473960" y="3306600"/>
            <a:chExt cx="664920" cy="860040"/>
          </a:xfrm>
        </p:grpSpPr>
        <p:pic>
          <p:nvPicPr>
            <p:cNvPr id="424" name="Picture 90" descr="notebook2"/>
            <p:cNvPicPr/>
            <p:nvPr/>
          </p:nvPicPr>
          <p:blipFill>
            <a:blip r:embed="rId12"/>
            <a:stretch/>
          </p:blipFill>
          <p:spPr>
            <a:xfrm>
              <a:off x="7473960" y="3357360"/>
              <a:ext cx="66492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91"/>
            <p:cNvSpPr/>
            <p:nvPr/>
          </p:nvSpPr>
          <p:spPr>
            <a:xfrm>
              <a:off x="7510680" y="3306600"/>
              <a:ext cx="3798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190"/>
          <p:cNvSpPr/>
          <p:nvPr/>
        </p:nvSpPr>
        <p:spPr>
          <a:xfrm>
            <a:off x="5097600" y="3716280"/>
            <a:ext cx="69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44"/>
          <p:cNvSpPr/>
          <p:nvPr/>
        </p:nvSpPr>
        <p:spPr>
          <a:xfrm rot="18600000">
            <a:off x="4307040" y="3252600"/>
            <a:ext cx="739440" cy="158760"/>
          </a:xfrm>
          <a:custGeom>
            <a:avLst/>
            <a:gdLst>
              <a:gd name="textAreaLeft" fmla="*/ 114120 w 739440"/>
              <a:gd name="textAreaRight" fmla="*/ 646560 w 739440"/>
              <a:gd name="textAreaTop" fmla="*/ 39960 h 158760"/>
              <a:gd name="textAreaBottom" fmla="*/ 118800 h 158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119"/>
          <p:cNvGrpSpPr/>
          <p:nvPr/>
        </p:nvGrpSpPr>
        <p:grpSpPr>
          <a:xfrm>
            <a:off x="345960" y="2539440"/>
            <a:ext cx="1656000" cy="2149920"/>
            <a:chOff x="345960" y="2539440"/>
            <a:chExt cx="1656000" cy="2149920"/>
          </a:xfrm>
        </p:grpSpPr>
        <p:pic>
          <p:nvPicPr>
            <p:cNvPr id="429" name="Picture 4" descr="j0195384"/>
            <p:cNvPicPr/>
            <p:nvPr/>
          </p:nvPicPr>
          <p:blipFill>
            <a:blip r:embed="rId13"/>
            <a:stretch/>
          </p:blipFill>
          <p:spPr>
            <a:xfrm flipH="1">
              <a:off x="345960" y="3699720"/>
              <a:ext cx="801360" cy="9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AutoShape 3"/>
            <p:cNvSpPr/>
            <p:nvPr/>
          </p:nvSpPr>
          <p:spPr>
            <a:xfrm>
              <a:off x="1222920" y="3743640"/>
              <a:ext cx="779040" cy="752400"/>
            </a:xfrm>
            <a:prstGeom prst="can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Review 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49"/>
            <p:cNvSpPr/>
            <p:nvPr/>
          </p:nvSpPr>
          <p:spPr>
            <a:xfrm rot="3576600">
              <a:off x="403920" y="3050280"/>
              <a:ext cx="1289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ject  attribu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24"/>
          <p:cNvGrpSpPr/>
          <p:nvPr/>
        </p:nvGrpSpPr>
        <p:grpSpPr>
          <a:xfrm>
            <a:off x="3728880" y="5013360"/>
            <a:ext cx="513000" cy="376200"/>
            <a:chOff x="3728880" y="5013360"/>
            <a:chExt cx="513000" cy="376200"/>
          </a:xfrm>
        </p:grpSpPr>
        <p:graphicFrame>
          <p:nvGraphicFramePr>
            <p:cNvPr id="433" name="Object 17"/>
            <p:cNvGraphicFramePr/>
            <p:nvPr/>
          </p:nvGraphicFramePr>
          <p:xfrm>
            <a:off x="3728880" y="5013360"/>
            <a:ext cx="513000" cy="3762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34" name="Object 17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28880" y="5013360"/>
                      <a:ext cx="51300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5" name="Text Box 18"/>
            <p:cNvSpPr/>
            <p:nvPr/>
          </p:nvSpPr>
          <p:spPr>
            <a:xfrm>
              <a:off x="3728880" y="5031000"/>
              <a:ext cx="483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130"/>
          <p:cNvGrpSpPr/>
          <p:nvPr/>
        </p:nvGrpSpPr>
        <p:grpSpPr>
          <a:xfrm>
            <a:off x="5024520" y="2565360"/>
            <a:ext cx="512640" cy="376200"/>
            <a:chOff x="5024520" y="2565360"/>
            <a:chExt cx="512640" cy="376200"/>
          </a:xfrm>
        </p:grpSpPr>
        <p:graphicFrame>
          <p:nvGraphicFramePr>
            <p:cNvPr id="437" name="Object 17"/>
            <p:cNvGraphicFramePr/>
            <p:nvPr/>
          </p:nvGraphicFramePr>
          <p:xfrm>
            <a:off x="5024520" y="2565360"/>
            <a:ext cx="512640" cy="3762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38" name="Object 17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024520" y="2565360"/>
                      <a:ext cx="51264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Text Box 18"/>
            <p:cNvSpPr/>
            <p:nvPr/>
          </p:nvSpPr>
          <p:spPr>
            <a:xfrm>
              <a:off x="5024520" y="2583000"/>
              <a:ext cx="4834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AutoShape 144"/>
          <p:cNvSpPr/>
          <p:nvPr/>
        </p:nvSpPr>
        <p:spPr>
          <a:xfrm rot="6000000">
            <a:off x="3718440" y="4518720"/>
            <a:ext cx="739440" cy="160200"/>
          </a:xfrm>
          <a:custGeom>
            <a:avLst/>
            <a:gdLst>
              <a:gd name="textAreaLeft" fmla="*/ 114120 w 739440"/>
              <a:gd name="textAreaRight" fmla="*/ 646560 w 739440"/>
              <a:gd name="textAreaTop" fmla="*/ 40320 h 160200"/>
              <a:gd name="textAreaBottom" fmla="*/ 119880 h 160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Straight Arrow Connector 135"/>
          <p:cNvCxnSpPr/>
          <p:nvPr/>
        </p:nvCxnSpPr>
        <p:spPr>
          <a:xfrm>
            <a:off x="3154320" y="3141720"/>
            <a:ext cx="575280" cy="575280"/>
          </a:xfrm>
          <a:prstGeom prst="straightConnector1">
            <a:avLst/>
          </a:prstGeom>
          <a:ln w="31680">
            <a:solidFill>
              <a:srgbClr val="62031f"/>
            </a:solidFill>
            <a:miter/>
            <a:tailEnd len="med" type="arrow" w="med"/>
          </a:ln>
        </p:spPr>
      </p:cxnSp>
      <p:cxnSp>
        <p:nvCxnSpPr>
          <p:cNvPr id="442" name="Straight Arrow Connector 136"/>
          <p:cNvCxnSpPr/>
          <p:nvPr/>
        </p:nvCxnSpPr>
        <p:spPr>
          <a:xfrm flipV="1">
            <a:off x="4232880" y="4291920"/>
            <a:ext cx="144720" cy="649800"/>
          </a:xfrm>
          <a:prstGeom prst="straightConnector1">
            <a:avLst/>
          </a:prstGeom>
          <a:ln w="31680">
            <a:solidFill>
              <a:srgbClr val="62031f"/>
            </a:solidFill>
            <a:miter/>
            <a:tailEnd len="med" type="arrow" w="med"/>
          </a:ln>
        </p:spPr>
      </p:cxnSp>
      <p:cxnSp>
        <p:nvCxnSpPr>
          <p:cNvPr id="443" name="Straight Arrow Connector 139"/>
          <p:cNvCxnSpPr/>
          <p:nvPr/>
        </p:nvCxnSpPr>
        <p:spPr>
          <a:xfrm flipH="1">
            <a:off x="4233960" y="2781000"/>
            <a:ext cx="576360" cy="719640"/>
          </a:xfrm>
          <a:prstGeom prst="straightConnector1">
            <a:avLst/>
          </a:prstGeom>
          <a:ln w="31680">
            <a:solidFill>
              <a:srgbClr val="62031f"/>
            </a:solidFill>
            <a:miter/>
            <a:tailEnd len="med" type="arrow" w="med"/>
          </a:ln>
        </p:spPr>
      </p:cxnSp>
      <p:sp>
        <p:nvSpPr>
          <p:cNvPr id="444" name="Slide Number Placeholder 142"/>
          <p:cNvSpPr/>
          <p:nvPr/>
        </p:nvSpPr>
        <p:spPr>
          <a:xfrm>
            <a:off x="7464600" y="6524640"/>
            <a:ext cx="23065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F6E8-E76B-4417-84EC-EE658BD39A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94" descr="logo-tgcc.gif"/>
          <p:cNvPicPr/>
          <p:nvPr/>
        </p:nvPicPr>
        <p:blipFill>
          <a:blip r:embed="rId18"/>
          <a:stretch/>
        </p:blipFill>
        <p:spPr>
          <a:xfrm>
            <a:off x="5889600" y="2852640"/>
            <a:ext cx="863640" cy="328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95" descr="CurieFat-small.jpg"/>
          <p:cNvPicPr/>
          <p:nvPr/>
        </p:nvPicPr>
        <p:blipFill>
          <a:blip r:embed="rId19"/>
          <a:stretch/>
        </p:blipFill>
        <p:spPr>
          <a:xfrm>
            <a:off x="5961240" y="3213000"/>
            <a:ext cx="77940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liennummernplatzhalter 2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18A1-B5DB-4F25-8362-E5DA75F718C1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quantumdots"/>
          <p:cNvPicPr/>
          <p:nvPr/>
        </p:nvPicPr>
        <p:blipFill>
          <a:blip r:embed="rId1"/>
          <a:stretch/>
        </p:blipFill>
        <p:spPr>
          <a:xfrm>
            <a:off x="5519880" y="2009880"/>
            <a:ext cx="1795320" cy="164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Strommast"/>
          <p:cNvPicPr/>
          <p:nvPr/>
        </p:nvPicPr>
        <p:blipFill>
          <a:blip r:embed="rId2"/>
          <a:stretch/>
        </p:blipFill>
        <p:spPr>
          <a:xfrm>
            <a:off x="7626240" y="2009880"/>
            <a:ext cx="2027520" cy="1490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protein"/>
          <p:cNvPicPr/>
          <p:nvPr/>
        </p:nvPicPr>
        <p:blipFill>
          <a:blip r:embed="rId3"/>
          <a:stretch/>
        </p:blipFill>
        <p:spPr>
          <a:xfrm>
            <a:off x="2712960" y="4164120"/>
            <a:ext cx="2583000" cy="15890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240" y="980640"/>
            <a:ext cx="984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Supercomputing Drives Science through Simulation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pic>
        <p:nvPicPr>
          <p:cNvPr id="139" name="Picture 6" descr="Vitruvian"/>
          <p:cNvPicPr/>
          <p:nvPr/>
        </p:nvPicPr>
        <p:blipFill>
          <a:blip r:embed="rId4"/>
          <a:stretch/>
        </p:blipFill>
        <p:spPr>
          <a:xfrm>
            <a:off x="3102120" y="2009880"/>
            <a:ext cx="2104920" cy="1942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lassify1"/>
          <p:cNvPicPr/>
          <p:nvPr/>
        </p:nvPicPr>
        <p:blipFill>
          <a:blip r:embed="rId5"/>
          <a:stretch/>
        </p:blipFill>
        <p:spPr>
          <a:xfrm>
            <a:off x="2946240" y="2801880"/>
            <a:ext cx="2135520" cy="201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animation_t106"/>
          <p:cNvPicPr/>
          <p:nvPr/>
        </p:nvPicPr>
        <p:blipFill>
          <a:blip r:embed="rId6"/>
          <a:stretch/>
        </p:blipFill>
        <p:spPr>
          <a:xfrm>
            <a:off x="449280" y="4313160"/>
            <a:ext cx="2341440" cy="1519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203760" y="5753160"/>
            <a:ext cx="24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/ Clima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ion / Ozone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179160" y="5753160"/>
            <a:ext cx="18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ing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textor"/>
          <p:cNvPicPr/>
          <p:nvPr/>
        </p:nvPicPr>
        <p:blipFill>
          <a:blip r:embed="rId7"/>
          <a:stretch/>
        </p:blipFill>
        <p:spPr>
          <a:xfrm>
            <a:off x="7705800" y="3294000"/>
            <a:ext cx="1798560" cy="1235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7754400" y="5753160"/>
            <a:ext cx="17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ma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355720" y="5753160"/>
            <a:ext cx="223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s/ Inf. 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no-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spinspiral"/>
          <p:cNvPicPr/>
          <p:nvPr/>
        </p:nvPicPr>
        <p:blipFill>
          <a:blip r:embed="rId8"/>
          <a:stretch/>
        </p:blipFill>
        <p:spPr>
          <a:xfrm>
            <a:off x="5521320" y="3376440"/>
            <a:ext cx="1793880" cy="1333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peapodmov"/>
          <p:cNvPicPr/>
          <p:nvPr/>
        </p:nvPicPr>
        <p:blipFill>
          <a:blip r:embed="rId9"/>
          <a:stretch/>
        </p:blipFill>
        <p:spPr>
          <a:xfrm>
            <a:off x="5442120" y="4565520"/>
            <a:ext cx="1950840" cy="126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stack54b"/>
          <p:cNvPicPr/>
          <p:nvPr/>
        </p:nvPicPr>
        <p:blipFill>
          <a:blip r:embed="rId10"/>
          <a:stretch/>
        </p:blipFill>
        <p:spPr>
          <a:xfrm>
            <a:off x="7967520" y="4097160"/>
            <a:ext cx="1374840" cy="180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katrina-satellite-t"/>
          <p:cNvPicPr/>
          <p:nvPr/>
        </p:nvPicPr>
        <p:blipFill>
          <a:blip r:embed="rId11"/>
          <a:stretch/>
        </p:blipFill>
        <p:spPr>
          <a:xfrm>
            <a:off x="528480" y="3270240"/>
            <a:ext cx="2027520" cy="1403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Erde"/>
          <p:cNvPicPr/>
          <p:nvPr/>
        </p:nvPicPr>
        <p:blipFill>
          <a:blip r:embed="rId12"/>
          <a:stretch/>
        </p:blipFill>
        <p:spPr>
          <a:xfrm>
            <a:off x="527040" y="1959120"/>
            <a:ext cx="202896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67cbb"/>
                </a:solidFill>
                <a:latin typeface="Arial"/>
              </a:rPr>
              <a:t>LDAP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933120" y="2133360"/>
            <a:ext cx="7907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s done with GridShib CA, but were not convin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ma re-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any DEISA/PRACE specific attribu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Namespaces for accounts and application projec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User information tied to accounts, so user information must be replicated for each account for the same us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Use more common schemas, e.g. SCHA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9CAC-374E-4109-A2B8-6A6B58688ED6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33120" y="2133360"/>
            <a:ext cx="8699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 must maintain its high standards in computational science and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 has to guarantee independent access to HPC-systems of the highest performance class for all computational scientists in its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ientific Excellence requires peer review on European scale to foster best ideas and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requirements as to variety of architectures requires coordinated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 and national governments have to establish robust and persistent funding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65DC-DD3A-48E0-B753-D40FF042D768}" type="slidenum">
              <a:rPr b="0" lang="de-DE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67cbb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96920" y="2060280"/>
            <a:ext cx="8502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6f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pean HPC-facilities at the top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HPC provisioning pyra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r-0: 3-6 European Centres for Peta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r-0: ? European Centres for Exa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r-1: National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r-2: Regional/University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6f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ion of a European HP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tific and industrial user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PC service providers on all t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 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6f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uropean HPC hard- and software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liennummernplatzhalter 21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4B75-78F1-4818-BF78-756D9A235E71}" type="slidenum">
              <a:rPr b="0" lang="de-DE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8520" y="1267920"/>
            <a:ext cx="9417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67cbb"/>
                </a:solidFill>
                <a:latin typeface="Arial"/>
              </a:rPr>
              <a:t>The ESFRI Vision for a European HPC servic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V="1">
            <a:off x="5240160" y="2400120"/>
            <a:ext cx="1581480" cy="19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H="1" flipV="1">
            <a:off x="6821640" y="2400480"/>
            <a:ext cx="1890720" cy="19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6188040" y="3192480"/>
            <a:ext cx="13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5667480" y="3803400"/>
            <a:ext cx="25066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508800" y="276084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er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508800" y="340848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er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508800" y="398448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er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V="1">
            <a:off x="5249880" y="4360680"/>
            <a:ext cx="34527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7543800" y="2511360"/>
            <a:ext cx="977760" cy="486000"/>
          </a:xfrm>
          <a:prstGeom prst="leftArrow">
            <a:avLst>
              <a:gd name="adj1" fmla="val 50000"/>
              <a:gd name="adj2" fmla="val 50296"/>
            </a:avLst>
          </a:prstGeom>
          <a:solidFill>
            <a:srgbClr val="c50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7902720" y="3213000"/>
            <a:ext cx="1407960" cy="505080"/>
          </a:xfrm>
          <a:prstGeom prst="leftArrow">
            <a:avLst>
              <a:gd name="adj1" fmla="val 50000"/>
              <a:gd name="adj2" fmla="val 69690"/>
            </a:avLst>
          </a:prstGeom>
          <a:solidFill>
            <a:srgbClr val="c50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ISA/P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V="1">
            <a:off x="9487080" y="242064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"/>
          <p:cNvSpPr/>
          <p:nvPr/>
        </p:nvSpPr>
        <p:spPr>
          <a:xfrm flipH="1">
            <a:off x="6967080" y="4581360"/>
            <a:ext cx="25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 rot="16200000">
            <a:off x="9099720" y="32371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545240" y="4575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 of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4160" y="1197000"/>
            <a:ext cx="3887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PRACE Timeline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711216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99096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243216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86742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2"/>
          <p:cNvSpPr/>
          <p:nvPr/>
        </p:nvSpPr>
        <p:spPr>
          <a:xfrm>
            <a:off x="71136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1"/>
          <p:cNvSpPr/>
          <p:nvPr/>
        </p:nvSpPr>
        <p:spPr>
          <a:xfrm>
            <a:off x="55548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0"/>
          <p:cNvSpPr/>
          <p:nvPr/>
        </p:nvSpPr>
        <p:spPr>
          <a:xfrm>
            <a:off x="39924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9"/>
          <p:cNvSpPr/>
          <p:nvPr/>
        </p:nvSpPr>
        <p:spPr>
          <a:xfrm flipH="1">
            <a:off x="2432160" y="4581360"/>
            <a:ext cx="14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4"/>
          <p:cNvSpPr/>
          <p:nvPr/>
        </p:nvSpPr>
        <p:spPr>
          <a:xfrm>
            <a:off x="5024520" y="2276640"/>
            <a:ext cx="0" cy="288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2"/>
          <p:cNvSpPr/>
          <p:nvPr/>
        </p:nvSpPr>
        <p:spPr>
          <a:xfrm>
            <a:off x="7113600" y="242100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4"/>
          <p:cNvSpPr/>
          <p:nvPr/>
        </p:nvSpPr>
        <p:spPr>
          <a:xfrm rot="16200000">
            <a:off x="9059760" y="3930120"/>
            <a:ext cx="289080" cy="581040"/>
          </a:xfrm>
          <a:custGeom>
            <a:avLst/>
            <a:gdLst>
              <a:gd name="textAreaLeft" fmla="*/ 0 w 289080"/>
              <a:gd name="textAreaRight" fmla="*/ 289080 w 289080"/>
              <a:gd name="textAreaTop" fmla="*/ 75240 h 581040"/>
              <a:gd name="textAreaBottom" fmla="*/ 505800 h 581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 rot="16200000">
            <a:off x="8465400" y="2045160"/>
            <a:ext cx="576360" cy="1616040"/>
          </a:xfrm>
          <a:custGeom>
            <a:avLst/>
            <a:gdLst>
              <a:gd name="textAreaLeft" fmla="*/ 0 w 576360"/>
              <a:gd name="textAreaRight" fmla="*/ 576720 w 576360"/>
              <a:gd name="textAreaTop" fmla="*/ 209520 h 1616040"/>
              <a:gd name="textAreaBottom" fmla="*/ 1406520 h 1616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93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8304120" y="2565360"/>
            <a:ext cx="344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8304120" y="3141720"/>
            <a:ext cx="344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1339920" y="2565360"/>
            <a:ext cx="3432240" cy="5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C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772160" y="2565360"/>
            <a:ext cx="780840" cy="576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560520" y="3286080"/>
            <a:ext cx="842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>
            <a:off x="87156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555300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8672400" y="306864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132192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285408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441288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597348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7533720" y="335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1"/>
          <p:cNvSpPr/>
          <p:nvPr/>
        </p:nvSpPr>
        <p:spPr>
          <a:xfrm>
            <a:off x="3224160" y="4076640"/>
            <a:ext cx="5897520" cy="289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2"/>
          <p:cNvSpPr/>
          <p:nvPr/>
        </p:nvSpPr>
        <p:spPr>
          <a:xfrm>
            <a:off x="8035920" y="4076640"/>
            <a:ext cx="1397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3"/>
          <p:cNvSpPr/>
          <p:nvPr/>
        </p:nvSpPr>
        <p:spPr>
          <a:xfrm>
            <a:off x="8035920" y="4365720"/>
            <a:ext cx="1397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3224160" y="4365720"/>
            <a:ext cx="6050160" cy="28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E Implementation Phase (1IP, 2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7"/>
          <p:cNvSpPr/>
          <p:nvPr/>
        </p:nvSpPr>
        <p:spPr>
          <a:xfrm>
            <a:off x="561960" y="4797360"/>
            <a:ext cx="842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8"/>
          <p:cNvSpPr/>
          <p:nvPr/>
        </p:nvSpPr>
        <p:spPr>
          <a:xfrm>
            <a:off x="873000" y="457992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4"/>
          <p:cNvSpPr/>
          <p:nvPr/>
        </p:nvSpPr>
        <p:spPr>
          <a:xfrm>
            <a:off x="13237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5"/>
          <p:cNvSpPr/>
          <p:nvPr/>
        </p:nvSpPr>
        <p:spPr>
          <a:xfrm>
            <a:off x="2855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44143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7"/>
          <p:cNvSpPr/>
          <p:nvPr/>
        </p:nvSpPr>
        <p:spPr>
          <a:xfrm>
            <a:off x="59749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7535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344520" y="4076280"/>
            <a:ext cx="2879280" cy="576720"/>
            <a:chOff x="344520" y="4076280"/>
            <a:chExt cx="2879280" cy="576720"/>
          </a:xfrm>
        </p:grpSpPr>
        <p:grpSp>
          <p:nvGrpSpPr>
            <p:cNvPr id="210" name="Group 60"/>
            <p:cNvGrpSpPr/>
            <p:nvPr/>
          </p:nvGrpSpPr>
          <p:grpSpPr>
            <a:xfrm>
              <a:off x="414720" y="4076280"/>
              <a:ext cx="2809080" cy="576360"/>
              <a:chOff x="414720" y="4076280"/>
              <a:chExt cx="2809080" cy="576360"/>
            </a:xfrm>
          </p:grpSpPr>
          <p:sp>
            <p:nvSpPr>
              <p:cNvPr id="211" name="Rectangle 61"/>
              <p:cNvSpPr/>
              <p:nvPr/>
            </p:nvSpPr>
            <p:spPr>
              <a:xfrm rot="10800000">
                <a:off x="555480" y="4076280"/>
                <a:ext cx="2668320" cy="576360"/>
              </a:xfrm>
              <a:prstGeom prst="rect">
                <a:avLst/>
              </a:prstGeom>
              <a:solidFill>
                <a:srgbClr val="0093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62"/>
              <p:cNvSpPr/>
              <p:nvPr/>
            </p:nvSpPr>
            <p:spPr>
              <a:xfrm flipH="1">
                <a:off x="414720" y="4652640"/>
                <a:ext cx="631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63"/>
              <p:cNvSpPr/>
              <p:nvPr/>
            </p:nvSpPr>
            <p:spPr>
              <a:xfrm flipH="1">
                <a:off x="414720" y="4076280"/>
                <a:ext cx="631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AutoShape 64"/>
            <p:cNvSpPr/>
            <p:nvPr/>
          </p:nvSpPr>
          <p:spPr>
            <a:xfrm rot="5400000">
              <a:off x="407520" y="4013280"/>
              <a:ext cx="576360" cy="7030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91080 h 703080"/>
                <a:gd name="textAreaBottom" fmla="*/ 612000 h 70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93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65"/>
          <p:cNvSpPr/>
          <p:nvPr/>
        </p:nvSpPr>
        <p:spPr>
          <a:xfrm>
            <a:off x="415800" y="422100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7" descr="IMG_1672"/>
          <p:cNvPicPr/>
          <p:nvPr/>
        </p:nvPicPr>
        <p:blipFill>
          <a:blip r:embed="rId1"/>
          <a:stretch/>
        </p:blipFill>
        <p:spPr>
          <a:xfrm>
            <a:off x="5168880" y="1268280"/>
            <a:ext cx="1655640" cy="1057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2" descr="prace_kick_off_031"/>
          <p:cNvPicPr/>
          <p:nvPr/>
        </p:nvPicPr>
        <p:blipFill>
          <a:blip r:embed="rId2"/>
          <a:stretch/>
        </p:blipFill>
        <p:spPr>
          <a:xfrm>
            <a:off x="7099200" y="1255680"/>
            <a:ext cx="1800360" cy="11653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9"/>
          <p:cNvSpPr/>
          <p:nvPr/>
        </p:nvSpPr>
        <p:spPr>
          <a:xfrm>
            <a:off x="5529240" y="2565360"/>
            <a:ext cx="1584360" cy="576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0"/>
          <p:cNvSpPr/>
          <p:nvPr/>
        </p:nvSpPr>
        <p:spPr>
          <a:xfrm>
            <a:off x="5600880" y="267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E M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1"/>
          <p:cNvSpPr/>
          <p:nvPr/>
        </p:nvSpPr>
        <p:spPr>
          <a:xfrm>
            <a:off x="5961240" y="2349360"/>
            <a:ext cx="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3" descr="esfri-roadmap-report-26092006_en_Sivu_01"/>
          <p:cNvPicPr/>
          <p:nvPr/>
        </p:nvPicPr>
        <p:blipFill>
          <a:blip r:embed="rId3"/>
          <a:stretch/>
        </p:blipFill>
        <p:spPr>
          <a:xfrm>
            <a:off x="4235400" y="1268280"/>
            <a:ext cx="820800" cy="1071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5" descr="PRACE_Logo_pos_4c"/>
          <p:cNvPicPr/>
          <p:nvPr/>
        </p:nvPicPr>
        <p:blipFill>
          <a:blip r:embed="rId4"/>
          <a:stretch/>
        </p:blipFill>
        <p:spPr>
          <a:xfrm>
            <a:off x="2792520" y="5153040"/>
            <a:ext cx="1693800" cy="11556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7113600" y="2565360"/>
            <a:ext cx="1871640" cy="576360"/>
          </a:xfrm>
          <a:prstGeom prst="rect">
            <a:avLst/>
          </a:prstGeom>
          <a:solidFill>
            <a:srgbClr val="0093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9"/>
          <p:cNvSpPr/>
          <p:nvPr/>
        </p:nvSpPr>
        <p:spPr>
          <a:xfrm>
            <a:off x="128520" y="3860640"/>
            <a:ext cx="25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</a:rPr>
              <a:t>EU-Grant: INFSO-RI-211528, 10 Mio. 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2" descr="PRACE_map"/>
          <p:cNvPicPr/>
          <p:nvPr/>
        </p:nvPicPr>
        <p:blipFill>
          <a:blip r:embed="rId5"/>
          <a:stretch/>
        </p:blipFill>
        <p:spPr>
          <a:xfrm>
            <a:off x="200160" y="5381640"/>
            <a:ext cx="2089080" cy="14763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3"/>
          <p:cNvSpPr/>
          <p:nvPr/>
        </p:nvSpPr>
        <p:spPr>
          <a:xfrm>
            <a:off x="1930320" y="623412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4292"/>
                </a:solidFill>
                <a:latin typeface="Arial"/>
              </a:rPr>
              <a:t>PRACE (AISBL), a legal entity</a:t>
            </a:r>
            <a:br>
              <a:rPr sz="1800"/>
            </a:br>
            <a:r>
              <a:rPr b="1" lang="en-US" sz="1400" spc="-1" strike="noStrike">
                <a:solidFill>
                  <a:srgbClr val="024292"/>
                </a:solidFill>
                <a:latin typeface="Arial"/>
              </a:rPr>
              <a:t>with </a:t>
            </a:r>
            <a:r>
              <a:rPr b="1" lang="en-US" sz="1000" spc="-1" strike="noStrike">
                <a:solidFill>
                  <a:srgbClr val="024292"/>
                </a:solidFill>
                <a:latin typeface="Arial"/>
              </a:rPr>
              <a:t>(current)</a:t>
            </a:r>
            <a:r>
              <a:rPr b="1" lang="en-US" sz="1200" spc="-1" strike="noStrike">
                <a:solidFill>
                  <a:srgbClr val="024292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24292"/>
                </a:solidFill>
                <a:latin typeface="Arial"/>
              </a:rPr>
              <a:t>seat location in Bru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4"/>
          <p:cNvSpPr/>
          <p:nvPr/>
        </p:nvSpPr>
        <p:spPr>
          <a:xfrm rot="16200000">
            <a:off x="9060840" y="4218840"/>
            <a:ext cx="287280" cy="581040"/>
          </a:xfrm>
          <a:custGeom>
            <a:avLst/>
            <a:gdLst>
              <a:gd name="textAreaLeft" fmla="*/ 0 w 287280"/>
              <a:gd name="textAreaRight" fmla="*/ 287640 w 287280"/>
              <a:gd name="textAreaTop" fmla="*/ 75240 h 581040"/>
              <a:gd name="textAreaBottom" fmla="*/ 505800 h 581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9"/>
          <p:cNvSpPr/>
          <p:nvPr/>
        </p:nvSpPr>
        <p:spPr>
          <a:xfrm>
            <a:off x="3224160" y="4653000"/>
            <a:ext cx="43344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2" descr=""/>
          <p:cNvPicPr/>
          <p:nvPr/>
        </p:nvPicPr>
        <p:blipFill>
          <a:blip r:embed="rId6"/>
          <a:stretch/>
        </p:blipFill>
        <p:spPr>
          <a:xfrm>
            <a:off x="5384880" y="5311800"/>
            <a:ext cx="3889440" cy="14302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3"/>
          <p:cNvSpPr/>
          <p:nvPr/>
        </p:nvSpPr>
        <p:spPr>
          <a:xfrm rot="21120000">
            <a:off x="5386320" y="60069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de-DE" sz="1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4"/>
          <p:cNvSpPr/>
          <p:nvPr/>
        </p:nvSpPr>
        <p:spPr>
          <a:xfrm rot="21129000">
            <a:off x="6176880" y="589104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June 9</a:t>
            </a:r>
            <a:r>
              <a:rPr b="1" lang="de-DE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5"/>
          <p:cNvSpPr/>
          <p:nvPr/>
        </p:nvSpPr>
        <p:spPr>
          <a:xfrm>
            <a:off x="2820960" y="44370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23.4.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liennummernplatzhalter 65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60B3-63AF-4807-9D6E-73B5D83769D2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liennummernplatzhalter 3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47D4-D152-4475-93C4-AEFE937114CD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1294920"/>
            <a:ext cx="79246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7cbb"/>
                </a:solidFill>
                <a:latin typeface="Arial"/>
              </a:rPr>
              <a:t>PRACE Research Infrastructure Created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88520" y="2133720"/>
            <a:ext cx="790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ment of the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ACE AISBL created with seat in Brussels in April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BE" sz="1900" spc="-1" strike="noStrike">
                <a:solidFill>
                  <a:srgbClr val="000000"/>
                </a:solidFill>
                <a:latin typeface="Arial"/>
              </a:rPr>
              <a:t>Association Internationale Sans But Lucratif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0 members representing 20 European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auguration in Barcelona on June 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 secured for 2010 -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400 Million € from France, Germany, Italy, Spain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ovided as Tier-0 services on TCO ba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70+ Million € from EC FP7 for preparatory and implementation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Grants INFSO-RI-211528 and 261557 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mplemented by ~ 60 Million € from PRACE memb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PRACE-Inauguration-2-2010-06-09"/>
          <p:cNvPicPr/>
          <p:nvPr/>
        </p:nvPicPr>
        <p:blipFill>
          <a:blip r:embed="rId1"/>
          <a:stretch/>
        </p:blipFill>
        <p:spPr>
          <a:xfrm>
            <a:off x="8193240" y="4221000"/>
            <a:ext cx="1680840" cy="2521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PRACE-Inauguration-3-2010-06-09"/>
          <p:cNvPicPr/>
          <p:nvPr/>
        </p:nvPicPr>
        <p:blipFill>
          <a:blip r:embed="rId2"/>
          <a:stretch/>
        </p:blipFill>
        <p:spPr>
          <a:xfrm>
            <a:off x="7183440" y="1989000"/>
            <a:ext cx="2665440" cy="1778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Österreich mit Wappen Flagge / Fahne 90cmx150c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288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Bulgarien Flagge / Fahne 90cmx150c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6280" y="3859200"/>
            <a:ext cx="390240" cy="289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Finnland Flagge / Fahne 45cmx30cm &lt;br&gt;(12 Stück)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2076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Frankreich Flagge / Fahne 45cmx30cm&lt;br&gt; (12 Stück)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1288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Deutschland Dienstflagge Fahne / Flagge 90cmx6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7008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Griechenland Flagge / Fahne 90cmx150cm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644920" y="3859200"/>
            <a:ext cx="390240" cy="289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Irland Flagge / Fahne 90cmx150cm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119400" y="385920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Italien Flagge / Fahne 45cmx30cm &lt;br&gt;(12 Stück)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594240" y="3859200"/>
            <a:ext cx="390240" cy="28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Polen Flagge / Fahne 90cmx150cm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067280" y="385920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Portugal Flagge / Fahne 45cmx30cm&lt;br&gt; (12 Stück)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541760" y="3859200"/>
            <a:ext cx="38916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Serbien u.  Montenegro / Jugoslawien  Flagge / Fahne 90cmx150cm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016600" y="385920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Spanien Flagge / Fahne 45cmx30cm&lt;br&gt; mit Emblem (12 Stück)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491080" y="3859200"/>
            <a:ext cx="389160" cy="289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Schweiz Flagge / Fahne 150cmx250cm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5965920" y="385920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Niederlande Flagge / Fahne 150cmx250cm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6440400" y="3859200"/>
            <a:ext cx="38916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Türkei Flagge / Fahne 45cmx30cm&lt;br&gt; (12 Stück)"/>
          <p:cNvPicPr/>
          <p:nvPr/>
        </p:nvPicPr>
        <p:blipFill>
          <a:blip r:embed="rId31"/>
          <a:stretch/>
        </p:blipFill>
        <p:spPr>
          <a:xfrm>
            <a:off x="6915240" y="385920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" descr="Großbritannien Flagge / Fahne 45cmx30cm&lt;br&gt; (12 Stück)"/>
          <p:cNvPicPr/>
          <p:nvPr/>
        </p:nvPicPr>
        <p:blipFill>
          <a:blip r:embed="rId32"/>
          <a:stretch/>
        </p:blipFill>
        <p:spPr>
          <a:xfrm>
            <a:off x="7389720" y="3859200"/>
            <a:ext cx="389160" cy="289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2" descr="Bulgarien Flagge / Fahne 90cmx150cm"/>
          <p:cNvPicPr/>
          <p:nvPr/>
        </p:nvPicPr>
        <p:blipFill>
          <a:blip r:embed="rId33"/>
          <a:stretch/>
        </p:blipFill>
        <p:spPr>
          <a:xfrm>
            <a:off x="7834320" y="3860640"/>
            <a:ext cx="388800" cy="289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3" descr="Zypern Flagge / Fahne 90cmx150cm"/>
          <p:cNvPicPr/>
          <p:nvPr/>
        </p:nvPicPr>
        <p:blipFill>
          <a:blip r:embed="rId34"/>
          <a:stretch/>
        </p:blipFill>
        <p:spPr>
          <a:xfrm>
            <a:off x="8326440" y="386064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4" descr="Tschechien Flagge / Fahne 90cmx150cm"/>
          <p:cNvPicPr/>
          <p:nvPr/>
        </p:nvPicPr>
        <p:blipFill>
          <a:blip r:embed="rId35"/>
          <a:stretch/>
        </p:blipFill>
        <p:spPr>
          <a:xfrm>
            <a:off x="8820000" y="3860640"/>
            <a:ext cx="390600" cy="289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5" descr="Schweden Flagge / Fahne 45cmx30cm&lt;br&gt; (12 Stück)"/>
          <p:cNvPicPr/>
          <p:nvPr/>
        </p:nvPicPr>
        <p:blipFill>
          <a:blip r:embed="rId36"/>
          <a:stretch/>
        </p:blipFill>
        <p:spPr>
          <a:xfrm>
            <a:off x="9315360" y="3860640"/>
            <a:ext cx="3906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23800" y="2071440"/>
            <a:ext cx="93823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inding commit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Germany, France, Italy, Sp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0 Mio € over 5 years in terms of cyc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ibution accounted as T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strictly b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er revi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Europea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33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ly access call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a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33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of provision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8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4388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st / evaluation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4388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ject access – for a specific project, grant period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~ 1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1440" indent="-438840">
              <a:lnSpc>
                <a:spcPts val="3399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gramme access – resources managed by a commun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ts val="3399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ree-of-char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European scientific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liennummernplatzhalter 7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DC70-17BE-4CA1-A195-CF0EE8B1FAF4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60160" y="1267920"/>
            <a:ext cx="9072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Provision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acity </a:t>
            </a: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ccess</a:t>
            </a: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9280" y="2133360"/>
            <a:ext cx="8734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E goes for a set of machines with successively increas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F (2010) + 1.5 PF (2011) + 2 PF (2012) + 3 PF (2012) + 5 PF (2013)  and will ad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pgrad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ed capability of more th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 P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E will Inclu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er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tes (continuing DEI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E will provide support competence centre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v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liennummernplatzhalter 9"/>
          <p:cNvSpPr/>
          <p:nvPr/>
        </p:nvSpPr>
        <p:spPr>
          <a:xfrm>
            <a:off x="7466040" y="65246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0035-EA61-4D99-A1A6-90B383FD1528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0560" y="1294920"/>
            <a:ext cx="792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Provision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ability </a:t>
            </a:r>
            <a:r>
              <a:rPr b="0" lang="en-US" sz="2800" spc="-1" strike="noStrike">
                <a:solidFill>
                  <a:srgbClr val="367cbb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Support</a:t>
            </a:r>
            <a:endParaRPr b="0" lang="en-US" sz="2800" spc="-1" strike="noStrike">
              <a:solidFill>
                <a:srgbClr val="367c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ules Wolfrat</cp:lastModifiedBy>
  <dcterms:modified xsi:type="dcterms:W3CDTF">2011-05-11T12:38:15Z</dcterms:modified>
  <cp:revision>222</cp:revision>
  <dc:subject/>
  <dc:title>PowerPoint Presentation</dc:title>
</cp:coreProperties>
</file>