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5CD9-2A91-4DA3-B047-DEB3D68A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92A0-B9B6-4013-BC0D-C3F1E837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2420-15C8-4264-912D-599914E57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96A2-14CE-4749-814E-4C02FE09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FFF9-6ABF-4922-92CF-146A15DB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8332-2B3F-4361-AE1E-54542AB0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A3D9-586B-494A-B512-975F4B05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EA50-61FC-4F9F-B6E7-8451829D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25F6-852F-4D1F-92E4-E97C4AD9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5261-E93E-47D1-8F76-1DB3B2C3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1493-2A18-4E65-9948-B65DFF98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CC87-FE95-4D77-8F11-B179072B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DAFC-031E-44DF-B830-8F6B53592D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 4" descr="untitled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7760" y="358560"/>
            <a:ext cx="6019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1" lang="lv-LV" sz="3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lv-LV" sz="3600" spc="-1" strike="noStrike">
                <a:solidFill>
                  <a:srgbClr val="000000"/>
                </a:solidFill>
                <a:latin typeface="Calibri"/>
              </a:rPr>
              <a:t> EUGridPMA mee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200400" y="175212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98989"/>
                </a:solidFill>
                <a:latin typeface="Calibri"/>
              </a:rPr>
              <a:t>26 - 28  September,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98989"/>
                </a:solidFill>
                <a:latin typeface="Calibri"/>
              </a:rPr>
              <a:t>Marrakech, Moroc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 3" descr="zzzz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295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Basic inf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Marrake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 City, old fortifi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ty 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edin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+ an adjacent moder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ty 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Gueliz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Climate in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September</a:t>
            </a: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verage high °C (°F)  32 (9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verage low °C (°F)  18 (6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cipitation mm (inches) 0 (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ational currency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Dirham(MAD)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, 1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ro ~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11 M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5334120" y="3257640"/>
            <a:ext cx="3809880" cy="3600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ableau 5" descr=""/>
          <p:cNvPicPr/>
          <p:nvPr/>
        </p:nvPicPr>
        <p:blipFill>
          <a:blip r:embed="rId1"/>
          <a:stretch/>
        </p:blipFill>
        <p:spPr>
          <a:xfrm>
            <a:off x="615960" y="1932120"/>
            <a:ext cx="7991640" cy="4432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609480" y="507960"/>
            <a:ext cx="7848720" cy="13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isa arrangement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untries whose nationals are exempt from the visa requirement for entry into Moroc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lights to Marrakec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Direct Flights from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Belgium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:  Brussels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oyal Air Maroc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ranc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: Paris, Lyon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oyal Air Maroc + EasyJet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 + Bordeau, Marseille, Nantes, Nice, Toulouse 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oyal Air Maroc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aly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 Milan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EasyJet, Royal Air Maroc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  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pain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  Madrid , Barcelona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oyal Air Maroc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witzerlan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 Geneva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oyal Air Maroc  + EasyJet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K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 London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oyal Air Maroc + EasyJet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 + Manchester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EasyJet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-de-f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: Basel-Mulhouse-Freiburg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EasyJe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Flights via Casablanc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ll other countrie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9:42:22Z</dcterms:created>
  <dc:creator>Owner</dc:creator>
  <dc:description/>
  <dc:language>en-US</dc:language>
  <cp:lastModifiedBy>Owner</cp:lastModifiedBy>
  <dcterms:modified xsi:type="dcterms:W3CDTF">2011-01-24T13:16:52Z</dcterms:modified>
  <cp:revision>32</cp:revision>
  <dc:subject/>
  <dc:title>21 EUGridPMA meeting, Marrakech, Morocco 16-18 or 23-25  January, 2012 </dc:title>
</cp:coreProperties>
</file>