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22F-04C1-40BD-9D94-D6D90D8E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0CF-E25C-43B4-B64A-9C21E5F0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F752-AEB5-4ACB-9F3F-04236AC0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140-EE29-4219-9C83-16165D54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884-579F-413D-ADAA-E5A84BAD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562D-6C27-4402-8110-EE5B4222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E4F6-8D2A-4999-A85D-FCE640C2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EDE8-6FAE-4B29-8F71-464E0D30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66E0-D1F2-49E2-9B65-DA3B9457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0691-F83C-437F-8049-1ED5632E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084-5C61-4F80-9840-AAA0F798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B594-64C2-4129-B913-68EDC55D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D617-E9D4-4437-8ED7-3535C824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D407-A14E-45E2-8ADE-93A0FE6E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6B36-2249-4535-B704-60735C20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3EBE-94FA-491B-8525-7F367509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9F0B-F90B-4564-8901-1AA6874E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7024-E037-45D0-B16D-835A18FF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1EF8C-9C99-4C4C-AD86-A3ACACFF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1B1E8-47BF-4F3C-8C4E-F180BF6A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7876-B485-435E-A97C-3399A36B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FC1E-7D76-44DB-A083-408E452F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7DEC0-38FF-4E1B-ABD1-D3D4E5FD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966B8-3655-480C-90BA-1BD9771D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34124-D56E-456A-AAF9-14EFF469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AE843-6ED4-4EF8-B446-25A16FFA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A1271-FE84-493D-8034-7B2F2F00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83408-D0F7-4E0C-AC6D-8A0418BB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AD8FB-6D3F-4DF7-B64E-CE549712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107EE-7C3E-443C-853F-54C28AF9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05A12-4675-481B-9F86-B9311663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8711C-295F-4A5B-BB1F-F3E0549A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0C9-2BE7-493D-959A-F97098C3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171E3-B121-46EC-BE77-2EB37612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8E647-CEAE-4BF1-A50A-895E1CCB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F8328-340B-405E-A193-F0DE56FB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A55D2-91D9-40E8-BDDD-6560721E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761DD-E225-4F41-89C5-A1F6FFFF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77719-2C30-4BE5-ACA3-AB5053B4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3B062-FFE2-4DF7-B06F-0066D9C7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4DE0E-74ED-4B4D-95EC-DC9FFA61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45D06-0F4C-46F9-92D6-2CE49B16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2E166-A11F-4645-AC1B-1041B8E0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62E-DCAA-46CC-99A1-E14E2DFD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D211F-4BDC-4013-A218-5D6798B0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ADC-05FB-4F59-953C-4EEB059C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79D-EB24-4AE2-88C6-6A0642FD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CE5-688F-43EC-AC58-8AB6FE7E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96200"/>
            <a:ext cx="11048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571760" y="6481800"/>
            <a:ext cx="661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191440" y="6479640"/>
            <a:ext cx="495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EC8D-AECF-4E6D-A747-731A3B437B11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C:\Dokumente und Einstellungen\nl\Eigene Dateien\Aufträge 2009-JSC\EMI-PPT-Template\hintergrund.jpg"/>
          <p:cNvPicPr/>
          <p:nvPr/>
        </p:nvPicPr>
        <p:blipFill>
          <a:blip r:embed="rId2"/>
          <a:stretch/>
        </p:blipFill>
        <p:spPr>
          <a:xfrm>
            <a:off x="0" y="-19080"/>
            <a:ext cx="9163080" cy="68770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6"/>
          <p:cNvSpPr/>
          <p:nvPr/>
        </p:nvSpPr>
        <p:spPr>
          <a:xfrm>
            <a:off x="571680" y="407880"/>
            <a:ext cx="8001000" cy="6021360"/>
          </a:xfrm>
          <a:prstGeom prst="rect">
            <a:avLst/>
          </a:prstGeom>
          <a:solidFill>
            <a:srgbClr val="ffffff">
              <a:alpha val="7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2703600" y="700200"/>
            <a:ext cx="3843360" cy="16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C:\Dokumente und Einstellungen\nl\Eigene Dateien\Aufträge 2009-JSC\EMI-PPT-Template\streifen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77D5-9825-4C13-A4EA-0D4731603497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kumente und Einstellungen\nl\Eigene Dateien\Aufträge 2009-JSC\EMI-PPT-Template\streifen_50.png"/>
          <p:cNvPicPr/>
          <p:nvPr/>
        </p:nvPicPr>
        <p:blipFill>
          <a:blip r:embed="rId2"/>
          <a:stretch/>
        </p:blipFill>
        <p:spPr>
          <a:xfrm>
            <a:off x="0" y="0"/>
            <a:ext cx="6764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 rot="10800000">
            <a:off x="75960" y="4392720"/>
            <a:ext cx="3697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fbfbf"/>
                </a:solidFill>
                <a:latin typeface="Calibri"/>
              </a:rPr>
              <a:t>EMI INFSO-RI-2616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C:\Dokumente und Einstellungen\nl\Eigene Dateien\Aufträge 2009-JSC\EMI-PPT-Template\EMI_Logo_newest.png"/>
          <p:cNvPicPr/>
          <p:nvPr/>
        </p:nvPicPr>
        <p:blipFill>
          <a:blip r:embed="rId3"/>
          <a:stretch/>
        </p:blipFill>
        <p:spPr>
          <a:xfrm>
            <a:off x="7229520" y="49320"/>
            <a:ext cx="1914480" cy="803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F0A5-AF28-485B-A99D-93BA09BA1290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le 13"/>
          <p:cNvSpPr/>
          <p:nvPr/>
        </p:nvSpPr>
        <p:spPr>
          <a:xfrm>
            <a:off x="506520" y="484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</a:rPr>
              <a:t>EMI is partially funded by the European Commission under Grant Agreement RI-261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C:\Dokumente und Einstellungen\nl\Eigene Dateien\Aufträge 2009-JSC\EMI-PPT-Template\EMI_Logo_newest.png"/>
          <p:cNvPicPr/>
          <p:nvPr/>
        </p:nvPicPr>
        <p:blipFill>
          <a:blip r:embed="rId2"/>
          <a:stretch/>
        </p:blipFill>
        <p:spPr>
          <a:xfrm>
            <a:off x="1527120" y="1216080"/>
            <a:ext cx="6094440" cy="2558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723600" y="6468840"/>
            <a:ext cx="110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Times New Roman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8191440" y="6486120"/>
            <a:ext cx="495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9730-97B2-4085-86F2-82FDF43DFD0A}" type="slidenum">
              <a:rPr b="0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94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1946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194694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witch.ch/grid/support/documents/" TargetMode="External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9600" y="2712960"/>
            <a:ext cx="7999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AAI WG</a:t>
            </a:r>
            <a:br>
              <a:rPr sz="4400"/>
            </a:br>
            <a:r>
              <a:rPr b="1" lang="en-GB" sz="4400" spc="-1" strike="noStrike">
                <a:solidFill>
                  <a:srgbClr val="194694"/>
                </a:solidFill>
                <a:latin typeface="Arial"/>
                <a:ea typeface="Arial"/>
              </a:rPr>
              <a:t>EM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240" y="4462560"/>
            <a:ext cx="642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Christoph Witzig 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94694"/>
                </a:solidFill>
                <a:latin typeface="Calibri"/>
              </a:rPr>
              <a:t>on behalf of EMI AAI WG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 Case 3: AAI-enabled portals for displaying and accessing Grid information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33120" y="184320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Any portal can easily be accessed through AAI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Low priority </a:t>
            </a:r>
            <a:r>
              <a:rPr b="0" lang="en-US" sz="2800" spc="-1" strike="noStrike">
                <a:solidFill>
                  <a:srgbClr val="01092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typical Grid administrator already has X.509 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2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1989-E1A5-427B-BEAB-15176E86FF63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 Case 4 : Security Token Service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33120" y="135108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A service obtains a security token and needs to convert it into another security token in order to access another service (e.g. Grid service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Example: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Incoming token: SAML, kerbero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Outgoing token: X.509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Note: very general use-cas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57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91B9-4D00-4DBF-B15B-131A45CB67A0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952200" y="363600"/>
            <a:ext cx="64292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 Case 5: Use of AAI attributes in Grid services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33120" y="144144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Today: attributes are issued by VOM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Tomorrow: non-VO attributes can be issued by AAI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Attributes in question are few, simple but possibly very important, such a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Employing institutio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Afflilation (student, professor, ...)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Study branch (biology, physics 5th semester)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Question: What requirements should be put on AA? 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E3C7-2439-4CBB-BE42-68D15B770978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 Case 6: VO Registration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33120" y="144144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Identity vetting based on AAI in registration proces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Possibly involving AAI attribute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Low priority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established mechanism exist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Interesting if other communities bring large number of user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67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7517-C998-4B8C-A733-D29D0F2BEAFF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-cases: Summary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173240" y="1814400"/>
          <a:ext cx="7480080" cy="3942000"/>
        </p:xfrm>
        <a:graphic>
          <a:graphicData uri="http://schemas.openxmlformats.org/drawingml/2006/table">
            <a:tbl>
              <a:tblPr/>
              <a:tblGrid>
                <a:gridCol w="695160"/>
                <a:gridCol w="3465720"/>
                <a:gridCol w="3319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se-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509 issuance based on A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„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ved“ (but needs improvement!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I-enabled por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utions ex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L delegation n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I-enabled Grid info por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, general purpose service, high 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of AAI attributes in 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esting, potentially very impor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 reg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72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67C7-289F-4D23-B59B-5046D7F73F70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Security Token Service: Functionality </a:t>
            </a:r>
            <a:r>
              <a:rPr b="1" lang="de-CH" sz="1500" spc="-1" strike="noStrike">
                <a:solidFill>
                  <a:srgbClr val="194694"/>
                </a:solidFill>
                <a:latin typeface="Calibri"/>
              </a:rPr>
              <a:t>(1/2)</a:t>
            </a:r>
            <a:endParaRPr b="0" lang="en-US" sz="15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33120" y="1170000"/>
            <a:ext cx="748044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uthenticates and authorizes users based on security token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Transforms a security token (the claim) into another security token suitable for the requested servic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Username token into SAML toke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SAML token into X.509 toke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Aggregates required information from external Attribute Authoritie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stablishes a trust relation between different application domain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920"/>
                </a:solidFill>
                <a:latin typeface="Calibri"/>
              </a:rPr>
              <a:t>Shibboleth domain vs Grid domai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77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CBA3-5881-4215-AFEB-B73B4AE79106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Security Token Service: Functionality </a:t>
            </a:r>
            <a:r>
              <a:rPr b="1" lang="de-CH" sz="1500" spc="-1" strike="noStrike">
                <a:solidFill>
                  <a:srgbClr val="194694"/>
                </a:solidFill>
                <a:latin typeface="Calibri"/>
              </a:rPr>
              <a:t>(2/2)</a:t>
            </a:r>
            <a:endParaRPr b="0" lang="en-US" sz="15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33120" y="144144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Web Service (SOAP) based protocol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WS-Trust profil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Version 0 (dated Jan 2008!)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witch.ch/grid/support/documents/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Basic Operations: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Request toke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Renew toke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Cancel toke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10920"/>
                </a:solidFill>
                <a:latin typeface="Calibri"/>
              </a:rPr>
              <a:t>Validate token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Easy expansion to handle new token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Prospect: Integrated with Shibboleth IdP 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82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0383-767E-45C6-9C79-6565D90B5EBD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Security Token Service: Architecture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33120" y="135252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Profile Handler implements WS-Trust profil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Token Authority manages security token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Resolver retrieves information, attributes from external authorities (LDAP, Online CA, VOMS, ...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87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02E4-A4DE-4235-887A-14002B9B9F4E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sts_architecture.png"/>
          <p:cNvPicPr/>
          <p:nvPr/>
        </p:nvPicPr>
        <p:blipFill>
          <a:blip r:embed="rId1"/>
          <a:stretch/>
        </p:blipFill>
        <p:spPr>
          <a:xfrm>
            <a:off x="1332000" y="3417840"/>
            <a:ext cx="6645240" cy="3279960"/>
          </a:xfrm>
          <a:prstGeom prst="rect">
            <a:avLst/>
          </a:prstGeom>
          <a:ln w="0">
            <a:noFill/>
          </a:ln>
        </p:spPr>
      </p:pic>
      <p:sp>
        <p:nvSpPr>
          <p:cNvPr id="291" name="TextBox 7"/>
          <p:cNvSpPr/>
          <p:nvPr/>
        </p:nvSpPr>
        <p:spPr>
          <a:xfrm>
            <a:off x="3648960" y="610380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Note: Prospect of building on Shibboleth  (IdP v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umsplatzhalt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ußzeilenplatzhalt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liennummernplatzhalt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EB06-8775-4346-93D8-3E5996D730A2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403280" y="2924280"/>
            <a:ext cx="6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12720" y="147240"/>
            <a:ext cx="6702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4694"/>
                </a:solidFill>
                <a:latin typeface="Calibri"/>
              </a:rPr>
              <a:t>Trust Model: X.509 to SAML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12360" y="3360240"/>
            <a:ext cx="8139240" cy="30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X.509 Valida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rvice A and STS validate the X.509 token (X.509 trust based on the IGTF trust anchors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SAML Valida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rvice B must validate and trust the SAML token issued by the STS (SAML Trust Domain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pic>
        <p:nvPicPr>
          <p:cNvPr id="298" name="Picture 8" descr="STS-X509_SAML_Trust.png"/>
          <p:cNvPicPr/>
          <p:nvPr/>
        </p:nvPicPr>
        <p:blipFill>
          <a:blip r:embed="rId1"/>
          <a:stretch/>
        </p:blipFill>
        <p:spPr>
          <a:xfrm>
            <a:off x="3684600" y="0"/>
            <a:ext cx="5459400" cy="4316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Franz Kafka.jpg"/>
          <p:cNvPicPr/>
          <p:nvPr/>
        </p:nvPicPr>
        <p:blipFill>
          <a:blip r:embed="rId2"/>
          <a:stretch/>
        </p:blipFill>
        <p:spPr>
          <a:xfrm>
            <a:off x="2876400" y="2244600"/>
            <a:ext cx="84960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umsplatzhalt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ußzeilenplatzhalt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liennummernplatzhalt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DD29-F5DE-4C56-A66D-0C8102C6F8E2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1403280" y="2924280"/>
            <a:ext cx="6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12720" y="147240"/>
            <a:ext cx="6702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4694"/>
                </a:solidFill>
                <a:latin typeface="Calibri"/>
              </a:rPr>
              <a:t>Trust Model: SAML to X.509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12720" y="3360240"/>
            <a:ext cx="8531280" cy="30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SAML Valida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rvice A and STS must validate and trust the SAML token issued by an IdP/AA (SAML Trust Domain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4694"/>
                </a:solidFill>
                <a:latin typeface="Calibri"/>
              </a:rPr>
              <a:t>X.509 Validation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ervice B validates the X.509 token issued by the STS (based on the IGTF trust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pic>
        <p:nvPicPr>
          <p:cNvPr id="306" name="Picture 10" descr="STS-SAML_X509_Trust.png"/>
          <p:cNvPicPr/>
          <p:nvPr/>
        </p:nvPicPr>
        <p:blipFill>
          <a:blip r:embed="rId1"/>
          <a:stretch/>
        </p:blipFill>
        <p:spPr>
          <a:xfrm>
            <a:off x="4327560" y="874800"/>
            <a:ext cx="4157640" cy="27432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" descr="Martina_Navratilova.jpg"/>
          <p:cNvPicPr/>
          <p:nvPr/>
        </p:nvPicPr>
        <p:blipFill>
          <a:blip r:embed="rId2"/>
          <a:stretch/>
        </p:blipFill>
        <p:spPr>
          <a:xfrm>
            <a:off x="3395520" y="2498760"/>
            <a:ext cx="105588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Comments</a:t>
            </a: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33120" y="144144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Disclaimer:</a:t>
            </a:r>
            <a:br>
              <a:rPr sz="3200"/>
            </a:b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This is work in progress that has just started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We are aware that some of these issues have already been discussed within EuGridPMA 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1843-FCCB-4DBE-8465-A1AD2DC0AAE7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Datumsplatzhalt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31BF-9987-4AAC-9F56-48AA5DB55357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1403280" y="2924280"/>
            <a:ext cx="6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12720" y="147240"/>
            <a:ext cx="6702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4694"/>
                </a:solidFill>
                <a:latin typeface="Calibri"/>
              </a:rPr>
              <a:t>SAML Trust Model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57360" y="1044720"/>
            <a:ext cx="830232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AML Token Issuance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STS must be able to issue SAML token to another service (signed and encrypted?)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946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SAML Token Validation and Trust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Services must be able to validate and trust a SAML token issued by another service (STS, IdP, Attribute Authority, …)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4694"/>
                </a:solidFill>
                <a:latin typeface="Calibri"/>
              </a:rPr>
              <a:t>=&gt; SAML Trust Domain </a:t>
            </a:r>
            <a:r>
              <a:rPr b="0" lang="en-US" sz="2800" spc="-1" strike="noStrike">
                <a:solidFill>
                  <a:srgbClr val="194694"/>
                </a:solidFill>
                <a:latin typeface="Calibri"/>
              </a:rPr>
              <a:t>must be defined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9469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694"/>
                </a:solidFill>
                <a:latin typeface="Calibri"/>
              </a:rPr>
              <a:t>Using Metadata (Shibboleth)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194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Entity ID (uniquely identifies a SP, IdP, AA, …)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1946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4694"/>
                </a:solidFill>
                <a:latin typeface="Calibri"/>
              </a:rPr>
              <a:t>Key-Info (X.509 certificate for signature/encryption)</a:t>
            </a:r>
            <a:endParaRPr b="0" lang="en-US" sz="20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Issues / Questions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33120" y="132876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Handling trust between trust domain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Authentication assertion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Attributes handling (VOMS, IdP)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What requirements do you put on STS and other trust domain? </a:t>
            </a:r>
            <a:r>
              <a:rPr b="0" lang="en-US" sz="2400" spc="-1" strike="noStrike">
                <a:solidFill>
                  <a:srgbClr val="01092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 linking trust domain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Issuance of certificates – proxie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Interaction STS/IdP/VOMS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Private key handling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Attribute handling / attribute trust?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316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3E01-98E4-49D5-B1F8-797BBC31E874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4152600"/>
            <a:ext cx="91440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Date Placeholder 2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F18B-A9C6-421E-8C8E-EE3467DD14A6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Content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33120" y="1441440"/>
            <a:ext cx="748044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EMI AAI WG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Identified use-case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Security Token Service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Policy issue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14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6EE5-578A-4C52-A8C9-FD5CFF45DF03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933120" y="25200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EMI AAI WG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12960" y="1316160"/>
            <a:ext cx="748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EMI proposal mentions interoperability of EMI / Grid with AAIs, in particular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„</a:t>
            </a: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Easier“ credential handling for the user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Interoperability with Shibboleth and kerberos domains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Members from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CNAF, HIP, NKUOA, SWITCH, UWAR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572E-E374-418F-8243-25197801CE26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46000" y="243000"/>
            <a:ext cx="642960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Objectives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33120" y="1182600"/>
            <a:ext cx="748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109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Identify use-cases how EMI could support AAI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109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Support sub-set of identified use-cases within EMI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1092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Reachout to other parties involved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EuGridPMA </a:t>
            </a:r>
            <a:r>
              <a:rPr b="0" lang="en-US" sz="2800" spc="-1" strike="noStrike">
                <a:solidFill>
                  <a:srgbClr val="01092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 Trust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920"/>
                </a:solidFill>
                <a:latin typeface="Calibri"/>
              </a:rPr>
              <a:t>ESFRI, EGI, …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4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7AA5-A12E-4779-AEEB-EB3066673ADD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 Case 1: Obtaining a X.509 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Based on token from another domain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20520" y="1843200"/>
            <a:ext cx="748188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1a) short-lived credential </a:t>
            </a:r>
            <a:r>
              <a:rPr b="0" lang="en-US" sz="3200" spc="-1" strike="noStrike">
                <a:solidFill>
                  <a:srgbClr val="01092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 next slide</a:t>
            </a: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	</a:t>
            </a: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1b) long-lived credential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Well-known for EuGridPMA </a:t>
            </a:r>
            <a:br>
              <a:rPr sz="3200"/>
            </a:br>
            <a:r>
              <a:rPr b="0" lang="en-US" sz="3200" spc="-1" strike="noStrike">
                <a:solidFill>
                  <a:srgbClr val="01092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10920"/>
                </a:solidFill>
                <a:latin typeface="Calibri"/>
              </a:rPr>
              <a:t> SLCS, MICS profile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D995-1A6E-4F21-A981-174C920676F5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Content Placeholder 10" descr="slcs.png"/>
          <p:cNvPicPr/>
          <p:nvPr/>
        </p:nvPicPr>
        <p:blipFill>
          <a:blip r:embed="rId1"/>
          <a:srcRect l="-5858" t="0" r="-5858" b="0"/>
          <a:stretch/>
        </p:blipFill>
        <p:spPr>
          <a:xfrm>
            <a:off x="2614680" y="2416320"/>
            <a:ext cx="6038640" cy="40478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SLCS 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34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7038-C263-4B5A-BF70-24ACDBFE5FBF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Martina_Navratilova.jpg"/>
          <p:cNvPicPr/>
          <p:nvPr/>
        </p:nvPicPr>
        <p:blipFill>
          <a:blip r:embed="rId2"/>
          <a:stretch/>
        </p:blipFill>
        <p:spPr>
          <a:xfrm>
            <a:off x="1969920" y="4716360"/>
            <a:ext cx="1094040" cy="10940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8"/>
          <p:cNvSpPr/>
          <p:nvPr/>
        </p:nvSpPr>
        <p:spPr>
          <a:xfrm>
            <a:off x="1229760" y="1382760"/>
            <a:ext cx="45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lcs-init: command lin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User Agent handles WebSSO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933120" y="1879200"/>
            <a:ext cx="748044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9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10920"/>
                </a:solidFill>
                <a:latin typeface="Calibri"/>
              </a:rPr>
              <a:t>Portal obtains X.509 from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Certificate store (e.g. myproxy)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„</a:t>
            </a:r>
            <a:r>
              <a:rPr b="0" lang="de-CH" sz="2800" spc="-1" strike="noStrike">
                <a:solidFill>
                  <a:srgbClr val="010920"/>
                </a:solidFill>
                <a:latin typeface="Calibri"/>
              </a:rPr>
              <a:t>CA“</a:t>
            </a: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Note: CA has a very broad meaning here – not necessarily EUGridPMA CA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Based on portal request (portal acting on behalf of user)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10920"/>
                </a:solidFill>
                <a:latin typeface="Calibri"/>
              </a:rPr>
              <a:t>Based on SAML issued by IdP (delegation)</a:t>
            </a:r>
            <a:br>
              <a:rPr sz="2400"/>
            </a:br>
            <a:r>
              <a:rPr b="0" lang="en-US" sz="2400" spc="-1" strike="noStrike">
                <a:solidFill>
                  <a:srgbClr val="01092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 next slide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109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920"/>
                </a:solidFill>
                <a:latin typeface="Calibri"/>
              </a:rPr>
              <a:t>Note: New use-case, becoming available now</a:t>
            </a:r>
            <a:endParaRPr b="0" lang="en-US" sz="2400" spc="-1" strike="noStrike">
              <a:solidFill>
                <a:srgbClr val="19469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109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D931-2C3C-43F8-B709-A9E0C9BF032F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194694"/>
                </a:solidFill>
                <a:latin typeface="Calibri"/>
              </a:rPr>
              <a:t>Use Case 2: AAI-enabled portals to Grid infrastructures</a:t>
            </a:r>
            <a:endParaRPr b="0" lang="en-US" sz="3200" spc="-1" strike="noStrike">
              <a:solidFill>
                <a:srgbClr val="19469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52200" y="363240"/>
            <a:ext cx="64292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194694"/>
                </a:solidFill>
                <a:latin typeface="Calibri"/>
              </a:rPr>
              <a:t>Use Case 2: AAI-enabled portals</a:t>
            </a:r>
            <a:endParaRPr b="0" lang="en-US" sz="3000" spc="-1" strike="noStrike">
              <a:solidFill>
                <a:srgbClr val="194694"/>
              </a:solidFill>
              <a:latin typeface="Calibri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723960" y="6469200"/>
            <a:ext cx="11048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7f7f7f"/>
                </a:solidFill>
                <a:latin typeface="Arial"/>
              </a:rPr>
              <a:t>12/0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1819440" y="6481800"/>
            <a:ext cx="63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TS SAML Trust Domain, EUGridPMA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8191440" y="6486480"/>
            <a:ext cx="495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B97F-8108-43BF-BA4F-F1B392A61C98}" type="slidenum">
              <a:rPr b="0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Content Placeholder 9" descr="aai-portal.png"/>
          <p:cNvPicPr/>
          <p:nvPr/>
        </p:nvPicPr>
        <p:blipFill>
          <a:blip r:embed="rId1"/>
          <a:srcRect l="-14626" t="0" r="-14626" b="0"/>
          <a:stretch/>
        </p:blipFill>
        <p:spPr>
          <a:xfrm>
            <a:off x="1111320" y="1374840"/>
            <a:ext cx="7480080" cy="5014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Martina_Navratilova.jpg"/>
          <p:cNvPicPr/>
          <p:nvPr/>
        </p:nvPicPr>
        <p:blipFill>
          <a:blip r:embed="rId2"/>
          <a:stretch/>
        </p:blipFill>
        <p:spPr>
          <a:xfrm>
            <a:off x="1050840" y="3898800"/>
            <a:ext cx="110196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6:30:03Z</dcterms:created>
  <dc:creator>Valery Tschopp</dc:creator>
  <dc:description/>
  <dc:language>en-US</dc:language>
  <cp:lastModifiedBy>Christoph Witzig</cp:lastModifiedBy>
  <cp:lastPrinted>2011-05-09T11:05:15Z</cp:lastPrinted>
  <dcterms:modified xsi:type="dcterms:W3CDTF">2011-05-12T07:05:45Z</dcterms:modified>
  <cp:revision>93</cp:revision>
  <dc:subject/>
  <dc:title>STS Trust</dc:title>
</cp:coreProperties>
</file>