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D6B417D-AD5A-4A8A-870E-5D8DFF4E2F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8BC5AA6-CDDB-46DD-AF3E-C59C01C11D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0565407-31B5-46CC-90E9-9DDB284ADE0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C7EC8FBC-0824-4511-993F-74AE4A380D7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526C4F9-A8A6-442E-8A21-A956BA5E142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EAD0D56E-1344-42F2-B837-87B2493541C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C492EF6B-94DB-44E4-BFF5-DF1AE09B853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515538A-F7AB-42DA-BB12-A4253B94CAE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777D22A-58A1-407B-9A55-0C6EF9A03B6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B86A029B-741A-412B-BD92-8771608FC00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BEFB2AED-5553-4CCA-840E-DFB4E3889EF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92344AFF-EA1D-4F3A-B7CD-1742C03B4F7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1155EB3-E6B9-4D1E-9FAF-89A10AAD0DF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2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nd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May 11-13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Prague, Czech Republic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CESNET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Milan Sova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7" name="Picture 7" descr="H:\Home\davidg\Template\Logos\cesnet-logo.gif"/>
          <p:cNvPicPr/>
          <p:nvPr/>
        </p:nvPicPr>
        <p:blipFill>
          <a:blip r:embed="rId1"/>
          <a:stretch/>
        </p:blipFill>
        <p:spPr>
          <a:xfrm>
            <a:off x="636480" y="1517760"/>
            <a:ext cx="521820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Nuno Dias &amp; Jules Wolfrat for the January not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1-05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and highligh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353880" y="1170000"/>
            <a:ext cx="855360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814320" y="1324080"/>
            <a:ext cx="751536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812880" y="1230480"/>
            <a:ext cx="6162480" cy="23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dobe Connec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811080" y="1996920"/>
            <a:ext cx="7728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obe Connect document sharing will be used to collaborate on documents - especially during editing sessions and the AuthZ W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Verdana"/>
              </a:rPr>
              <a:t>https://webconf.vc.dfn.de/r17159825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provide your na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dobe Connect is provided by the DFN Vere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NC2011</a:t>
            </a:r>
            <a:br>
              <a:rPr sz="2400"/>
            </a:br>
            <a:r>
              <a:rPr b="0" i="1" lang="en-GB" sz="2400" spc="-1" strike="noStrike">
                <a:solidFill>
                  <a:srgbClr val="990000"/>
                </a:solidFill>
                <a:latin typeface="Lucida Sans"/>
              </a:rPr>
              <a:t>here</a:t>
            </a: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, 16-19 May 2011 (REFEDs on Sunda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AGPMA meeting &amp; OGF32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alt Lake City, UT, USA, ~ 14-19 Ju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3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Marrakech, MA, 12-14 September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 33 and EGI-TF11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yon, FR, 19-23 September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4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jubljana, January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5-09T20:05:00Z</dcterms:modified>
  <cp:revision>587</cp:revision>
  <dc:subject/>
  <dc:title>European Grid Policy Management Authority</dc:title>
</cp:coreProperties>
</file>