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138ABF8-110A-4044-8BF0-41975961D8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4ED8404-69F3-4D41-988A-01D24AD26D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EF32B81-7B7D-4F78-9004-BEF40EB09DA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C66D23F-1CC1-43AB-A4A1-B2888DEFE86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66921A0-0E18-47A2-892A-4072CD90A81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1E822C6-AAA7-4069-AF11-D2149F1A6D0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428818B-1F49-4CEA-B414-9C9DFFDF964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012B684D-CFF2-4B70-B8BE-4C44B7F99A8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169718D-0B34-457E-BF09-D0153F6DC69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C091936-1936-4FC5-ACE7-F542EDEFC5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CC7AF91-7433-459D-8CA8-A89736DDDCE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C1FAFBC-E9C0-475A-8900-D08C3048C8E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ECB6975-3978-4725-86EB-BAE3F15C0FB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Large-scale issuing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of host certs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in a member-integrated or institutional CA environment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itial use ca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entrally managed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arge data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xample: CERN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&gt;&gt; 10 000 syst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nstitutional propert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operating (as an EIRO) an institutionally-embedded CA</a:t>
            </a:r>
            <a:br>
              <a:rPr sz="2000"/>
            </a:b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but could also be an automated RA for an external CA 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naged hosts in physically controlled environm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fully centralised configuration management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Aim: provision host certs in a scalable and secure w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5114880" y="1290600"/>
            <a:ext cx="380052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implified request fl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9" name="Picture 2" descr="H:\Home\davidg\EUGridPMA\Meetings\2011-09-Marrakesh\CERN-host-cert-usecase.gif"/>
          <p:cNvPicPr/>
          <p:nvPr/>
        </p:nvPicPr>
        <p:blipFill>
          <a:blip r:embed="rId1"/>
          <a:stretch/>
        </p:blipFill>
        <p:spPr>
          <a:xfrm>
            <a:off x="1100160" y="1415880"/>
            <a:ext cx="761508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Workfl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New servers that are put into production in the CERN Computer Center will communicate with the Configuration Manager Servers and will signal that they require a host certificate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After the validation of the requester Configuration Manager Servers  will be able to request host certificates of the new template on behalf of the servers from step 1.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Only those Configuration Manager Server possessing a valid Robot certificate will be able to do that. Robot certificates will be installed on them manually and following the standard through-the-website procedure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e requests from step 2 will be securely sent to CERN CA using a special web service (not a website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e reply from CERN CA will be sent to the Server from step 1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Obvious pros and c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With O(1000) requests, humans cannot accurately check them all for correctness: </a:t>
            </a:r>
            <a:br>
              <a:rPr sz="2400"/>
            </a:b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automated process reduces number of erro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66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Close integration with CA request process reduces number of points between admin </a:t>
            </a:r>
            <a:r>
              <a:rPr b="0" lang="en-GB" sz="1800" spc="-1" strike="noStrike">
                <a:solidFill>
                  <a:srgbClr val="00664d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664d"/>
                </a:solidFill>
                <a:latin typeface="Lucida Sans"/>
              </a:rPr>
              <a:t> </a:t>
            </a: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RA </a:t>
            </a:r>
            <a:r>
              <a:rPr b="0" lang="en-GB" sz="1800" spc="-1" strike="noStrike">
                <a:solidFill>
                  <a:srgbClr val="00664d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 C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Automated processes can make errors as well, and very fast inde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Identification of ‘new’ computer hardware is 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non-trivia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Humans are good at identifying oddities, making some attack modes harder to exploi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ull discussion in January (Ljubljana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xtended description will be given by Alexey (CERN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ssess risks and opport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eeds description in CP/CP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ddress attacks on CM servers (referring to the attacks on automated CAs recently, like Comodo, DigiNotar, ...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euristics to mitigate risk (correlation with installments, domain checks, time-of-day, etc.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dentification of requesting machines?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can that be done? TPM, MAC, network,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Case should be supported – scaling really nee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9-09T15:16:53Z</dcterms:modified>
  <cp:revision>592</cp:revision>
  <dc:subject/>
  <dc:title>European Grid Policy Management Authority</dc:title>
</cp:coreProperties>
</file>