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1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2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FB2C2-6719-4CCF-A1F7-B647F8233AA1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4B4B2-6CB1-4654-A864-B0154A7F12A9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FE943-E9AC-49D6-B8D1-52F6C3D7A504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D006F-41CF-44A3-B8DC-AB267AF28D22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FAE17-65EB-47E8-835E-61F4AEB29336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BE11D-4507-4E94-B8A5-E1A8EF7983E5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3478-E1AB-4860-A6EC-D2222969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4537-B760-4BCD-99E7-D74E676C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0303-5322-4DFE-8CBB-2808AC9E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7233-7BCB-465B-AA31-237409E3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F662-8933-4D9A-A298-8B45E6BA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CA28-ED2F-4812-BE4D-571C5A5B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6314B-F814-4CD6-8A22-52545A04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132F-B7C2-46F4-85A9-69AA3373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31D1-7654-43C1-B31A-35B71416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0668-034B-4FE7-ABF1-1F0110C9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2DD0-E0BC-4093-BA8C-E47930A2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19C4-2B9B-4F79-9735-F240924D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44D1-69B2-46A3-BF02-6DC909A5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E738-A6A4-4400-B760-B4C255A4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54B1-38E7-454F-AAE1-3E4C7A08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1691-A76A-4931-8926-15267E33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7CFE-587A-4A45-9147-9F2FBAFD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3F39-D438-4E12-B03C-C4802331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DC1C-AAA5-43E5-B3D2-FD857932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BDB0-336C-4F4F-A59A-585580A3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F645-8773-435C-86C2-1A7A9FAA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2F1E-91D6-4245-BB90-4E3296C4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08C0-8E94-4059-AE90-78CF9503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104C-DE22-4CBD-8344-6869E712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360" t="6749" r="2352" b="217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8267760" y="6124680"/>
            <a:ext cx="517320" cy="376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"/>
          <p:cNvPicPr/>
          <p:nvPr/>
        </p:nvPicPr>
        <p:blipFill>
          <a:blip r:embed="rId4"/>
          <a:stretch/>
        </p:blipFill>
        <p:spPr>
          <a:xfrm>
            <a:off x="723960" y="5262480"/>
            <a:ext cx="1800000" cy="8762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2222640" y="1770120"/>
            <a:ext cx="6921360" cy="50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4880" y="293760"/>
            <a:ext cx="76946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04880" y="1668600"/>
            <a:ext cx="769464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5"/>
          <a:stretch/>
        </p:blipFill>
        <p:spPr>
          <a:xfrm>
            <a:off x="3808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6"/>
          <a:srcRect l="0" t="-35347" r="-25968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1"/>
          </p:nvPr>
        </p:nvSpPr>
        <p:spPr>
          <a:xfrm>
            <a:off x="5333760" y="6530760"/>
            <a:ext cx="4014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BE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40F5EF-69AA-4785-BF29-4B8A600B1CD3}" type="slidenum">
              <a:rPr b="0" lang="nl-BE" sz="900" spc="-1" strike="noStrike">
                <a:solidFill>
                  <a:srgbClr val="8b8e8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720360" y="6530760"/>
            <a:ext cx="82548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5"/>
          <a:stretch/>
        </p:blipFill>
        <p:spPr>
          <a:xfrm>
            <a:off x="3952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6"/>
          <a:srcRect l="0" t="-35347" r="-25968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5"/>
          </p:nvPr>
        </p:nvSpPr>
        <p:spPr>
          <a:xfrm>
            <a:off x="720360" y="6530760"/>
            <a:ext cx="82548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5364000" y="6554880"/>
            <a:ext cx="403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42A55-8205-47AE-BFD9-889C496B4AFF}" type="slidenum">
              <a:rPr b="0" lang="nl-BE" sz="900" spc="-1" strike="noStrike">
                <a:solidFill>
                  <a:srgbClr val="8b8e8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5"/>
          <a:stretch/>
        </p:blipFill>
        <p:spPr>
          <a:xfrm>
            <a:off x="3808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6"/>
          <a:srcRect l="0" t="-35347" r="-25968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6"/>
          </p:nvPr>
        </p:nvSpPr>
        <p:spPr>
          <a:xfrm>
            <a:off x="5333760" y="6530760"/>
            <a:ext cx="4014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BE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5278A9-5FAF-45DD-A8F7-3D2E945BDAB9}" type="slidenum">
              <a:rPr b="0" lang="nl-BE" sz="900" spc="-1" strike="noStrike">
                <a:solidFill>
                  <a:srgbClr val="8b8e8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7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dt" idx="8"/>
          </p:nvPr>
        </p:nvSpPr>
        <p:spPr>
          <a:xfrm>
            <a:off x="720720" y="6530760"/>
            <a:ext cx="111456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12 september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5"/>
          <a:stretch/>
        </p:blipFill>
        <p:spPr>
          <a:xfrm>
            <a:off x="3952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6"/>
          <a:srcRect l="0" t="-35347" r="-25968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0"/>
          <p:cNvSpPr/>
          <p:nvPr/>
        </p:nvSpPr>
        <p:spPr>
          <a:xfrm>
            <a:off x="5364000" y="6554880"/>
            <a:ext cx="403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17395-F1DD-409D-88E1-441425C60FE9}" type="slidenum">
              <a:rPr b="0" lang="nl-BE" sz="900" spc="-1" strike="noStrike">
                <a:solidFill>
                  <a:srgbClr val="8b8e8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9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dt" idx="10"/>
          </p:nvPr>
        </p:nvSpPr>
        <p:spPr>
          <a:xfrm>
            <a:off x="720720" y="6530760"/>
            <a:ext cx="111456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12 september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savannah.cern.ch/patch/?5011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4520" y="293400"/>
            <a:ext cx="769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EUGridPMA – BEgrid CA updat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04520" y="1668600"/>
            <a:ext cx="769788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net – Jean-Christophe 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rakech – 12 September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Date Placeholder 5"/>
          <p:cNvSpPr/>
          <p:nvPr/>
        </p:nvSpPr>
        <p:spPr>
          <a:xfrm>
            <a:off x="720720" y="6531120"/>
            <a:ext cx="971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12 september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0092d2"/>
              </a:buClr>
              <a:buSzPct val="7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urrent System: Own CA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Live since the 28</a:t>
            </a:r>
            <a:r>
              <a:rPr b="1" lang="nl-BE" sz="2400" spc="-1" strike="noStrike" baseline="33000">
                <a:solidFill>
                  <a:srgbClr val="0092d2"/>
                </a:solidFill>
                <a:latin typeface="Arial"/>
              </a:rPr>
              <a:t>th</a:t>
            </a: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 october 2008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Modul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A, RA, EE, Log, Management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May be splitted on different server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Internal certificates for module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Access rights per module / certificate profil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Certificates: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rofile per institution (associated RA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Around 350 active certificate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Date Placeholder 4"/>
          <p:cNvSpPr/>
          <p:nvPr/>
        </p:nvSpPr>
        <p:spPr>
          <a:xfrm>
            <a:off x="720720" y="6531120"/>
            <a:ext cx="825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9280" y="358920"/>
            <a:ext cx="75326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current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Belnet / BEgrid staff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Authority for the syste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entral RA / backup RA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Monitoring of the syste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Supervision of the local RA’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Local RA’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urrently: 12 people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Staff of the various institution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Trained by BEgrid staff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Date Placeholder 5"/>
          <p:cNvSpPr/>
          <p:nvPr/>
        </p:nvSpPr>
        <p:spPr>
          <a:xfrm>
            <a:off x="720720" y="6531120"/>
            <a:ext cx="1114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urrent System: Own CA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CA offlin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Adds a lot of work to Belnet’s CA staff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Looking forward to go online again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Network HS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Very expensive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Need more usages than Begrid CA alone.. CERT ?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SoftHSM ?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http://www.opendnssec.org/softhsm/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Date Placeholder 4"/>
          <p:cNvSpPr/>
          <p:nvPr/>
        </p:nvSpPr>
        <p:spPr>
          <a:xfrm>
            <a:off x="720720" y="6531120"/>
            <a:ext cx="825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Transition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till use our own CA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witch to TERENA’s Personnal Certificat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Currently investigated :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Personal e-science certificates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Institutions must be member of the Belnet R&amp;E Federation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Later :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e-science server certificates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First tests with personal e-science certificat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Problem with proxy path length   (glite-ce-cream-1.12.4-2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savannah.cern.ch/patch/?5011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Known bug, patch needs to be deployed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As soon as patched is widely deployed, we will inform our users that they may start to use personal e-science certificat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In parallel, we start testing server e-science certificat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Date Placeholder 4"/>
          <p:cNvSpPr/>
          <p:nvPr/>
        </p:nvSpPr>
        <p:spPr>
          <a:xfrm>
            <a:off x="720720" y="6531120"/>
            <a:ext cx="825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0:23:45Z</dcterms:created>
  <dc:creator>Elke</dc:creator>
  <dc:description/>
  <dc:language>en-US</dc:language>
  <cp:lastModifiedBy>jean-christophe</cp:lastModifiedBy>
  <dcterms:modified xsi:type="dcterms:W3CDTF">2011-09-09T11:56:26Z</dcterms:modified>
  <cp:revision>25</cp:revision>
  <dc:subject/>
  <dc:title>Title presentation</dc:title>
</cp:coreProperties>
</file>