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56BC-41E2-46D3-AFF4-DAE029E352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0C9-797E-41A3-B3AC-5B792C0125F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1E7D-528F-4ADF-B4F8-2FC20A6B4503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24A4-D81B-438B-A0F8-8EDD2E993F9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4A5A-6B16-484C-81C8-C92B94EFE34D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1D11-5F38-4388-8DC8-D9A1CE735D05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1C4-2AD1-4588-B4AD-241BE21C043F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E72-2CDD-4C15-B670-800BFA34781E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58B-88CF-4E84-8BDE-6BD7A4338A65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7F09-7E3E-4335-8831-02D5C5FB824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31C7-B49A-4F59-85E7-667431ECD88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B299-5EF5-4D71-B5ED-E15B56CD82E4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D612-B941-40EC-BA3E-4A045D39BABC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0FD-3906-48A1-AF80-D1E5778B710A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4B18-BDEC-43B9-92C2-C7ADC72D1723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34E-03C7-4C58-B1FA-FC2DA3E780E0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6DA5-88E2-4454-BB31-05B8C299C9E7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87AB-2E9C-492C-AEB7-269BADF60951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1E7-F43A-43CF-B589-FAC0241C0E08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6983-5AEE-4793-AAF2-5DDC7497E9D3}" type="slidenum">
              <a:rPr b="0" lang="he-I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48E-F9E0-41F0-B7BD-7DD096BF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B22-C0DB-45DE-B733-C473640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8FD-05D9-4C52-B442-16EF45A5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B86-D446-4743-AFBD-9B9C19FA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8F7-07DA-4003-916C-49BCDD7A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0692-203D-4D5E-8E02-45D747EF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097-A7AA-4665-8ADF-C356941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1D4-EE93-4072-B48F-C83D9C33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0001-32D4-4641-A7C2-2823013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C075-7321-4032-817D-8C1EC5B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EB5-E649-4592-B3AD-9F2C19A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7F9-F1CD-4958-BCCC-0FC6F2DD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CE4-22E6-4896-ABD5-2E9DD76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E75-7DA3-44F6-997F-4E08894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73F-A598-4DD8-A93B-96D03A8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933-51BF-470D-B97A-17D6359A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8C5E-9DDD-45AE-9DFC-306BC83A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08BD-ECD7-4847-8F57-4393DD72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BE1F-A9E0-43D2-9E6A-3B8216A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90D3-C06E-437E-9CDF-873ACE84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19DC-3A01-47D2-8A33-1F212A8A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AED3-9DA6-4C44-83A5-294FA7FF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AF9-D227-4045-8742-FB9DD45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E1C5-E1E6-4580-B460-36F38AA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E149-71A7-443D-B7EB-A8F31F3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046B-ECCA-4D7F-8B17-799DD44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3C24-C46A-433D-B953-64EAAA0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A8BB-9192-4A8D-BDE7-B0ADD75B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03F4-236C-4A77-8D1C-3C678A3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8585-49D0-4422-A072-0D970FFD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97D8-7128-4252-89F7-F882E141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6D76-523C-4C8D-80DC-3D0C3CE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2C94-B6F1-43A9-BB4D-D797425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A79-9EAA-40D0-B34C-C55045C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8DF8-1335-4F4F-A554-9F11D6F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883D-969C-420C-9363-DE5130FE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E1F4-751B-4834-83CA-21F917DF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AD0F-19CF-41DE-831F-76FE6E6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07E3-9E45-4E8E-A5C5-D829ACF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B60A-D249-46CC-ABB2-06BCD5E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A9C7-31AA-4717-B294-0B1C9C4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3192D-5E81-4052-9D84-CDFE3CEA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DED7-701C-41BB-AC22-0859F6AA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8E3B1-3C29-404A-902F-04370DDE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629-8E4F-4B90-9368-20777829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68584-6EA2-430E-8677-6C204FD3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116D-706E-4880-8E16-83C348B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FE1B-57F9-42E3-8E9A-76722D0E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DA45-4A1A-498B-81F3-60DF59DD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D73F-83E9-43D5-9F6C-E0DB7E1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A3C6-2EA0-42B7-ADC5-7072B1A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DD15-FAA6-4455-A00E-E7C5C9D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032B-5768-4418-9B3D-5263A08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41C9-7439-4526-96F5-AEFE25F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C700-C3BC-45BF-A4C9-1C581C18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AFA-7CA5-4904-BB37-96C5608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9738-DB80-4DA4-99BB-E7F90DC7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89F6-B474-4A7A-942D-EF40DD58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843AD-BB45-4559-8D7D-15918BA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0014-227F-4A17-A75A-0ACFCBA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06FF-E636-4CA6-9990-B5E6856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73BB-187F-4392-A90D-9D056037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8720-93DF-4397-8A05-41F82046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B1B2-31E2-4E33-BFB5-8B9F1A7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9D18-8F25-4A6C-BEBB-80C410F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8A23-4DA4-490C-8A71-ACF3461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BE4-3146-4706-AE62-B645D05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A94C8-A85A-4003-9164-68F01CF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DAB6-C8EA-4B88-AD67-CBF7ABB3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3E05-B732-4367-B89C-231B0E8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50F5E-8746-4702-A578-4FCDD0877F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387E4-242A-4AE7-B9B4-929D09C96D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4C414-0462-40AF-B001-724278FB66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424FE-9F7C-445F-A264-F97AD36064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1DD04-8555-4738-AE6F-269AE0A34E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9AA52-1442-4C91-80A0-06E8BACDC5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89421-D1A1-41CB-8C8F-2E8C1E489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B3F-D531-46CD-906C-81647D9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A2471-8DEF-437B-9782-517D92AB1F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19AB6-CFF9-4E7E-971C-8CCBE7CFA1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F4ABB-15D5-4FC7-A3AA-FEA9B846A5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882C7-E9F4-4095-8077-5AC503F024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A417A-3FF8-435A-969B-83888E4AF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36E-C58C-4A2B-B24C-3B80C68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700-65EB-4717-8271-0533F5A19CD7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C55-EA1B-45A0-9823-942FF3EEA5F3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A366-274F-4A07-A666-C0ACACE2B890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F15-568C-4796-B443-12F53E370A3E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9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10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B4C-3ADF-4626-885F-798E20DED811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563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IUCC – May 2009 – Eddie Aronovi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B16-215A-4362-B708-F72897051023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5821200"/>
            <a:ext cx="896760" cy="103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549-593B-46E0-BFC6-15BC30704B38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F8B-37D7-4D6E-8403-123E286377C7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5D1B-A4D2-4713-927E-B0731F4A3F58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15E-C58F-4496-A93A-F60EFFB055D1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FFCA-6B5A-427B-BA79-384B3590B94F}" type="datetime"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EBF-585E-4BE8-B9B4-F9FC236FE02D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269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1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272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 algn="r" rtl="1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 algn="r" rtl="1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 algn="r" rtl="1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 algn="r" rtl="1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9"/>
          </p:nvPr>
        </p:nvSpPr>
        <p:spPr>
          <a:xfrm>
            <a:off x="3203640" y="6559200"/>
            <a:ext cx="5262480" cy="298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bcb7a8"/>
                </a:solidFill>
                <a:latin typeface="Times New Roman"/>
              </a:rPr>
              <a:t>Grid Operation and Security by Eddie Aronovich, May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D24C-A3D2-4F1D-81F7-09886E4D719E}" type="slidenum">
              <a:rPr b="0" lang="he-IL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94920" y="2781000"/>
            <a:ext cx="846468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rbel"/>
              </a:rPr>
              <a:t>IUCC Certification Authority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</a:rPr>
              <a:t>Implementation of self audit finding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esented by Arad Alper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January 201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114720" y="31680"/>
            <a:ext cx="2676600" cy="30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E9DE-3B0C-42F3-9150-447BCBECC1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re an end-entity obligation to protect the private key with a 12 character pass phrase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1" lang="en-US" sz="3000" spc="-1" strike="noStrike">
                <a:solidFill>
                  <a:srgbClr val="fa7d7a"/>
                </a:solidFill>
                <a:latin typeface="Corbel"/>
              </a:rPr>
              <a:t> 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d7a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lready implemented in practice, and will be a stipulation in the nex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DEE3-A71B-48D4-8F9F-69A6C243FB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accept external auditing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41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ccording to section our CP/CPS, no external auditing will be performed, only self-auditing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have no problem with external auditing, and we will change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3F6F-D7A5-4B55-836E-8488498CBC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the CA guarantee that a subject name will remain unique throughout the lifetime of the C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We do not have such a mechanism. A review of the certificates issued so far reveals no duplication of subject nam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Requesting suggestions how to deal with this stipulation.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00BC-84BC-4FAB-9DDE-2DF6EF855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an end-entity obligation include requesting revocation? -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re is no mention of it in the CP/CPS, but we do stress it to the user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xt CP/C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53C1-F9EA-44EF-9027-19F4E08A1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erform operational audits of the CA/RA staff once a yea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A performs a yearly self-assessment. We do not do any official RA audi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will audit our RAs, and fix the CP/CPS according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6EB6-2375-425E-B6C3-D6E49BD00F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ipulations that do not appear in CP/CPS but are maintained in practice 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f61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for certificate profiles to match GFD 125, but they do match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issue a new CRL 7 days before expiration date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-31248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 stipulation to maintain a list of RAs, but it is performed in practic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The stipulations will be added in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12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E8E1-2350-40EB-8C3E-8F020727C8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P/CPS structured according to RFC 3647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o. It is structured according to RFC 2527 which was the one available when we drafted our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’ll use 3647 to write the new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AE17-1D6C-4A5D-A716-475089E5FD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80000"/>
              </a:lnSpc>
              <a:spcBef>
                <a:spcPts val="1125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ho can request certificate revocation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CP/CPS fails to mention that RA or CA can request revoc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456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A33C-2F08-4A94-A16B-308D0508D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85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re certificates and private keys re-keyed or renewed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According to CP/CPS,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expired certificates must be re-keyed if a request is made prior to expiration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n practice, we revoke a certificate when it is about to expire, and issue a new one, with a new private ke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8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intend to continue this practice until the switch to TCS, then work by their rul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25AD-A0AF-47CF-9E53-4678EDB373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A provide their trust anchor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 assumed that EUGridPMA was our trust anchor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epository. 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e can provide our trust anchor to EUGRidPMA wh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ask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7BF5-4B5D-40DB-BCCA-065CD23B1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8760" y="838080"/>
            <a:ext cx="8535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(Inter University Computation Center) is a member in FP7 projects - Geant and EGI and Linksce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handles all Israeli grid activ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UCC CA is the authority that issues gri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176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UGridPMA member since Dec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grid is the unit inside of IUCC that handles Grid and certific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2642-68B7-4942-88E6-79ABE3E0D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1912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ow does RA validate the identity of a person requesting a host/service certificate? 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no stipulation is CP/CPS. In practice, there are very few such requests, and the persons requesting are well known to the R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rbel"/>
              </a:rPr>
              <a:t>Requesting sugges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 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F7F1-AABC-4EE3-B816-48BBB84FE1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5640" y="3860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048120" y="31680"/>
            <a:ext cx="2939760" cy="33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1ACA-D1DF-45EC-A51B-5932920B8A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IUCC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CA</a:t>
            </a:r>
            <a:endParaRPr b="1" lang="en-US" sz="40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951200"/>
            <a:ext cx="8229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UCC CA handles the grid certification to all of Israel’s 8 universit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ch university has its own R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Isragrid/IUCC serves as a default RA, that verifies requests from non-academic bodi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Corbel"/>
              </a:rPr>
              <a:t>Question: can we use the default RA for academic users as well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0F4E-02B0-415D-9076-F43B7764D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2010, IUCC decided to transfer our certificate issuance to an outside service, operated by Terena (TC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UCC has been a member of TCS since September 2010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en issuing server certificates via TCS since January 2011. User certificates are still issued using the OpenCA machi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83680" indent="-283680">
              <a:lnSpc>
                <a:spcPct val="12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e have been a member of TCS Portal since December 2011, and are in the process of moving user certificates issuance to the portal, and completing the switch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witch to TC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F2F7-E433-4E22-89A8-6603779D3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the move is completed, a new CP/CPS will be drafte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 audit was performed using the current CP/CP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AEB0-A3ED-4404-98A9-B89B0F8C6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f audit was performed using the audit document GFD 16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 used the scoring system provided in the documen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: G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: Recommendation (min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: Recommendation (major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: Advice (must change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: Could not evaluate (N/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e we shall present the Ds, Cs &amp; B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23E6-C564-4DF9-A76A-F10CDCC1B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oes the CP/CPS describe the procedure of changing CP/CPS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Will be fixed in the new CP/CPS. Requesting instructions.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Bookshelf Symbol 7"/>
                <a:ea typeface="Bookshelf Symbol 7"/>
              </a:rPr>
              <a:t>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1886-00F3-4B6B-8F5A-91BBE5E519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as the secure environment of the CA machine approved by PMA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The CA machine used to be operated and located in Tel Aviv University (IUCC outsourced work). IUCC/Isragrid hired staff in 2009 and moved the machine to a safe-box in the IUCC building. However, we did not get PMA approval for the new spot.  We believe the PMA never gave approval for the previous location as w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How do we get the approval for the new saf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035A-29E8-4DB3-8E9B-9974215D4E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51912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026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Is the CRL compliant with RFC5280?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ff6f61"/>
                </a:solidFill>
                <a:latin typeface="Corbel"/>
              </a:rPr>
              <a:t>D</a:t>
            </a:r>
            <a:br>
              <a:rPr sz="4100"/>
            </a:br>
            <a:r>
              <a:rPr b="1" lang="en-US" sz="4100" spc="-1" strike="noStrike">
                <a:solidFill>
                  <a:srgbClr val="fa7d7a"/>
                </a:solidFill>
                <a:latin typeface="Corbe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RFC5280 stipulates that the CRL has to be version 2. Our CRL is version 1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9e5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Corbel"/>
              </a:rPr>
              <a:t>Should we fix this, or can we continue issuing version 1 CRLs until we take our old CA system offlin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71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elf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ud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A8D6-0AA9-4A04-8E65-84100A554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00:04Z</dcterms:created>
  <dc:creator>user</dc:creator>
  <dc:description/>
  <dc:language>en-US</dc:language>
  <cp:lastModifiedBy>ארד</cp:lastModifiedBy>
  <dcterms:modified xsi:type="dcterms:W3CDTF">2012-01-11T14:55:26Z</dcterms:modified>
  <cp:revision>260</cp:revision>
  <dc:subject/>
  <dc:title>הגריד האקדמי הישראלי</dc:title>
</cp:coreProperties>
</file>