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CE3-64C0-4545-AD3D-BF35920C34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0CE-00C2-4731-9ABE-F2E2B978FE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E93-9271-4B86-9D3F-16E45BEC79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D4C-3802-4BF4-B6B5-493275CBF6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396-003E-4117-ABAB-7ED87D3013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01E-1773-4924-9B4F-A1F7BAF8D5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86D-26C5-4082-BDFF-708DA7ADCE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E1F7-478A-44B6-8F79-678A1105D3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D3EF-49D8-491C-BB4A-E750E13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C4E21-DE8D-4E3F-A353-CFCDAC0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56EF-F428-4843-AFB0-CB672528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006B-0D55-4394-B28E-B9E0BB91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BD6B5-C10B-4A3C-9395-237684BE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15D9-BCFF-4852-8E35-AFDEB3D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6CCA8-D1E2-4788-97C1-3D5296A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12C42-F8BB-44C4-95EF-AEDF6B6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6DE4-369B-4122-BCFB-5837252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E3D5E-7C42-4EF5-BED3-07167D2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A3CD-9873-47C4-A418-3037EB5E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AC629-14B2-4F2B-8C54-1942E7E2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4EC-3AF0-4F6E-AC65-047429B7D99E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5CA3-5C9B-49D0-B224-CF86450E9B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EUGridPMA Mtg #24, Ljubljana, Slove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17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4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484360" y="6237360"/>
            <a:ext cx="5048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</a:rPr>
              <a:t>Scott@DigiCert.co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(s)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since October 20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1052640"/>
          <a:ext cx="7129440" cy="5499000"/>
        </p:xfrm>
        <a:graphic>
          <a:graphicData uri="http://schemas.openxmlformats.org/drawingml/2006/table">
            <a:tbl>
              <a:tblPr/>
              <a:tblGrid>
                <a:gridCol w="2024280"/>
                <a:gridCol w="525240"/>
                <a:gridCol w="1862280"/>
                <a:gridCol w="2717640"/>
              </a:tblGrid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5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76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+ SLCS (propos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7 Members from North, Central and South Amer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 IGTF Accredited 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giCert(2) – US, TACC - US, UFF BrGrid &amp; UFF LACGrid - Brazil, UNLPGrid - Argentina, REUNA – Chile, ULAGrid – Venezuela, GridCanada, UNAM – Mexico, UNIANDES - Colombia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SLCS (NCSA x 2, FermiLabs, NERSC, PSC, NICS UTK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in-process, pending accredi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 Classic pending (SENAMHI – Peru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 Relying Par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OSG, XSEDE(TeraGrid), THEgrid, LCG, REBCA, NIH, SURA Gr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 CAs accredited since last F2F in October, 2011 Oak Rigde, T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CS UTK – SL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Cert – Classic x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http://www.tagpma.or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Overhaul under way – several items require updating…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(s)://tagpma.es.net/wiki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14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TAGPMA F2F </a:t>
            </a:r>
            <a:r>
              <a:rPr b="1" lang="es-ES" sz="1600" spc="-1" strike="noStrike">
                <a:solidFill>
                  <a:srgbClr val="333399"/>
                </a:solidFill>
                <a:latin typeface="Verdana"/>
              </a:rPr>
              <a:t>NICS, Oak Ridge, T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ct 11 – 12, 201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etails can be found here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://indico.rnp.br/conferenceOtherViews.py?view=standard&amp;confId=1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NICS UTK – SLCS (MyProxy with 2-factor authentication token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DigiCert – Classic x 2, HLCA x 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One new member (NCAR, Steve Beaty) has requested accreditation of 2 CAs (MICS, SLCS) – Jim Basney, me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Membership Review under w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Verdana"/>
              </a:rPr>
              <a:t>No recent upda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TAGPMA F2F planned for February 9-10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ted by San Diego Supercomputer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da items inclu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GPMA Membership Review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s from EUGridPMA and APGrid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SA 2-Factor CA (Jim Basney, NC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LCA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 of Registration Practice Statem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LCG Timetable for move to SH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Authority Prof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gular Video Conference Calls are now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thl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, at 12noon Eastern on th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nd Wednesda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of each mon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after TAGPMA 15 will be March 14,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VO – look for TAGP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we may be dropping the ESNet support in favor of E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all for agenda items goes out 1 week before the next c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e-mail list no later than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dcterms:modified xsi:type="dcterms:W3CDTF">2012-01-17T14:48:14Z</dcterms:modified>
  <cp:revision>135</cp:revision>
  <dc:subject>F2F12 Lubbock TX</dc:subject>
  <dc:title>TAGPMA Update</dc:title>
</cp:coreProperties>
</file>