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22"/>
          </p:nvPr>
        </p:nvSpPr>
        <p:spPr>
          <a:xfrm>
            <a:off x="3779640" y="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move the slide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23"/>
          </p:nvPr>
        </p:nvSpPr>
        <p:spPr>
          <a:xfrm>
            <a:off x="0" y="943272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24"/>
          </p:nvPr>
        </p:nvSpPr>
        <p:spPr>
          <a:xfrm>
            <a:off x="3779640" y="9432720"/>
            <a:ext cx="2889000" cy="495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5993AB5-3032-459F-91BF-85C63790F0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2BEBCBD-6C35-4775-8652-316903CE6609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FA02AD6-6538-4877-86C1-3BC778B0CB3F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Espace réservé du numéro de diapositive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F8D06B5-C8E7-4178-87DA-E9F799B507D8}" type="slidenum">
              <a:rPr b="0" lang="en-US" sz="1200" spc="-1" strike="noStrike">
                <a:solidFill>
                  <a:srgbClr val="0000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Espace réservé du numéro de diapositive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5785ADE-C073-438F-87EF-F6746ED8E105}" type="slidenum">
              <a:rPr b="0" lang="en-US" sz="1200" spc="-1" strike="noStrike">
                <a:solidFill>
                  <a:srgbClr val="0000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Espace réservé du numéro de diapositive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53A6359-1690-4E6D-A92C-389AEA8F783A}" type="slidenum">
              <a:rPr b="0" lang="en-US" sz="1200" spc="-1" strike="noStrike">
                <a:solidFill>
                  <a:srgbClr val="0000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Espace réservé du numéro de diapositive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3E8D583-4C4C-45F0-98D3-8728D05530D5}" type="slidenum">
              <a:rPr b="0" lang="en-US" sz="1200" spc="-1" strike="noStrike">
                <a:solidFill>
                  <a:srgbClr val="0000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4B3AE46-FC65-4466-966E-A96AB3098438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6C100F2-3ADB-4CE2-8C77-CCE823D19E15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6B6B2D7-A08E-4492-B8A1-4328CDF819D0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780000" y="9433080"/>
            <a:ext cx="2889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841EE3C-7289-4E0C-B8FC-FBCDD321BC35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CCF3-8F34-4AC0-8B56-98378A61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F16E-C7AA-4BA3-B132-372FF620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28EFB-5F4E-4B11-8F68-8D4F6C091B2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353DBF-BBE3-413F-9ABA-DA39A10EFEA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CEEA6-0F19-4D6E-B333-2A7066A6038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C1D31-C3F1-4C20-A4C0-87FADF78A05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91DED6-6D0B-4CF1-A549-C5D3143E9A3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67E78-1636-4DD8-B96C-DCB9FFD24E6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3ED831-20DC-412B-9D8E-A6186597174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8FCCAA-FA09-476C-B41A-9AA5696813B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A5E29F-B9F2-4A5C-93E3-0F440B77C77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372F0E-6EA3-46B6-902E-B4F130131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7D64-BF4B-4270-A99B-E79761F0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6DCF72-DC23-482D-9DC5-487CBFE91DF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6CB05C-0B20-4297-8F9F-8C862EC1B4A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8DD64D-CB0D-40CE-8717-D7FCE1A842B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10DF8A-A1AD-4F3F-A6FA-1279E63C8C7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E1E1F9-FDD7-49A2-AA2A-9697546A902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4F55AF-DD78-41EB-8846-3FF21D948A3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6239D9-D761-456A-86F2-A80C6DB8EF5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189D19-9250-4457-96BB-26DD38CF1B3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F3EE53-5AD9-4EBB-80E2-22B7228548C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86465D-666D-4A7E-8239-2BB55B704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BAC6-7D8E-4BD6-AA67-A796F8DC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38987C-0774-4D72-8120-93C90ACD0D1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9F62C-BDFE-49A9-9513-F3A06C61AE7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0FB1E-88B9-4B1F-84CF-BF4A64E4CA0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2C342-0260-4CDC-BBB5-AC5DBF91478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B748B-83EA-4208-8C29-5F871A31895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B7941-5B1B-43D3-9F96-FA4087ECE0B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0225F-ED25-49CE-9D8E-FC7D82C3D62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D2810-CD1B-427F-983D-187D9DB532B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17B42-DB95-4231-B1D6-E59E6E88C57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081EB-6F06-46BB-8937-F4A3A5D76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B5736-5209-408E-9062-B7E13539FD7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A598C-5C50-46D3-93DC-5DE6457DEF0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9B5DD-2BE9-457D-A17A-D818E9962A1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C542B5-1605-4331-9BBB-336DB5E07EE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7268A2-0EA4-489E-B9EA-F73AA3E93F9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C2FB55-0C60-451D-AD9F-ADD20F97860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D5D049-01BF-4B59-8001-B104CBCE60F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A66C5-475E-4CB5-BADA-3DF2AD944CF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9CEEEE-714D-4E2E-B644-C41A64F7D44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6288C0-A5BF-4E0A-825E-10BB3DB5E8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FF22AA-86AA-4D9D-9DCD-DB9EB02A5FC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61FF1B-5601-488D-AED0-3C3D32F50C7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3423C1-6F7B-4413-A06B-BF13F2F2174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CD9DFF-137E-4848-87BC-8C19D6E1D18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B3B1D1-BBDB-45BC-8595-7204C4BAE0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BBEB-24BB-4018-9344-4A69206E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D38E-4598-4CF2-92D7-3DBF11EA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2EDC6-A1E4-4406-BC77-64CA349AF1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A7B20-6280-4A9B-8226-EC93B1BE03C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9CC8A-425B-4BD2-947E-33E771229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F56F-0502-40E1-BD71-29E4344D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07E18-1404-4F62-92A3-F1351F71CF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8393E-A28A-4F1F-8255-B5B2A08E71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A3AB9-2EFE-4EBF-9498-6420F097B9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199C5-476C-4B81-AC24-40D79FC25B6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6D657-D284-4E88-8EE6-D4FE39BEF8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F25C8-9360-4CB5-B786-C7F06D4DFD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FD38E-8703-4A89-8B9C-137E01660AB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B4606-EA49-49FA-AA30-F8E571CC4C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0307F-FE43-4A2A-A988-7FD8CC38F87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EB52-32C5-44B0-BFFE-0EC13F55B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8D12-4ACD-4638-A3C9-D59D7169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1823-1DA9-48B9-8335-A1981D93A27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4165-E196-40F3-997B-E648F482F33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F3C1-52E0-43DB-BE99-0BED432C51A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55C5-E46C-4ACC-B667-F80064FD895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CED3-6A9A-42BF-911E-A97F4E5A1F5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CCF5-2901-4C1E-82B8-38DABD53A29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A880-F67B-4837-BBA4-87FAC89A060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1CFA-3E11-460F-BC6C-590FB32F5D2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EE2C-0E18-4E2B-BEE2-9BB710F5C99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4661-74DD-49D8-85C7-13471B115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2B22-A761-4B51-B553-7CF85E34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150E-BBAB-4E82-BD36-2F584726406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ED580-1387-4F28-BEE0-96DE6511AB3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3A86C-B2C8-420F-81DA-77A366EC9D8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8454C-ED06-44EB-8800-FAEA9366662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794A2-980E-43C8-BDD9-10F1A8C96CC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6C0F6-9779-470E-9329-B915B8243BA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1ABFA-BC60-4478-8125-6028433426B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B42BA-377B-4216-BBCB-6E224D13526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AB2C2-F845-46ED-A569-7F4281CA9D1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74527-C31E-4AAD-AB70-CB82165DE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79EB-E3EF-4624-971C-E68E5CF8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214CE6-DB50-4A7C-A737-79CB4FD6F11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88A01-49F9-470C-98DD-3BBA3A29F27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8141C-91CD-4C2B-8B07-80C0E187C56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57FF6-DBD1-470D-9873-B1318CE458A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0394F5-8C91-4D81-A953-C8B7CA7F171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EC1AC3-E6DF-491E-AAC3-57C53F23F6C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D07C0F-0232-49BA-9C34-AD382DAC3E2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C329D2-5632-4568-9C6E-0138D436075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55518B-C374-41D9-B9A6-DEA1E3E7109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3E7447-DEA1-44DE-AAC2-F0FCD56C6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83AD-DC87-4345-A03B-E4351001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96C65A-86E2-4108-B94B-37335E174D9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1E1BEF-D571-4339-B313-3139ED117D9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7C06F4-2D7B-4703-ADE5-18AE9C0E349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64A14E-0130-43FC-A43E-C85E8250304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52C297-2109-4D76-826F-D9807492CCE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DD6A0-F33F-4989-9472-0CD9AAE1992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02963-1B86-4B51-B7CB-8BAC5BC55DE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BF174-8993-471D-8DEB-A6D3422706A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CB9C2-05FD-419B-BA6F-F7379A0F78E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160AB-552D-469A-B111-C8379CCD5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8D2E-3630-4EC1-992E-6ED5AE78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64880" y="321840"/>
            <a:ext cx="865476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F0209-5C8F-4186-85FC-B8C740A489C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04F07-CC71-4FFB-9125-26B7C023534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01970-15AD-43E7-85CB-3B01925701C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E45E1-56C5-4A36-BAAC-9BB4DA31421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79280" y="3974040"/>
            <a:ext cx="86407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9946B-E8AF-4611-8083-4E5A1EBF1FB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06920" y="134100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7928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06920" y="3974040"/>
            <a:ext cx="421632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8A2AF-D20E-4BDE-98B5-C0ADCCF0766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10068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440" y="134100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792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10068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440" y="3974040"/>
            <a:ext cx="2782080" cy="240408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1BE57-1F9E-41DE-A09F-9B61F594511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A617A-32D7-4F7D-8252-65F8053DE1E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9ED89-7929-40F6-912D-ECCD1EFEE31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216000" rIns="198000" tIns="216000" bIns="21600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1F103-7B1C-4141-B807-B55524CFB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75EE-4B2A-4DD4-B0FD-651F1AD5B094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  <a:ea typeface="Arial"/>
              </a:rPr>
              <a:t>21th EUGridPMA meeting, Utrecht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8989da"/>
                </a:solidFill>
                <a:latin typeface="Times New Roman"/>
                <a:cs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B010-4C58-4A12-BB6C-3D8DFC4E42C1}" type="datetime">
              <a:rPr b="0" lang="ar-SY" sz="1200" spc="-1" strike="noStrike">
                <a:solidFill>
                  <a:srgbClr val="8989da"/>
                </a:solidFill>
                <a:latin typeface="Times New Roman"/>
                <a:cs typeface="Arial"/>
              </a:rPr>
              <a:t>١٤٤٨/٠٢/١٥</a:t>
            </a:fld>
            <a:r>
              <a:rPr b="0" lang="ar-SY" sz="1200" spc="-1" strike="noStrike">
                <a:solidFill>
                  <a:srgbClr val="8989da"/>
                </a:solidFill>
                <a:latin typeface="Times New Roman"/>
                <a:ea typeface="Arial"/>
              </a:rPr>
              <a:t> </a:t>
            </a:r>
            <a:fld id="{66FC8DFA-0828-4EC9-896B-673263E862B8}" type="datetime10">
              <a:rPr b="0" lang="ar-SY" sz="1200" spc="-1" strike="noStrike">
                <a:solidFill>
                  <a:srgbClr val="8989da"/>
                </a:solidFill>
                <a:latin typeface="Times New Roman"/>
                <a:ea typeface="Arial"/>
              </a:rPr>
              <a:t>16:4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6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B024-EA3D-44F5-A0A0-3A453221141D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7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28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8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B56E-5961-46DE-BBE2-80F7E02EF1C8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19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0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2AA2-4485-4406-98DE-6EA8DBD48223}" type="slidenum">
              <a:rPr b="0" lang="en-US" sz="1400" spc="-1" strike="noStrike">
                <a:solidFill>
                  <a:srgbClr val="0000cc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1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cc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cc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>
            <a:lum bright="12000"/>
          </a:blip>
          <a:srcRect l="11966" t="0" r="8797" b="8705"/>
          <a:stretch/>
        </p:blipFill>
        <p:spPr>
          <a:xfrm>
            <a:off x="458640" y="663480"/>
            <a:ext cx="8244000" cy="6027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9404280" y="532440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5" name="Arc 8"/>
          <p:cNvSpPr/>
          <p:nvPr/>
        </p:nvSpPr>
        <p:spPr>
          <a:xfrm>
            <a:off x="3960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025880" y="98280"/>
            <a:ext cx="44910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7" name="Arc 12"/>
          <p:cNvSpPr/>
          <p:nvPr/>
        </p:nvSpPr>
        <p:spPr>
          <a:xfrm>
            <a:off x="61920" y="5913360"/>
            <a:ext cx="1598760" cy="1222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8" name="Arc 13"/>
          <p:cNvSpPr/>
          <p:nvPr/>
        </p:nvSpPr>
        <p:spPr>
          <a:xfrm flipH="1">
            <a:off x="8501040" y="-136440"/>
            <a:ext cx="1557360" cy="788760"/>
          </a:xfrm>
          <a:custGeom>
            <a:avLst/>
            <a:gdLst/>
            <a:ahLst/>
            <a:rect l="l" t="t" r="r" b="b"/>
            <a:pathLst>
              <a:path fill="none" w="20883" h="17763">
                <a:moveTo>
                  <a:pt x="20883" y="5518"/>
                </a:moveTo>
                <a:cubicBezTo>
                  <a:pt x="19568" y="10493"/>
                  <a:pt x="16520" y="14836"/>
                  <a:pt x="12288" y="17763"/>
                </a:cubicBezTo>
              </a:path>
              <a:path stroke="0" w="20883" h="17763">
                <a:moveTo>
                  <a:pt x="20883" y="5518"/>
                </a:moveTo>
                <a:cubicBezTo>
                  <a:pt x="19568" y="10493"/>
                  <a:pt x="16520" y="14836"/>
                  <a:pt x="12288" y="17763"/>
                </a:cubicBezTo>
                <a:lnTo>
                  <a:pt x="0" y="0"/>
                </a:lnTo>
                <a:lnTo>
                  <a:pt x="20883" y="5518"/>
                </a:lnTo>
                <a:close/>
              </a:path>
            </a:pathLst>
          </a:custGeom>
          <a:noFill/>
          <a:ln w="255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9" name="Arc 14"/>
          <p:cNvSpPr/>
          <p:nvPr/>
        </p:nvSpPr>
        <p:spPr>
          <a:xfrm flipH="1" flipV="1">
            <a:off x="8178120" y="-286200"/>
            <a:ext cx="887400" cy="1086120"/>
          </a:xfrm>
          <a:custGeom>
            <a:avLst/>
            <a:gdLst/>
            <a:ahLst/>
            <a:rect l="l" t="t" r="r" b="b"/>
            <a:pathLst>
              <a:path fill="none" w="20836" h="21596">
                <a:moveTo>
                  <a:pt x="372" y="-1"/>
                </a:moveTo>
                <a:cubicBezTo>
                  <a:pt x="9969" y="164"/>
                  <a:pt x="18306" y="6644"/>
                  <a:pt x="20836" y="15903"/>
                </a:cubicBezTo>
              </a:path>
              <a:path stroke="0" w="20836" h="21596">
                <a:moveTo>
                  <a:pt x="372" y="-1"/>
                </a:moveTo>
                <a:cubicBezTo>
                  <a:pt x="9969" y="164"/>
                  <a:pt x="18306" y="6644"/>
                  <a:pt x="20836" y="15903"/>
                </a:cubicBezTo>
                <a:lnTo>
                  <a:pt x="0" y="21596"/>
                </a:lnTo>
                <a:lnTo>
                  <a:pt x="372" y="-1"/>
                </a:lnTo>
                <a:close/>
              </a:path>
            </a:pathLst>
          </a:custGeom>
          <a:noFill/>
          <a:ln w="25560">
            <a:solidFill>
              <a:srgbClr val="f4c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239760" y="382680"/>
            <a:ext cx="302580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1" name="Line 17"/>
          <p:cNvSpPr/>
          <p:nvPr/>
        </p:nvSpPr>
        <p:spPr>
          <a:xfrm>
            <a:off x="9036000" y="781200"/>
            <a:ext cx="0" cy="2388960"/>
          </a:xfrm>
          <a:prstGeom prst="line">
            <a:avLst/>
          </a:prstGeom>
          <a:ln w="25560">
            <a:solidFill>
              <a:srgbClr val="f4ce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2650320" y="6561000"/>
            <a:ext cx="331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ff9933"/>
                </a:solidFill>
                <a:latin typeface="Rockwell"/>
                <a:ea typeface="Rockwell"/>
              </a:rPr>
              <a:t>24</a:t>
            </a:r>
            <a:r>
              <a:rPr b="1" lang="nl-NL" sz="1000" spc="-1" strike="noStrike" baseline="36000">
                <a:solidFill>
                  <a:srgbClr val="ff9933"/>
                </a:solidFill>
                <a:latin typeface="Rockwell"/>
                <a:ea typeface="Rockwell"/>
              </a:rPr>
              <a:t>th </a:t>
            </a:r>
            <a:r>
              <a:rPr b="1" lang="nl-NL" sz="1000" spc="-1" strike="noStrike">
                <a:solidFill>
                  <a:srgbClr val="ff9933"/>
                </a:solidFill>
                <a:latin typeface="Rockwell"/>
                <a:ea typeface="Rockwell"/>
              </a:rPr>
              <a:t>EUGridPMA Meeting, </a:t>
            </a:r>
            <a:r>
              <a:rPr b="1" lang="fr-FR" sz="1000" spc="-1" strike="noStrike">
                <a:solidFill>
                  <a:srgbClr val="ff9933"/>
                </a:solidFill>
                <a:latin typeface="Rockwell"/>
                <a:ea typeface="Rockwell"/>
              </a:rPr>
              <a:t>Ljubljana, Slovenia</a:t>
            </a:r>
            <a:r>
              <a:rPr b="1" lang="nl-NL" sz="1000" spc="-1" strike="noStrike">
                <a:solidFill>
                  <a:srgbClr val="ff9933"/>
                </a:solidFill>
                <a:latin typeface="Rockwell"/>
                <a:ea typeface="Rockwell"/>
              </a:rPr>
              <a:t>, 2012</a:t>
            </a:r>
            <a:endParaRPr b="0" lang="en-US" sz="10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3" name="Straight Connector 12"/>
          <p:cNvSpPr/>
          <p:nvPr/>
        </p:nvSpPr>
        <p:spPr>
          <a:xfrm>
            <a:off x="108000" y="6556320"/>
            <a:ext cx="8928000" cy="0"/>
          </a:xfrm>
          <a:prstGeom prst="line">
            <a:avLst/>
          </a:prstGeom>
          <a:ln w="19080">
            <a:solidFill>
              <a:srgbClr val="ffe6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8259120" y="6537240"/>
            <a:ext cx="109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722E-39C6-45A0-8405-D29764D9252B}" type="slidenum">
              <a:rPr b="1" lang="en-US" sz="1400" spc="-1" strike="noStrike">
                <a:solidFill>
                  <a:srgbClr val="ff9933"/>
                </a:solidFill>
                <a:latin typeface="Rockwell"/>
                <a:ea typeface="Rockwell"/>
              </a:rPr>
              <a:t>&lt;number&gt;</a:t>
            </a:fld>
            <a:endParaRPr b="0" lang="en-US" sz="1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4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A4CE-FFC9-46C7-BF53-6FDAECF3909B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6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9827-1E2E-4E7F-A475-366050312422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8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B4F8-3BD0-4FF3-BD3C-4BE9F09FBB5F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9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0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5CBE-AC24-44EF-8661-3F135A9FDD0D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12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0170-8F17-4960-A889-9571A9C8FD48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3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rc 7"/>
          <p:cNvSpPr/>
          <p:nvPr/>
        </p:nvSpPr>
        <p:spPr>
          <a:xfrm>
            <a:off x="0" y="5635800"/>
            <a:ext cx="1598760" cy="1222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0" y="6021360"/>
            <a:ext cx="26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179280" y="1341000"/>
            <a:ext cx="864072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3" marL="16002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4" marL="2057400" indent="-228600">
              <a:spcBef>
                <a:spcPts val="601"/>
              </a:spcBef>
              <a:spcAft>
                <a:spcPts val="300"/>
              </a:spcAft>
              <a:buClr>
                <a:srgbClr val="f1af00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5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6" marL="2057400" indent="-228600">
              <a:spcBef>
                <a:spcPts val="601"/>
              </a:spcBef>
              <a:spcAft>
                <a:spcPts val="300"/>
              </a:spcAft>
              <a:buClr>
                <a:srgbClr val="0000cc"/>
              </a:buClr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164880" y="321840"/>
            <a:ext cx="86547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4"/>
          </p:nvPr>
        </p:nvSpPr>
        <p:spPr>
          <a:xfrm>
            <a:off x="-360" y="6580080"/>
            <a:ext cx="7160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7306-1B76-4EC3-AD6E-34608E23348D}" type="slidenum">
              <a:rPr b="0" lang="en-US" sz="1400" spc="-1" strike="noStrike">
                <a:solidFill>
                  <a:srgbClr val="000000"/>
                </a:solidFill>
                <a:latin typeface="Century Gothic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5"/>
          </p:nvPr>
        </p:nvSpPr>
        <p:spPr>
          <a:xfrm>
            <a:off x="684000" y="6597360"/>
            <a:ext cx="712764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HIAST – EugridPMA Meeting – 24-26 Januar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000" y="2300400"/>
            <a:ext cx="80643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 Black"/>
              </a:rPr>
              <a:t>TNGrid CA</a:t>
            </a:r>
            <a:endParaRPr b="1" lang="en-US" sz="44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11280" y="335592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99"/>
                </a:solidFill>
                <a:latin typeface="Rockwell"/>
              </a:rPr>
              <a:t>24</a:t>
            </a:r>
            <a:r>
              <a:rPr b="1" lang="nl-NL" sz="1600" spc="-1" strike="noStrike" baseline="34000">
                <a:solidFill>
                  <a:srgbClr val="000099"/>
                </a:solidFill>
                <a:latin typeface="Rockwell"/>
              </a:rPr>
              <a:t>th</a:t>
            </a:r>
            <a:r>
              <a:rPr b="1" lang="nl-NL" sz="1600" spc="-1" strike="noStrike">
                <a:solidFill>
                  <a:srgbClr val="000099"/>
                </a:solidFill>
                <a:latin typeface="Rockwell"/>
              </a:rPr>
              <a:t> EUGridPMA meeting 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Rockwell"/>
              </a:rPr>
              <a:t>Ljubljana, Slovenia</a:t>
            </a:r>
            <a:r>
              <a:rPr b="1" lang="nl-NL" sz="1600" spc="-1" strike="noStrike">
                <a:solidFill>
                  <a:srgbClr val="000099"/>
                </a:solidFill>
                <a:latin typeface="Rockwell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Rockwell"/>
              </a:rPr>
              <a:t>16-18 January, 2012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24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51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Rockwell"/>
              </a:rPr>
              <a:t>Heithem ABBES                Mohamed JEMNI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24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Rockwell"/>
              </a:rPr>
              <a:t>heithem.abbes@esstt.rnu.tn                     mohamed.jemni@fst.rnu.tn</a:t>
            </a:r>
            <a:endParaRPr b="0" lang="en-US" sz="10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24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Rockwell"/>
              </a:rPr>
              <a:t>Research Unit </a:t>
            </a:r>
            <a:r>
              <a:rPr b="1" lang="it-IT" sz="1200" spc="-1" strike="noStrike">
                <a:solidFill>
                  <a:srgbClr val="000099"/>
                </a:solidFill>
                <a:latin typeface="Rockwell"/>
              </a:rPr>
              <a:t>Technolgies of Information and Communication</a:t>
            </a: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Rockwell"/>
              </a:rPr>
              <a:t>University of Tunis </a:t>
            </a:r>
            <a:r>
              <a:rPr b="1" lang="en-US" sz="1200" spc="-1" strike="noStrike">
                <a:solidFill>
                  <a:srgbClr val="000099"/>
                </a:solidFill>
                <a:latin typeface="Rockwell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indent="0" algn="ctr"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</p:txBody>
      </p:sp>
      <p:pic>
        <p:nvPicPr>
          <p:cNvPr id="520" name="Image 3" descr="TN-GRID.png"/>
          <p:cNvPicPr/>
          <p:nvPr/>
        </p:nvPicPr>
        <p:blipFill>
          <a:blip r:embed="rId1"/>
          <a:stretch/>
        </p:blipFill>
        <p:spPr>
          <a:xfrm>
            <a:off x="128520" y="477720"/>
            <a:ext cx="2139840" cy="1511280"/>
          </a:xfrm>
          <a:prstGeom prst="rect">
            <a:avLst/>
          </a:prstGeom>
          <a:ln w="0">
            <a:noFill/>
          </a:ln>
        </p:spPr>
      </p:pic>
      <p:pic>
        <p:nvPicPr>
          <p:cNvPr id="521" name="Image 2" descr="logo2.bmp"/>
          <p:cNvPicPr/>
          <p:nvPr/>
        </p:nvPicPr>
        <p:blipFill>
          <a:blip r:embed="rId2"/>
          <a:stretch/>
        </p:blipFill>
        <p:spPr>
          <a:xfrm>
            <a:off x="3973680" y="765000"/>
            <a:ext cx="885600" cy="952560"/>
          </a:xfrm>
          <a:prstGeom prst="rect">
            <a:avLst/>
          </a:prstGeom>
          <a:ln w="0">
            <a:noFill/>
          </a:ln>
        </p:spPr>
      </p:pic>
      <p:pic>
        <p:nvPicPr>
          <p:cNvPr id="522" name="Image 4" descr="eumedgrid_logo.png"/>
          <p:cNvPicPr/>
          <p:nvPr/>
        </p:nvPicPr>
        <p:blipFill>
          <a:blip r:embed="rId3"/>
          <a:stretch/>
        </p:blipFill>
        <p:spPr>
          <a:xfrm>
            <a:off x="6411960" y="739800"/>
            <a:ext cx="1905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Name Form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66560" y="1268280"/>
            <a:ext cx="8282160" cy="52689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Rockwell"/>
              </a:rPr>
              <a:t>Issuer (TNGrid CA)</a:t>
            </a: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  : </a:t>
            </a:r>
            <a:r>
              <a:rPr b="1" lang="en-US" sz="1500" spc="-1" strike="noStrike">
                <a:solidFill>
                  <a:srgbClr val="ff0000"/>
                </a:solidFill>
                <a:latin typeface="Rockwell"/>
              </a:rPr>
              <a:t>C=TN/O=TNGrid/CN=TNGrid CA</a:t>
            </a:r>
            <a:endParaRPr b="0" lang="en-US" sz="15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Rockwell"/>
              </a:rPr>
              <a:t>User</a:t>
            </a: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 : </a:t>
            </a:r>
            <a:r>
              <a:rPr b="1" lang="en-US" sz="1500" spc="-1" strike="noStrike">
                <a:solidFill>
                  <a:srgbClr val="ff0000"/>
                </a:solidFill>
                <a:latin typeface="Rockwell"/>
              </a:rPr>
              <a:t>C=TN, O=TNGrid, OU=organizationName, CN=commonName</a:t>
            </a:r>
            <a:endParaRPr b="0" lang="en-US" sz="1500" spc="-1" strike="noStrike">
              <a:solidFill>
                <a:srgbClr val="000099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organizati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is the organization name of the subject.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comm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must be the Forename and the Surname of the subject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Rockwell"/>
              </a:rPr>
              <a:t>Host</a:t>
            </a: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 : </a:t>
            </a:r>
            <a:r>
              <a:rPr b="1" lang="en-US" sz="1500" spc="-1" strike="noStrike">
                <a:solidFill>
                  <a:srgbClr val="ff0000"/>
                </a:solidFill>
                <a:latin typeface="Rockwell"/>
              </a:rPr>
              <a:t>C=TN, O=TNGrid, OU=organizationName, CN=commonName</a:t>
            </a:r>
            <a:endParaRPr b="0" lang="en-US" sz="1500" spc="-1" strike="noStrike">
              <a:solidFill>
                <a:srgbClr val="000099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organizati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is the name of the organization owning the host.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comm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must be the DNS FQDN of the host preceded by </a:t>
            </a:r>
            <a:r>
              <a:rPr b="0" lang="ja-JP" sz="1500" spc="-1" strike="noStrike">
                <a:solidFill>
                  <a:srgbClr val="000082"/>
                </a:solidFill>
                <a:latin typeface="Rockwell"/>
              </a:rPr>
              <a:t>‘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host/</a:t>
            </a:r>
            <a:r>
              <a:rPr b="0" lang="ja-JP" sz="1500" spc="-1" strike="noStrike">
                <a:solidFill>
                  <a:srgbClr val="000082"/>
                </a:solidFill>
                <a:latin typeface="Rockwell"/>
              </a:rPr>
              <a:t>’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Rockwell"/>
              </a:rPr>
              <a:t>Service</a:t>
            </a: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 : </a:t>
            </a:r>
            <a:r>
              <a:rPr b="1" lang="en-US" sz="1500" spc="-1" strike="noStrike">
                <a:solidFill>
                  <a:srgbClr val="ff0000"/>
                </a:solidFill>
                <a:latin typeface="Rockwell"/>
              </a:rPr>
              <a:t>C=TN, O=TNGrid, OU=organizationName, CN=commonName</a:t>
            </a:r>
            <a:endParaRPr b="0" lang="en-US" sz="1500" spc="-1" strike="noStrike">
              <a:solidFill>
                <a:srgbClr val="000099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organizati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is the name of the organization owning the service.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85716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</a:t>
            </a: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commonNam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must be the DNS FQDN of the server preceded by </a:t>
            </a:r>
            <a:r>
              <a:rPr b="0" lang="ja-JP" sz="1500" spc="-1" strike="noStrike">
                <a:solidFill>
                  <a:srgbClr val="000082"/>
                </a:solidFill>
                <a:latin typeface="Rockwell"/>
              </a:rPr>
              <a:t>‘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serviceName/</a:t>
            </a:r>
            <a:r>
              <a:rPr b="0" lang="ja-JP" sz="1500" spc="-1" strike="noStrike">
                <a:solidFill>
                  <a:srgbClr val="000082"/>
                </a:solidFill>
                <a:latin typeface="Rockwell"/>
              </a:rPr>
              <a:t>’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where serviceName must uniquely identify the service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5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5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07640" y="232560"/>
            <a:ext cx="6635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A Private Key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39280" y="1266480"/>
            <a:ext cx="8137800" cy="51865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Rockwell"/>
              </a:rPr>
              <a:t>Asymmetric algorithm: </a:t>
            </a:r>
            <a:r>
              <a:rPr b="1" lang="en-US" sz="1700" spc="-1" strike="noStrike">
                <a:solidFill>
                  <a:srgbClr val="ff9933"/>
                </a:solidFill>
                <a:latin typeface="Rockwell"/>
              </a:rPr>
              <a:t>RSA</a:t>
            </a:r>
            <a:endParaRPr b="0" lang="en-US" sz="17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Rockwell"/>
              </a:rPr>
              <a:t>Key size: </a:t>
            </a:r>
            <a:r>
              <a:rPr b="1" lang="en-US" sz="1700" spc="-1" strike="noStrike">
                <a:solidFill>
                  <a:srgbClr val="ff9933"/>
                </a:solidFill>
                <a:latin typeface="Rockwell"/>
              </a:rPr>
              <a:t>2048 bits </a:t>
            </a:r>
            <a:r>
              <a:rPr b="0" lang="en-US" sz="1200" spc="-1" strike="noStrike">
                <a:solidFill>
                  <a:srgbClr val="000099"/>
                </a:solidFill>
                <a:latin typeface="Rockwell"/>
              </a:rPr>
              <a:t>[CP/CPS 4.1.2]</a:t>
            </a: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Rockwell"/>
              </a:rPr>
              <a:t>Protected by a pass-phrase of </a:t>
            </a:r>
            <a:r>
              <a:rPr b="1" lang="en-US" sz="1700" spc="-1" strike="noStrike">
                <a:solidFill>
                  <a:srgbClr val="ff9933"/>
                </a:solidFill>
                <a:latin typeface="Rockwell"/>
              </a:rPr>
              <a:t>15 characters </a:t>
            </a:r>
            <a:r>
              <a:rPr b="0" lang="en-US" sz="1200" spc="-1" strike="noStrike">
                <a:solidFill>
                  <a:srgbClr val="000099"/>
                </a:solidFill>
                <a:latin typeface="Rockwell"/>
              </a:rPr>
              <a:t>[CP/CPS 6.4.1]</a:t>
            </a: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Rockwell"/>
              </a:rPr>
              <a:t>The pass-phrase is only known to CA operators</a:t>
            </a:r>
            <a:endParaRPr b="0" lang="en-US" sz="17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Rockwell"/>
              </a:rPr>
              <a:t>TNGrid CA private key is kept, encrypted, in multiple copies and in different locations </a:t>
            </a:r>
            <a:r>
              <a:rPr b="0" lang="en-US" sz="1200" spc="-1" strike="noStrike">
                <a:solidFill>
                  <a:srgbClr val="000099"/>
                </a:solidFill>
                <a:latin typeface="Rockwell"/>
              </a:rPr>
              <a:t>[CP/CPS 6.2.4]</a:t>
            </a: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Rockwell"/>
              </a:rPr>
              <a:t>In case the private key of the TNGrid CA is (or suspected to be) compromised , the CA shall</a:t>
            </a:r>
            <a:r>
              <a:rPr b="0" lang="en-US" sz="2000" spc="-1" strike="noStrike">
                <a:solidFill>
                  <a:srgbClr val="000099"/>
                </a:solidFill>
                <a:latin typeface="Rockwell"/>
              </a:rPr>
              <a:t> </a:t>
            </a:r>
            <a:r>
              <a:rPr b="0" lang="en-US" sz="1500" spc="-1" strike="noStrike">
                <a:solidFill>
                  <a:srgbClr val="000099"/>
                </a:solidFill>
                <a:latin typeface="Rockwell"/>
              </a:rPr>
              <a:t>[CP/CPS 5.7.3]</a:t>
            </a:r>
            <a:r>
              <a:rPr b="0" lang="en-US" sz="2000" spc="-1" strike="noStrike">
                <a:solidFill>
                  <a:srgbClr val="000099"/>
                </a:solidFill>
                <a:latin typeface="Rockwell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Rockwell"/>
              </a:rPr>
              <a:t>notify subscribers</a:t>
            </a:r>
            <a:endParaRPr b="0" i="1" lang="en-US" sz="14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Rockwell"/>
              </a:rPr>
              <a:t>terminate issuing certificates and CRLs</a:t>
            </a:r>
            <a:endParaRPr b="0" i="1" lang="en-US" sz="14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Rockwell"/>
              </a:rPr>
              <a:t>generate a new CA key pair</a:t>
            </a:r>
            <a:endParaRPr b="0" i="1" lang="en-US" sz="14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Rockwell"/>
              </a:rPr>
              <a:t>revoke all certificates signed using the compromised key</a:t>
            </a:r>
            <a:endParaRPr b="0" i="1" lang="en-US" sz="14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indefinite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A Certificate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2200" y="1052640"/>
            <a:ext cx="7705800" cy="5256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Version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r>
              <a:rPr b="1" lang="fr-FR" sz="1800" spc="-1" strike="noStrike">
                <a:solidFill>
                  <a:srgbClr val="ff9933"/>
                </a:solidFill>
                <a:latin typeface="Rockwell"/>
              </a:rPr>
              <a:t>3 (0x2)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Serial Number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r>
              <a:rPr b="0" lang="fr-FR" sz="1800" spc="-1" strike="noStrike">
                <a:solidFill>
                  <a:srgbClr val="000099"/>
                </a:solidFill>
                <a:latin typeface="Rockwell"/>
              </a:rPr>
              <a:t>2 (0x2)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Signature Algorithm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r>
              <a:rPr b="0" lang="fr-FR" sz="1800" spc="-1" strike="noStrike">
                <a:solidFill>
                  <a:srgbClr val="000099"/>
                </a:solidFill>
                <a:latin typeface="Rockwell"/>
              </a:rPr>
              <a:t>sha256WithRSAEncryption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Issuer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r>
              <a:rPr b="0" lang="fr-FR" sz="1600" spc="-1" strike="noStrike">
                <a:solidFill>
                  <a:srgbClr val="000099"/>
                </a:solidFill>
                <a:latin typeface="Rockwell"/>
              </a:rPr>
              <a:t>CN=TNGrid CA,O=TNGrid,C=TN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Validity 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Not Before: </a:t>
            </a:r>
            <a:r>
              <a:rPr b="0" lang="pl-PL" sz="1600" spc="-1" strike="noStrike">
                <a:solidFill>
                  <a:srgbClr val="0000cc"/>
                </a:solidFill>
                <a:latin typeface="Rockwell"/>
              </a:rPr>
              <a:t>Dec 16 14:27:25 2011 GMT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Not After : </a:t>
            </a:r>
            <a:r>
              <a:rPr b="0" lang="pl-PL" sz="1600" spc="-1" strike="noStrike">
                <a:solidFill>
                  <a:srgbClr val="0000cc"/>
                </a:solidFill>
                <a:latin typeface="Rockwell"/>
              </a:rPr>
              <a:t>Dec 11 14:27:25 2031 GMT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Subject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r>
              <a:rPr b="0" lang="fr-FR" sz="1800" spc="-1" strike="noStrike">
                <a:solidFill>
                  <a:srgbClr val="000099"/>
                </a:solidFill>
                <a:latin typeface="Rockwell"/>
              </a:rPr>
              <a:t>CN=TNGrid CA,O=TNGrid,C=TN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Rockwell"/>
              </a:rPr>
              <a:t>Subject Public Key Info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: 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Public Key Algorithm: </a:t>
            </a:r>
            <a:r>
              <a:rPr b="0" lang="en-US" sz="1600" spc="-1" strike="noStrike">
                <a:solidFill>
                  <a:srgbClr val="ff9933"/>
                </a:solidFill>
                <a:latin typeface="Rockwell"/>
              </a:rPr>
              <a:t>rsaEncryption 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RSA Public Key: </a:t>
            </a:r>
            <a:r>
              <a:rPr b="1" lang="en-US" sz="1600" spc="-1" strike="noStrike">
                <a:solidFill>
                  <a:srgbClr val="ff9933"/>
                </a:solidFill>
                <a:latin typeface="Rockwell"/>
              </a:rPr>
              <a:t>2048 bit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indefinite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indefinite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A Certificate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95280" y="1257480"/>
            <a:ext cx="8282160" cy="53402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The values of extensions in case of CA certificate are following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Basic Constraints: </a:t>
            </a:r>
            <a:r>
              <a:rPr b="1" lang="en-US" sz="2000" spc="-1" strike="noStrike">
                <a:solidFill>
                  <a:srgbClr val="ff9933"/>
                </a:solidFill>
                <a:latin typeface="Rockwell"/>
              </a:rPr>
              <a:t>critical, CA:TRUE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Key Usage: </a:t>
            </a:r>
            <a:r>
              <a:rPr b="0" lang="fr-FR" sz="2000" spc="-1" strike="noStrike">
                <a:solidFill>
                  <a:srgbClr val="ff9933"/>
                </a:solidFill>
                <a:latin typeface="Rockwell"/>
              </a:rPr>
              <a:t>critical, keyCertSign</a:t>
            </a:r>
            <a:r>
              <a:rPr b="0" lang="en-US" sz="2000" spc="-1" strike="noStrike">
                <a:solidFill>
                  <a:srgbClr val="ff9933"/>
                </a:solidFill>
                <a:latin typeface="Rockwell"/>
              </a:rPr>
              <a:t>, CRL Signing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Subject Key Identifier: </a:t>
            </a:r>
            <a:r>
              <a:rPr b="0" lang="en-US" sz="2000" spc="-1" strike="noStrike">
                <a:solidFill>
                  <a:srgbClr val="ff9933"/>
                </a:solidFill>
                <a:latin typeface="Rockwell"/>
              </a:rPr>
              <a:t>CA key ID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Authority Key Identifier: </a:t>
            </a:r>
            <a:r>
              <a:rPr b="0" lang="fr-FR" sz="2400" spc="-1" strike="noStrike">
                <a:solidFill>
                  <a:srgbClr val="ff9933"/>
                </a:solidFill>
                <a:latin typeface="Rockwell"/>
              </a:rPr>
              <a:t>keyid,issuer</a:t>
            </a:r>
            <a:endParaRPr b="0" i="1" lang="en-US" sz="24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Rockwell"/>
              </a:rPr>
              <a:t>crlDistributionPoints = </a:t>
            </a:r>
            <a:r>
              <a:rPr b="0" lang="fr-FR" sz="2400" spc="-1" strike="noStrike">
                <a:solidFill>
                  <a:srgbClr val="ff9933"/>
                </a:solidFill>
                <a:latin typeface="Rockwell"/>
              </a:rPr>
              <a:t>URI</a:t>
            </a:r>
            <a:endParaRPr b="0" i="1" lang="en-US" sz="24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End Entity Certificates &amp; Key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4360" y="1413000"/>
            <a:ext cx="7775280" cy="4851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Key size &gt;=1024 bits [CP/CPS 6.1.5]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Life time :1 year plus one month (395 days) [CP/CPS 6.3.2]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User certificate must not be shared  [CP/CPS 4.5]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Each entity must generate its key pair [CP/CPS 6.1.1, 6.1.2]</a:t>
            </a:r>
            <a:endParaRPr b="0" i="1" lang="en-US" sz="24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End entity should protect his/her passphrase according to   </a:t>
            </a:r>
            <a:r>
              <a:rPr b="0" lang="ja-JP" sz="2400" spc="-1" strike="noStrike">
                <a:solidFill>
                  <a:srgbClr val="ff0000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Guidelines on Private Key Protection</a:t>
            </a:r>
            <a:r>
              <a:rPr b="0" lang="ja-JP" sz="2400" spc="-1" strike="noStrike">
                <a:solidFill>
                  <a:srgbClr val="ff0000"/>
                </a:solidFill>
                <a:latin typeface="Rockwell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 [CP/CPS 4.1.2]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9280" y="352080"/>
            <a:ext cx="82803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Enrollment process &amp; responsibilitie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68000" y="1267920"/>
            <a:ext cx="8351640" cy="51246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Rockwell"/>
              </a:rPr>
              <a:t>For </a:t>
            </a:r>
            <a:r>
              <a:rPr b="1" lang="en-GB" sz="2600" spc="-1" strike="noStrike">
                <a:solidFill>
                  <a:srgbClr val="ff0000"/>
                </a:solidFill>
                <a:latin typeface="Rockwell"/>
              </a:rPr>
              <a:t>user certificates</a:t>
            </a:r>
            <a:endParaRPr b="0" lang="en-US" sz="2600" spc="-1" strike="noStrike">
              <a:solidFill>
                <a:srgbClr val="000099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User certificate requests is submitted by an online procedure on TNGrid CA secure website (https://www.tngrid.tn/index/ca/), using a web browser.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key pairs are generated by the web browser locally on the user's machine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certificate (public key signed by the CA) can only be downloaded using the same browser, including the key pair, on the same machine, by a secure URL from TNGrid CA website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indefinite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indefinite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611280" y="1196640"/>
            <a:ext cx="8137440" cy="5040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For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host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service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certificat</a:t>
            </a:r>
            <a:r>
              <a:rPr b="1" lang="en-US" sz="2300" spc="-1" strike="noStrike">
                <a:solidFill>
                  <a:srgbClr val="ff0000"/>
                </a:solidFill>
                <a:latin typeface="Rockwell"/>
              </a:rPr>
              <a:t>es</a:t>
            </a:r>
            <a:endParaRPr b="0" lang="en-US" sz="2300" spc="-1" strike="noStrike">
              <a:solidFill>
                <a:srgbClr val="000099"/>
              </a:solidFill>
              <a:latin typeface="Rockwell"/>
            </a:endParaRPr>
          </a:p>
          <a:p>
            <a:pPr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Rockwell"/>
              </a:rPr>
              <a:t>The host or service administrator creates key pair and certificate request file using </a:t>
            </a:r>
            <a:r>
              <a:rPr b="0" i="1" lang="en-US" sz="2100" spc="-1" strike="noStrike">
                <a:solidFill>
                  <a:srgbClr val="000099"/>
                </a:solidFill>
                <a:latin typeface="Rockwell"/>
              </a:rPr>
              <a:t>OpenSSL</a:t>
            </a:r>
            <a:r>
              <a:rPr b="0" lang="en-US" sz="2100" spc="-1" strike="noStrike">
                <a:solidFill>
                  <a:srgbClr val="000099"/>
                </a:solidFill>
                <a:latin typeface="Rockwell"/>
              </a:rPr>
              <a:t> packages, submit certificate request file to the TNGrid CA by a signed e-mail.</a:t>
            </a:r>
            <a:endParaRPr b="0" lang="en-US" sz="2100" spc="-1" strike="noStrike">
              <a:solidFill>
                <a:srgbClr val="000099"/>
              </a:solidFill>
              <a:latin typeface="Rockwell"/>
            </a:endParaRPr>
          </a:p>
          <a:p>
            <a:pPr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Rockwell"/>
              </a:rPr>
              <a:t>The private key is kept by the host or service administrator. </a:t>
            </a:r>
            <a:endParaRPr b="0" lang="en-US" sz="2100" spc="-1" strike="noStrike">
              <a:solidFill>
                <a:srgbClr val="000099"/>
              </a:solidFill>
              <a:latin typeface="Rockwell"/>
            </a:endParaRPr>
          </a:p>
          <a:p>
            <a:pPr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Rockwell"/>
              </a:rPr>
              <a:t>The certificate request will be verified by the appropriate RA</a:t>
            </a:r>
            <a:endParaRPr b="0" lang="en-US" sz="2100" spc="-1" strike="noStrike">
              <a:solidFill>
                <a:srgbClr val="000099"/>
              </a:solidFill>
              <a:latin typeface="Rockwell"/>
            </a:endParaRPr>
          </a:p>
          <a:p>
            <a:pPr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Rockwell"/>
              </a:rPr>
              <a:t>If the request is approved by the RA, the requester will then receive an e-mail, containing his/her certificate or information needed to download using a browser by a secure URL on the TNGrid CA website.</a:t>
            </a:r>
            <a:endParaRPr b="0" lang="en-US" sz="2100" spc="-1" strike="noStrike">
              <a:solidFill>
                <a:srgbClr val="000099"/>
              </a:solidFill>
              <a:latin typeface="Rockwel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280" y="352080"/>
            <a:ext cx="82803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Enrollment process &amp; responsibilitie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indefinite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indefinite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8000" y="439920"/>
            <a:ext cx="7343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Certificate issuance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30280"/>
            <a:ext cx="8507520" cy="46627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certificate request shall be transferred to the machine which holds the private key of TNGrid CA and which is offline.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On this machine the certificate is created and signed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signed certificate shall then be transferred back to the online CA server and an email will be sent to the relevant RA manager informing him/her about the action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lifetime of the certificate is one year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Certificate acceptance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94920" y="1267920"/>
            <a:ext cx="8280360" cy="49690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Rockwell"/>
              </a:rPr>
              <a:t>The subscriber must send an e-mail within 15 days from the day that his/her certificate was issued.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Rockwell"/>
              </a:rPr>
              <a:t>He/she will sign his/her e-mail with issued certificate confirming the acceptance of the certificated his/her adhesion to the policy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Rockwell"/>
              </a:rPr>
              <a:t>Upon receipt of a certificate acceptance the TNGrid CA will make available the certificate on its repository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230040"/>
            <a:ext cx="80647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End Entity Certificates &amp; Key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539280" y="1123920"/>
            <a:ext cx="8425080" cy="54007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The values of extensions in case of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user certificates 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are following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basicConstraints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ritical, CA:FALS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keyUsage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ritical, digitalSignature, keyEncipherment, dataEncipherment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extendedKeyUsage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lientAuth, emailProtection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crlDistributionPoints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URI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certificatePolicies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Your_OID, Authentication_Profile_OID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subjectKeyIdentifier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hash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authorityKeyIdentifier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keyid,issuer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subjectAltName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email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6120" y="354240"/>
            <a:ext cx="7140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TNGrid : Tunisian National Grid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pic>
        <p:nvPicPr>
          <p:cNvPr id="524" name="Image 3" descr="TN-GRID.png"/>
          <p:cNvPicPr/>
          <p:nvPr/>
        </p:nvPicPr>
        <p:blipFill>
          <a:blip r:embed="rId1"/>
          <a:stretch/>
        </p:blipFill>
        <p:spPr>
          <a:xfrm>
            <a:off x="3635280" y="5013360"/>
            <a:ext cx="2140200" cy="1511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395280" y="1339560"/>
            <a:ext cx="8353440" cy="41050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8000"/>
          </a:bodyPr>
          <a:p>
            <a:pPr marL="334440" indent="-3344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TNGrid project is an initiative of the research unit of Technologies of Information and Communication (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UTIC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) at the Higher School of Sciences and Technology of Tunis</a:t>
            </a:r>
            <a:r>
              <a:rPr b="0" i="1" lang="en-US" sz="2400" spc="-1" strike="noStrike">
                <a:solidFill>
                  <a:srgbClr val="000099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ESSTT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) of the University of Tunis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34440" indent="-3344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NGrid offers an open and free Tunisian National Grid for researchers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34440" indent="-3344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e grid computing platform is based on institutional resources and volunteer participations.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34440" indent="-3344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End Entity Certificates &amp; Key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10920" y="1268280"/>
            <a:ext cx="8281800" cy="52675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The values of extensions in case of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host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service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certificates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 are following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basicConstraints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ritical, CA:FALS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keyUsage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ritical, digitalSignature, keyEncipherment, dataEncipherment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extendedKeyUsage = 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clientAuth,</a:t>
            </a: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 </a:t>
            </a:r>
            <a:r>
              <a:rPr b="1" lang="fr-FR" sz="1800" spc="-1" strike="noStrike">
                <a:solidFill>
                  <a:srgbClr val="008000"/>
                </a:solidFill>
                <a:latin typeface="Rockwell"/>
              </a:rPr>
              <a:t>serverAuth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crlDistributionPoints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URI: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certificatePolicies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Your_OID, Authentication_Profile_OID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subjectKeyIdentifier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hash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authorityKeyIdentifier=</a:t>
            </a:r>
            <a:r>
              <a:rPr b="0" lang="fr-FR" sz="1800" spc="-1" strike="noStrike">
                <a:solidFill>
                  <a:srgbClr val="ff6600"/>
                </a:solidFill>
                <a:latin typeface="Rockwell"/>
              </a:rPr>
              <a:t>keyid,issuer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Rockwell"/>
              </a:rPr>
              <a:t>subjectAltName=</a:t>
            </a:r>
            <a:r>
              <a:rPr b="1" lang="fr-FR" sz="1800" spc="-1" strike="noStrike">
                <a:solidFill>
                  <a:srgbClr val="008000"/>
                </a:solidFill>
                <a:latin typeface="Rockwell"/>
              </a:rPr>
              <a:t>DNS: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End Entity Certificates &amp; Key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95280" y="1196640"/>
            <a:ext cx="8424720" cy="51246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Certificate Renewal 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[CP/CPS 4.6]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727920" indent="-2800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TNGrid CA does not permit certificate signing request with the same key as the previous certificate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marL="335880" indent="-3358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Certificate Re-key 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[CP/CPS 4.7.3]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727920" indent="-2800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After a certificate has been revoked, expired, will be expired in one month, or the private key is compromised 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27920" indent="-2800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If the certificate has been revoked, expired, or compromised, it must follow enrolment process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27920" indent="-2800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Rockwell"/>
            </a:endParaRPr>
          </a:p>
          <a:p>
            <a:pPr lvl="1" marL="727920" indent="-2800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marL="335880" indent="-335880">
              <a:lnSpc>
                <a:spcPct val="15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ertificate Revocation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94920" y="1125360"/>
            <a:ext cx="8497800" cy="5328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7000"/>
          </a:bodyPr>
          <a:p>
            <a:pPr marL="332640" indent="-33264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Can be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 requested by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certificate subscriber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any other entity presenting proof of knowledge of: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2" marL="1108440" indent="-221400">
              <a:spcAft>
                <a:spcPts val="601"/>
              </a:spcAft>
              <a:buClr>
                <a:srgbClr val="f1af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2"/>
                </a:solidFill>
                <a:latin typeface="Rockwell"/>
              </a:rPr>
              <a:t>private key compromise</a:t>
            </a:r>
            <a:endParaRPr b="0" lang="en-US" sz="1600" spc="-1" strike="noStrike">
              <a:solidFill>
                <a:srgbClr val="0000cc"/>
              </a:solidFill>
              <a:latin typeface="Rockwell"/>
            </a:endParaRPr>
          </a:p>
          <a:p>
            <a:pPr lvl="2" marL="1108440" indent="-221400">
              <a:spcAft>
                <a:spcPts val="601"/>
              </a:spcAft>
              <a:buClr>
                <a:srgbClr val="f1af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2"/>
                </a:solidFill>
                <a:latin typeface="Rockwell"/>
              </a:rPr>
              <a:t>modification of the subscriber's data</a:t>
            </a:r>
            <a:endParaRPr b="0" lang="en-US" sz="1600" spc="-1" strike="noStrike">
              <a:solidFill>
                <a:srgbClr val="0000cc"/>
              </a:solidFill>
              <a:latin typeface="Rockwell"/>
            </a:endParaRPr>
          </a:p>
          <a:p>
            <a:pPr marL="332640" indent="-33264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A certificate 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will be 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revoked in the following circumstances 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subject of the certificate has ceased being an eligible end entity for certification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subject does not require the certificate any mor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private key has been lost or compromised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information in the certificate is wrong or inaccurat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system to which the certificate has been issued has been retired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20720" indent="-27720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he subject has failed to comply with the rules of TNGrid CP/CPS Policy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ertificate Revocation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68360" y="1197000"/>
            <a:ext cx="8353440" cy="52689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Procedure for Revocation Request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[CP/CPS 4.9.3]</a:t>
            </a:r>
            <a:r>
              <a:rPr b="1" lang="en-US" sz="2400" spc="-1" strike="noStrike">
                <a:solidFill>
                  <a:srgbClr val="000099"/>
                </a:solidFill>
                <a:latin typeface="Rockwell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A revocation request must be made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by the </a:t>
            </a:r>
            <a:r>
              <a:rPr b="1" lang="en-US" sz="2000" spc="-1" strike="noStrike">
                <a:solidFill>
                  <a:srgbClr val="0000cc"/>
                </a:solidFill>
                <a:latin typeface="Rockwell"/>
              </a:rPr>
              <a:t>owner</a:t>
            </a: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 of the certificate in an </a:t>
            </a:r>
            <a:r>
              <a:rPr b="1" lang="en-US" sz="2000" spc="-1" strike="noStrike">
                <a:solidFill>
                  <a:srgbClr val="0000cc"/>
                </a:solidFill>
                <a:latin typeface="Rockwell"/>
              </a:rPr>
              <a:t>e-mail signed </a:t>
            </a: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with the private key associated with the (still not expired) certificate,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Rockwell"/>
              </a:rPr>
              <a:t>on behalf </a:t>
            </a: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of the owner who has lost his/her private key in an </a:t>
            </a:r>
            <a:r>
              <a:rPr b="1" lang="en-US" sz="2000" spc="-1" strike="noStrike">
                <a:solidFill>
                  <a:srgbClr val="0000cc"/>
                </a:solidFill>
                <a:latin typeface="Rockwell"/>
              </a:rPr>
              <a:t>e-mail signed </a:t>
            </a: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by an authorized person of the organization/unit that consented to the certificate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by the RA using a secure web interface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Rockwell"/>
              </a:rPr>
              <a:t>The TNGrid CA must process revocation requests with the highest priority within one working day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[CP/CPS 4.9.5]</a:t>
            </a:r>
            <a:endParaRPr b="0" lang="en-US" sz="1400" spc="-1" strike="noStrike">
              <a:solidFill>
                <a:srgbClr val="000099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ertificate Revocation List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68360" y="981000"/>
            <a:ext cx="8207280" cy="55562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Lifetime is 30 days </a:t>
            </a: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[CP/CPS 4.9.7]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CRL issuance </a:t>
            </a:r>
            <a:r>
              <a:rPr b="1" lang="en-US" sz="1400" spc="-1" strike="noStrike">
                <a:solidFill>
                  <a:srgbClr val="000099"/>
                </a:solidFill>
                <a:latin typeface="Rockwel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[CP/CPS 4.9.7] 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CRLs are issued after every certificate revocation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at least every month, 7 days before the month-long validity of the CRL has expired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Available at online repository: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3" marL="120024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Rockwell"/>
              </a:rPr>
              <a:t>http://www.tngrid.tn/pki/pub/crl/cacrl.crl  </a:t>
            </a:r>
            <a:endParaRPr b="0" i="1" lang="en-US" sz="1600" spc="-1" strike="noStrike">
              <a:solidFill>
                <a:srgbClr val="000099"/>
              </a:solidFill>
              <a:latin typeface="Rockwell"/>
            </a:endParaRPr>
          </a:p>
          <a:p>
            <a:pPr lvl="3" marL="120024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https://www.tngrid.tn/pki/pub/crl/cacrl.pem </a:t>
            </a:r>
            <a:endParaRPr b="0" i="1" lang="en-US" sz="16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Rockwell"/>
              </a:rPr>
              <a:t>Version: </a:t>
            </a:r>
            <a:r>
              <a:rPr b="1" lang="de-DE" sz="1800" spc="-1" strike="noStrike">
                <a:solidFill>
                  <a:srgbClr val="ff0000"/>
                </a:solidFill>
                <a:latin typeface="Rockwell"/>
              </a:rPr>
              <a:t>x509 v3 </a:t>
            </a: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 </a:t>
            </a: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[CP/CPS 7.2] 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0920" y="-15840"/>
            <a:ext cx="784836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ompromise and Disaster Recovery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96360" y="1196640"/>
            <a:ext cx="8496360" cy="51958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If CA private key is (or suspect to be) compromised 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[CP/CPS 5.7.1]: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Inform the RA, subscribers and relying parties of which the CA is awar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erminate the certificates and CRL distribution services for certificates and CRLs issued using the compromised key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Notify relevant security contact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If a RA Operator</a:t>
            </a:r>
            <a:r>
              <a:rPr b="1" lang="fr-FR" sz="2000" spc="-1" strike="noStrike">
                <a:solidFill>
                  <a:srgbClr val="000099"/>
                </a:solidFill>
                <a:latin typeface="Rockwell"/>
              </a:rPr>
              <a:t>’</a:t>
            </a: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s private key is (or suspected to be) compromised </a:t>
            </a:r>
            <a:r>
              <a:rPr b="0" lang="en-US" sz="2000" spc="-1" strike="noStrike">
                <a:solidFill>
                  <a:srgbClr val="000099"/>
                </a:solidFill>
                <a:latin typeface="Rockwell"/>
              </a:rPr>
              <a:t>[CP/CPS 5.7.1]: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the RA Operator or Manager must inform the CA and request the revocation of the RA Operator</a:t>
            </a:r>
            <a:r>
              <a:rPr b="0" lang="fr-FR" sz="1600" spc="-1" strike="noStrike">
                <a:solidFill>
                  <a:srgbClr val="0000cc"/>
                </a:solidFill>
                <a:latin typeface="Rockwell"/>
              </a:rPr>
              <a:t>’</a:t>
            </a:r>
            <a:r>
              <a:rPr b="0" lang="en-US" sz="1600" spc="-1" strike="noStrike">
                <a:solidFill>
                  <a:srgbClr val="0000cc"/>
                </a:solidFill>
                <a:latin typeface="Rockwell"/>
              </a:rPr>
              <a:t>s certificate</a:t>
            </a:r>
            <a:endParaRPr b="0" i="1" lang="en-US" sz="16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If Entity Private Key is compromised </a:t>
            </a:r>
            <a:r>
              <a:rPr b="0" lang="en-US" sz="1800" spc="-1" strike="noStrike">
                <a:solidFill>
                  <a:srgbClr val="000099"/>
                </a:solidFill>
                <a:latin typeface="Rockwell"/>
              </a:rPr>
              <a:t>[CP/CPS 5.7.1]:</a:t>
            </a:r>
            <a:endParaRPr b="0" lang="en-US" sz="1800" spc="-1" strike="noStrike">
              <a:solidFill>
                <a:srgbClr val="000099"/>
              </a:solidFill>
              <a:latin typeface="Rockwel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RA has to be informed immediately in order to start the certificate revocation process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Publication &amp; Repository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95280" y="1125360"/>
            <a:ext cx="8424720" cy="5183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NGrid CA will publish the following information on its website </a:t>
            </a:r>
            <a:r>
              <a:rPr b="0" lang="en-US" sz="2000" spc="-1" strike="noStrike">
                <a:solidFill>
                  <a:srgbClr val="000099"/>
                </a:solidFill>
                <a:latin typeface="Rockwell"/>
              </a:rPr>
              <a:t>[CP/CPS 2.2]: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General information about TNGrid CA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E-mail addresses for inquiries and fault reporting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Mailing address of CA Administration location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TNGrid CA root certificat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PEM format of the TNGrid CA certificate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Issued certificate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Certificate Revocation List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CP/CPS document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his web repository is available 24x7 on a best effort basis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79640" y="230040"/>
            <a:ext cx="663552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Achieved work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66200" y="1125360"/>
            <a:ext cx="8426520" cy="5183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Preparation CP/CPS Document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P/CPS is revised (3 times) by 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Rockwell"/>
              </a:rPr>
              <a:t>Feyza Eryol from TUBITAK ULAKBIM,Turkey</a:t>
            </a:r>
            <a:endParaRPr b="0" i="1" lang="en-US" sz="20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Comments from Fayza were implemented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oftware for CA setup  (both for online and offline CA)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Testing the CA :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Generate CA private key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Issue CA certificate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Issue a user certificate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Issue a host certificate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Online web repository is operational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Image 1" descr="Image 2.png"/>
          <p:cNvPicPr/>
          <p:nvPr/>
        </p:nvPicPr>
        <p:blipFill>
          <a:blip r:embed="rId1"/>
          <a:stretch/>
        </p:blipFill>
        <p:spPr>
          <a:xfrm>
            <a:off x="592200" y="511200"/>
            <a:ext cx="7796160" cy="60134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1763640" y="-27360"/>
            <a:ext cx="5400720" cy="6476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70000"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Verdana"/>
              </a:rPr>
              <a:t>http://www.tngrid.tn/index/ca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179280" y="765000"/>
            <a:ext cx="7632720" cy="648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71000"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595959"/>
                </a:solidFill>
                <a:latin typeface="Verdana"/>
              </a:rPr>
              <a:t>https://www.tngrid.tn/pki/pub/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</p:txBody>
      </p:sp>
      <p:pic>
        <p:nvPicPr>
          <p:cNvPr id="581" name="Image 1" descr="Image 3.png"/>
          <p:cNvPicPr/>
          <p:nvPr/>
        </p:nvPicPr>
        <p:blipFill>
          <a:blip r:embed="rId1"/>
          <a:stretch/>
        </p:blipFill>
        <p:spPr>
          <a:xfrm>
            <a:off x="17640" y="1484280"/>
            <a:ext cx="9151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99640" y="211320"/>
            <a:ext cx="73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TNGrid : Tunisian National Grid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pic>
        <p:nvPicPr>
          <p:cNvPr id="527" name="Image 3" descr="Image 5.png"/>
          <p:cNvPicPr/>
          <p:nvPr/>
        </p:nvPicPr>
        <p:blipFill>
          <a:blip r:embed="rId1"/>
          <a:stretch/>
        </p:blipFill>
        <p:spPr>
          <a:xfrm>
            <a:off x="1044720" y="1052640"/>
            <a:ext cx="6983280" cy="541476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1619280" y="549000"/>
            <a:ext cx="5400720" cy="6476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216000" rIns="198000" tIns="216000" bIns="216000" anchor="t">
            <a:normAutofit fontScale="70000"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http://www.tngrid.tn/</a:t>
            </a:r>
            <a:endParaRPr b="0" lang="en-US" sz="20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52560" y="2876040"/>
            <a:ext cx="6859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 Black"/>
              </a:rPr>
              <a:t>Thanks for your Attention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TNGrid CA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68360" y="981000"/>
            <a:ext cx="8207280" cy="55562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UTIC research unit is involved in grid computing research axis since 2004. 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UTIC research unit is working and is participating in EUMEDGRID projects coordinated by INFN (Italy) since 2006 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We have started as Registration Authority, managed by Mohamed Jemni, with INFN CA and still using INFN CA services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We have prepared to set up the</a:t>
            </a:r>
            <a:r>
              <a:rPr b="0" lang="en-GB" sz="2400" spc="-1" strike="noStrike">
                <a:solidFill>
                  <a:srgbClr val="000099"/>
                </a:solidFill>
                <a:latin typeface="Rockwell"/>
              </a:rPr>
              <a:t> TNGrid CA and to be fully operational  just after our accreditation process with EuGridPMA.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ertificate usage 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24000" y="1125360"/>
            <a:ext cx="8496000" cy="4896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Rockwell"/>
              </a:rPr>
              <a:t>Certificates issued by the TNGrid CA are only valid in the context of scientific activities:</a:t>
            </a:r>
            <a:endParaRPr b="0" lang="en-US" sz="28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Rockwell"/>
              </a:rPr>
              <a:t>User certificates </a:t>
            </a: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can be issued to authenticate the users who benefit from academic and research resources, services and activities.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Rockwell"/>
              </a:rPr>
              <a:t>Host certificates </a:t>
            </a: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can be used for the machines of clusters inside TNGrid 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Rockwell"/>
              </a:rPr>
              <a:t>Service certificates </a:t>
            </a: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can be used to recognize services used inside TNGrid 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33"/>
                </a:solidFill>
                <a:latin typeface="Rockwell"/>
              </a:rPr>
              <a:t>CA Manager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5280" y="1197000"/>
            <a:ext cx="8282160" cy="4751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Rockwell"/>
              </a:rPr>
              <a:t>TNGrid CA will be managed by UTIC which manages TNGrid infrastructure</a:t>
            </a:r>
            <a:endParaRPr b="0" lang="en-US" sz="2600" spc="-1" strike="noStrike">
              <a:solidFill>
                <a:srgbClr val="000099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Rockwell"/>
              </a:rPr>
              <a:t>The Manager of the TNGrid CA is:</a:t>
            </a:r>
            <a:endParaRPr b="0" lang="en-US" sz="2600" spc="-1" strike="noStrike">
              <a:solidFill>
                <a:srgbClr val="000099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    </a:t>
            </a:r>
            <a:r>
              <a:rPr b="1" lang="en-US" sz="2200" spc="-1" strike="noStrike">
                <a:solidFill>
                  <a:srgbClr val="0000cc"/>
                </a:solidFill>
                <a:latin typeface="Rockwell"/>
              </a:rPr>
              <a:t>Mohamed Jemni   </a:t>
            </a: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(mohamed.jemni@fst.rnu.tn)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The alternate representative is: 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lvl="1" marL="735480" indent="-28296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    </a:t>
            </a:r>
            <a:r>
              <a:rPr b="1" lang="en-US" sz="2200" spc="-1" strike="noStrike">
                <a:solidFill>
                  <a:srgbClr val="0000cc"/>
                </a:solidFill>
                <a:latin typeface="Rockwell"/>
              </a:rPr>
              <a:t>Heithem Abbes </a:t>
            </a:r>
            <a:r>
              <a:rPr b="0" lang="en-US" sz="2200" spc="-1" strike="noStrike">
                <a:solidFill>
                  <a:srgbClr val="0000cc"/>
                </a:solidFill>
                <a:latin typeface="Rockwell"/>
              </a:rPr>
              <a:t>(heithem.abbes@esstt.rnu.tn)</a:t>
            </a:r>
            <a:endParaRPr b="0" i="1" lang="en-US" sz="2200" spc="-1" strike="noStrike">
              <a:solidFill>
                <a:srgbClr val="0000cc"/>
              </a:solidFill>
              <a:latin typeface="Rockwell"/>
            </a:endParaRPr>
          </a:p>
          <a:p>
            <a:pPr marL="339480" indent="-33948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P/CP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10920" y="1123920"/>
            <a:ext cx="8064360" cy="11527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 fontScale="75000"/>
          </a:bodyPr>
          <a:p>
            <a:pPr marL="257040" indent="-2570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OID: </a:t>
            </a:r>
            <a:r>
              <a:rPr b="1" lang="en-US" sz="2000" spc="-1" strike="noStrike">
                <a:solidFill>
                  <a:srgbClr val="ff0000"/>
                </a:solidFill>
                <a:latin typeface="Rockwell"/>
              </a:rPr>
              <a:t>1.3.6.1.4.1.37660.1.1.1.0</a:t>
            </a: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[CP/CPS 7.1.6]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marL="257040" indent="-2570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Structured as defined in </a:t>
            </a:r>
            <a:r>
              <a:rPr b="1" lang="en-US" sz="2000" spc="-1" strike="noStrike">
                <a:solidFill>
                  <a:srgbClr val="000099"/>
                </a:solidFill>
                <a:latin typeface="Rockwell"/>
              </a:rPr>
              <a:t>RFC 3647 </a:t>
            </a: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[CP/CPS 1.1]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marL="257040" indent="-257040"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187280" y="2852640"/>
          <a:ext cx="6840720" cy="2592360"/>
        </p:xfrm>
        <a:graphic>
          <a:graphicData uri="http://schemas.openxmlformats.org/drawingml/2006/table">
            <a:tbl>
              <a:tblPr/>
              <a:tblGrid>
                <a:gridCol w="3421080"/>
                <a:gridCol w="341964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OID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1.3.6.1.4.1.37660.1.1.1.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IANA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1.3.6.1.4.1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UTIC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37660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TNGrid CA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.1</a:t>
                      </a:r>
                      <a:endParaRPr b="0" lang="en-US" sz="18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CP/CPS document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.1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6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CP/CPS Version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Rockwell"/>
                          <a:ea typeface="Rockwell"/>
                        </a:rPr>
                        <a:t>1.0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P/CPS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94920" y="1197000"/>
            <a:ext cx="8280360" cy="4896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Policy Administration </a:t>
            </a:r>
            <a:r>
              <a:rPr b="0" lang="en-US" sz="1600" spc="-1" strike="noStrike">
                <a:solidFill>
                  <a:srgbClr val="000099"/>
                </a:solidFill>
                <a:latin typeface="Rockwell"/>
              </a:rPr>
              <a:t>[CP/CPS 1.5]</a:t>
            </a:r>
            <a:endParaRPr b="0" lang="en-US" sz="16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UTIC research unit (ESSTT University) is responsible for the management, registration, maintenance and interpretation of TNGrid CA. It is reachable at: http://www.utic.rnu.tn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All major changes related to policy, technology or security must be approved by TNGRID CA before signing any certificates under the new CP/CPS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Rockwell"/>
              </a:rPr>
              <a:t>All versions will be available at online repository</a:t>
            </a: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https://www.tngrid.tn/pki/pub/ =&gt; 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“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PKI Info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”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 =&gt; 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“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Get CA Policy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”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http://www.tngrid.tn =&gt; 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“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Certification Authority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”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 =&gt; 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“</a:t>
            </a:r>
            <a:r>
              <a:rPr b="0" lang="en-US" sz="1800" spc="-1" strike="noStrike">
                <a:solidFill>
                  <a:srgbClr val="0000cc"/>
                </a:solidFill>
                <a:latin typeface="Rockwell"/>
              </a:rPr>
              <a:t>Policy Document</a:t>
            </a:r>
            <a:r>
              <a:rPr b="0" lang="ja-JP" sz="1800" spc="-1" strike="noStrike">
                <a:solidFill>
                  <a:srgbClr val="0000cc"/>
                </a:solidFill>
                <a:latin typeface="Rockwell"/>
              </a:rPr>
              <a:t>”</a:t>
            </a:r>
            <a:endParaRPr b="0" i="1" lang="en-US" sz="18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79640" y="232560"/>
            <a:ext cx="663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Rockwell"/>
              </a:rPr>
              <a:t>CA System</a:t>
            </a:r>
            <a:endParaRPr b="1" lang="en-US" sz="3200" spc="-1" strike="noStrike">
              <a:solidFill>
                <a:srgbClr val="ff9933"/>
              </a:solidFill>
              <a:latin typeface="Rockwel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50920" y="1041480"/>
            <a:ext cx="8642160" cy="55562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txBody>
          <a:bodyPr lIns="216000" rIns="198000" tIns="216000" bIns="21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Uses 2 dedicated machines:</a:t>
            </a:r>
            <a:endParaRPr b="0" lang="en-US" sz="22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cc"/>
                </a:solidFill>
                <a:latin typeface="Rockwell"/>
              </a:rPr>
              <a:t>One offline signing server (</a:t>
            </a:r>
            <a:r>
              <a:rPr b="1" lang="en-US" sz="1700" spc="-1" strike="noStrike">
                <a:solidFill>
                  <a:srgbClr val="ff0000"/>
                </a:solidFill>
                <a:latin typeface="Rockwell"/>
              </a:rPr>
              <a:t>Offline CA server</a:t>
            </a:r>
            <a:r>
              <a:rPr b="1" lang="en-US" sz="1700" spc="-1" strike="noStrike">
                <a:solidFill>
                  <a:srgbClr val="0000cc"/>
                </a:solidFill>
                <a:latin typeface="Rockwell"/>
              </a:rPr>
              <a:t>)</a:t>
            </a:r>
            <a:endParaRPr b="0" i="1" lang="en-US" sz="17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Intel Core 2 Duo 2,33GHZ, 3GB RAM ;300 GB HD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Operating System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: Debian 5.0.5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Softwar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: OpenCA v1.1.1, OpenSSL V2.0.31, Apache V2.2.9, MySQL v 5.1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cc"/>
                </a:solidFill>
                <a:latin typeface="Rockwell"/>
              </a:rPr>
              <a:t>One online web server (</a:t>
            </a:r>
            <a:r>
              <a:rPr b="1" lang="en-US" sz="1700" spc="-1" strike="noStrike">
                <a:solidFill>
                  <a:srgbClr val="ff0000"/>
                </a:solidFill>
                <a:latin typeface="Rockwell"/>
              </a:rPr>
              <a:t>Online CA server</a:t>
            </a:r>
            <a:r>
              <a:rPr b="1" lang="en-US" sz="1700" spc="-1" strike="noStrike">
                <a:solidFill>
                  <a:srgbClr val="0000cc"/>
                </a:solidFill>
                <a:latin typeface="Rockwell"/>
              </a:rPr>
              <a:t>):</a:t>
            </a:r>
            <a:endParaRPr b="0" i="1" lang="en-US" sz="17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cc"/>
                </a:solidFill>
                <a:latin typeface="Rockwell"/>
              </a:rPr>
              <a:t>https://www.tngrid.tn/pki/pub/ 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: For Subscribers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cc"/>
                </a:solidFill>
                <a:latin typeface="Rockwell"/>
              </a:rPr>
              <a:t>https://www.tngrid.tn/pki/ra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 :For RA Manager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Intel Core 2 Duo 2,33GHZ, 3GB RAM ; 200 GB HD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Operating System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: Debian 5.0.5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2"/>
                </a:solidFill>
                <a:latin typeface="Rockwell"/>
              </a:rPr>
              <a:t>Software</a:t>
            </a:r>
            <a:r>
              <a:rPr b="0" lang="en-US" sz="1500" spc="-1" strike="noStrike">
                <a:solidFill>
                  <a:srgbClr val="000082"/>
                </a:solidFill>
                <a:latin typeface="Rockwell"/>
              </a:rPr>
              <a:t>: OpenCA v1.1.1, OpenSSL V2.0.31, Apache V2.2.9, MySQL v 5.1</a:t>
            </a: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cc"/>
              </a:solidFill>
              <a:latin typeface="Rockwel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1a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Rockwell"/>
              </a:rPr>
              <a:t>Located at Grid Center Room, ESSTT </a:t>
            </a:r>
            <a:endParaRPr b="0" lang="en-US" sz="2200" spc="-1" strike="noStrike">
              <a:solidFill>
                <a:srgbClr val="000099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cc"/>
                </a:solidFill>
                <a:latin typeface="Rockwell"/>
              </a:rPr>
              <a:t>Only CA managers and CA operators can be granted physical access to CA machines</a:t>
            </a:r>
            <a:endParaRPr b="0" i="1" lang="en-US" sz="1700" spc="-1" strike="noStrike">
              <a:solidFill>
                <a:srgbClr val="0000cc"/>
              </a:solidFill>
              <a:latin typeface="Rockwel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cc"/>
                </a:solidFill>
                <a:latin typeface="Rockwell"/>
              </a:rPr>
              <a:t>A secure environment where access is controlled</a:t>
            </a:r>
            <a:endParaRPr b="0" i="1" lang="en-US" sz="1700" spc="-1" strike="noStrike">
              <a:solidFill>
                <a:srgbClr val="0000cc"/>
              </a:solidFill>
              <a:latin typeface="Rockwell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cc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8:57:16Z</dcterms:created>
  <dc:creator>Ghassan SABA</dc:creator>
  <dc:description/>
  <dc:language>en-US</dc:language>
  <cp:lastModifiedBy>Heithem Abbes</cp:lastModifiedBy>
  <dcterms:modified xsi:type="dcterms:W3CDTF">2012-01-17T09:29:40Z</dcterms:modified>
  <cp:revision>602</cp:revision>
  <dc:subject/>
  <dc:title>Presentation of HIAST GRID 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121033</vt:lpwstr>
  </property>
</Properties>
</file>