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6337683-AA39-46A3-BBE3-C38A74168A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0307B99-D374-430F-BE0A-A502D5321C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81A16E1-EEE8-4A77-8AC1-B6ABBA9444F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8596D80-3C3A-4E18-AE3D-E7C8347244D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882925F-51A2-4E5C-8514-EA4F1156F29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36BC644-97BB-4D12-B0DF-960797330EE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2B7E959-9217-4591-9258-4D16263B68A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E2310C5-6D69-4150-AD59-39DA3B5CA99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1EB617B-5DA8-4150-8038-6D93AF69F1E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5BE12FC-1BF1-4417-BE49-4A8102367A8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4CFB752-DDC6-44F0-A28A-1669310C833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EA4158F7-AEF7-4180-83B2-EDB575764FA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F363966-DFA5-476A-A487-D263F543077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r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6-18, 2012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jubljana, Slove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Jožef Stefan Institute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an Jona Javorsek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and the Slovenian NGI!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Dusan for the September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2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 and EVO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811080" y="1996920"/>
            <a:ext cx="772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try to host everything on EVO, but if the desktop sharing does not work well enough, we can switch 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to collaborate on documents - especially during editing sessio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90180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25</a:t>
            </a:r>
            <a:r>
              <a:rPr b="1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1" lang="en-GB" sz="2400" spc="-1" strike="noStrike">
                <a:solidFill>
                  <a:srgbClr val="990000"/>
                </a:solidFill>
                <a:latin typeface="Lucida Sans"/>
              </a:rPr>
              <a:t>Karlsruhe, Ma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AG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an Diego February 9-10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PGridPMA meeting and ISGC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Taipei, TW, Feb 29 – March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4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Oxford, UK, March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ERENA Networking Conference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Reykjavik, May 21-25,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26</a:t>
            </a:r>
            <a:r>
              <a:rPr b="1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1" lang="en-GB" sz="2400" spc="-1" strike="noStrike">
                <a:solidFill>
                  <a:srgbClr val="990000"/>
                </a:solidFill>
                <a:latin typeface="Lucida Sans"/>
              </a:rPr>
              <a:t>Belgrade (tentative), September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7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 t.b.d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28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Lucida Sans"/>
              </a:rPr>
              <a:t>Kyiv (tentative), May 2013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05280" indent="-305280">
              <a:spcBef>
                <a:spcPts val="45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troduction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Josef Stefan Institute, SiGNET, and local inform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ELF-AUDIT STATUS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ending self-audi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87520" y="1295280"/>
            <a:ext cx="85564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-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 new CP/CPS, review by JCR+DoC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Y-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 new CP/CPS, review DG+Ursul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OSA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ing new CP/CPS, review Ursula+Yur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G.ACAD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 – await new CP/CPS, review Edgars+Bo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RGI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waiting new CP/CPS, review Emir+David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altic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will be redone in updat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UCC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presenting now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KeScienc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 – await CP/CPS update, review Willy+Alexe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kIRIS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CP/CPS postponed since many people lef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EGIS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review done, being implement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GridIrelan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needs sending of the new CP/CPS to Nun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Grid –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pending CP/CP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1-15T07:53:37Z</dcterms:modified>
  <cp:revision>593</cp:revision>
  <dc:subject/>
  <dc:title>European Grid Policy Management Authority</dc:title>
</cp:coreProperties>
</file>