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C47A13E-A726-4267-B203-6DF620139C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1AA2874-EBDA-4243-8AC7-5D249E992D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F2AFA0D1-D3FF-4518-ABB7-1BF91115A81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E9AAF5C-EE4C-4CF5-9019-0DB8661F4CA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A4E4AE5-DE98-4703-8BAC-1430CF5754A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C1AAD2F2-8DEF-41FD-9B8A-C6AA460838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73243275-D263-4FB2-BAF3-2FD6443AE4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C6A436D5-1EF4-475A-BA42-63180C1C5A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8A6F9E7-54F5-44F5-A9D9-9C0815ADEA3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BEE9EFA5-9853-4E6B-AD86-8E1F51DD93C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E3D2FE9-E199-4194-9E66-09AE9FD8164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1DB0BF1D-9C05-4863-94EB-3254F4830D2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79C11DE-E0FD-406D-B863-A657097E712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and 3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IGTF All Hand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7-9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arlsruhe, German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Lucida Sans"/>
              </a:rPr>
              <a:t>KIT </a:t>
            </a: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STEINBUCH CENTRE FOR COMPUTING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Ursula Epting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Hardi and Nuno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 via Adob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 September 10-12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5 (and HPDC and EEF AAI FedWS)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Delft , NL, 18-20 June 201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ijmegen, NL, 21-22 June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6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hicago, IL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(to be discussed), January 2012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840" y="690480"/>
            <a:ext cx="9128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960480"/>
            <a:ext cx="913608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:\Users\davidg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0" y="730080"/>
            <a:ext cx="9118440" cy="441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5-06T16:44:20Z</dcterms:modified>
  <cp:revision>595</cp:revision>
  <dc:subject/>
  <dc:title>European Grid Policy Management Authority</dc:title>
</cp:coreProperties>
</file>