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notesMasterIdLst>
    <p:notesMasterId r:id="rId23"/>
  </p:notesMasterIdLst>
  <p:sldIdLst>
    <p:sldId id="256" r:id="rId24"/>
    <p:sldId id="257" r:id="rId25"/>
    <p:sldId id="258" r:id="rId26"/>
    <p:sldId id="259" r:id="rId27"/>
    <p:sldId id="26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notesMaster" Target="notesMasters/notesMaster1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Text Box 9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Text Box 10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59400" cy="341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13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548CD-BE35-47C3-828C-4F80C99A6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C9926E-2D75-4ACF-96A6-11A6BFE38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253D16-D758-41A9-8F72-654076480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Text Box 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BD2864-F470-4856-B155-6922CE576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投影片編號版面配置區 3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185C70-A326-4A3C-AD98-041D9AE2D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投影片編號版面配置區 3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B6BAC6-BA78-450B-AFF0-ED667E5F7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投影片編號版面配置區 3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2640E4-DA14-4773-B53A-9D2BBDE0E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E1EF6-6D84-4F7D-BF24-6A0B002D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1A8D2-ACB0-4D9B-8D6C-F27F7C37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3FA58-1C35-493F-AF5A-414C383C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F9F6E-2E0E-40D2-AA24-5768C626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978B4-28E3-4885-BE98-79A2873D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6F802-4A73-4BB9-B2A8-FA12CFF3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8589E-ECBC-4D19-8BA8-67B1A512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FCB45-9450-4580-B3F0-C6B446EB5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37FC9-DFDD-4D65-8D1C-5462E0EDF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CF9450-EB21-4DFB-BACF-DFA2705A4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D9B4F3-323A-4F7D-98E9-C5D2BD44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2BB961-1A3F-4B58-BCDC-54E5E5EC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AEF2C4-6E2B-4EB2-A1C9-3A7ACA15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F4478B-C930-4DCC-A1AE-2D6B2068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961418-0C75-46C8-BE50-F493D6C6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A1BD9C-38C7-4FF2-89CA-B3A836C1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3A0F33-9183-4174-8C7F-729A442B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6E645A-05AF-4099-B85F-97AE7218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8278D6-A373-4062-AE18-6E63B7EE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80DF10-9897-469D-AFFC-D7CE5256C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D73C73-989C-4A14-98A8-6656288FC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FB1C81-B491-4931-9E0F-AC7F6939AF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28AB56-B5DB-403E-B900-82C84A58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E31F28-1ACC-4340-A990-76C63F5E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421195-0C7B-42F3-8CA6-202405D8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E38CB5-5799-45AF-97F9-2E30384C7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42F48F-4A26-4AEF-B81B-71DD87F0B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F4CEFA-EE1D-4C1B-B960-E5C914AF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95EDE4-8668-4DB9-9B6A-1A8D2F99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B41324-DD26-4AB1-961D-5941B8BD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D40E08-05CB-4A20-9EFC-69A0D0D5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27153A-3173-444B-A895-38D8C857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CA0CF3-1D77-4009-81EB-DF95A113D8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837381-EB7D-45C6-AFA3-F4E3ED9589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61E9D8-0111-4FCA-A891-E3F1ABE2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38390B-7BD8-4583-A131-E51CBBC3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E3214E-78F4-4888-A119-AB5A0829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BB8197-037F-4740-B25E-302D324F6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BAD9BE-1A0D-45C7-8CDA-F2256DD64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20CB02-AA05-4533-A1AE-4AE5A62E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514483-B279-4DEC-8AFB-EFE6BC44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C6AD93-42BE-41F2-B514-A25B6865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FFA7C5-3A7E-4279-AB80-60BCF3A1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2EE4CD-4301-48F7-A2D4-E3F9F070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6E0FE6-CA12-45E4-A0BE-35F803634F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30651-7F0C-4C58-A637-4A66CADEE1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9F14E-C01F-4CD9-A032-F89151D2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164F0-DB89-4D1A-8C07-99BE54EC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D2DDD-A2C3-45CC-846F-2326E61D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CB5C7-EC59-4140-B4E5-42B107E26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71CD4-B553-411F-83E3-C1FFCE3B5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BA81B-9A12-43E3-98AC-74A30967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EFD31-FA2C-4363-9CFB-B5673105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5AD48-636E-422B-AD47-DF37304D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E5A5A-B91F-4686-9568-4C01030D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8A257-C552-4150-9E2E-D6F7F763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ADED3-EDC0-4970-938B-EB82396438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88E3D4-F5A9-427F-BAEA-3DF78CE812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D28A84-FC8C-48D2-8B7C-C4106760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F802C4-0DC6-479A-904B-7EDA560E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ED0B75-F5BD-4CF3-A3BF-28126213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226B40-27D6-42F6-80C2-6B9068200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39E62B-9100-4A3A-8218-A6BCFADE6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846F66-3C23-48D0-9803-16ED187B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D2823B-8A38-4B2F-8B7D-4352BBA3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5B7A7D-78C8-49D5-BDBA-0C39F136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D2BEFF-814C-4607-9B31-D65445F4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A1774F-CE2E-41B0-A518-A76A9AC3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7E1CD1-45CD-4E2C-AF96-960EB9F04B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A795EE-C002-4848-9883-F175D2DAD9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BC3B89-5C23-4EBB-B82D-8BB4B5DD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2B71E9-6167-4FB9-9C4C-14E82B56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4DF119-5BAB-45F0-9F44-C0681135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102B33-0674-479D-A59E-DC1CE3B0A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6D95B3-132D-43C0-89DC-8FC21A2E8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55BDA9-D03A-4AC6-A3CC-B27B204E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ED8566-7622-4673-A0CB-7D59908D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CE31B4-B5B0-4BE3-BB2B-089088B3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6520D4-4A66-4261-9157-8782D5AF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9D5226-151A-49A2-9CDD-ED2B062E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665912-D8E2-47F3-8091-9AEDA3E79C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18E017-813D-454E-9D5E-8158F56E1E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BB5AAD-F499-4BC1-9033-85712EDF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7BD7E1-5F82-49D4-B45D-88F2CB65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F71820-7236-4EBE-B00A-0CD74B77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215727-D825-49B2-8165-9CD1B6AD1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63E66F-97EF-4A51-B096-A38644546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DB3CDE-6BD7-4B05-B7B5-AB7D8D62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355127-ECE8-408F-BEDB-4B320E02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63AF19-600E-4E7A-90E9-D077B00B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FE3002-46A0-42F4-A039-2CA0A199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B9CF94-F66D-4067-B231-B3F6A596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488EC2-AFE8-4DFC-8AC0-5FFA7E9D51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0B49707-D9D8-4E5C-979C-03B4668B84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8C74F81-CFAB-4CF8-9859-D8A0BB2C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63B08A7-396D-47E5-89F0-0DBF2748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58EB6F3-1531-438C-A808-85A02D1B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0969C66-4A38-4D37-AF3C-3AC585193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6203F86-90D4-4DB8-AAD5-F2AD5CDCF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02B3B1B-B0BC-4215-B512-E7560B3F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F7EDA43-1955-4269-A9F9-CD562A8D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81616AF-AA42-4FE8-BB8E-9346F13C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6E8A6E4-C3DC-4992-B290-7209D9B2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7773D31-15F0-40D5-8728-7320438E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6669857-23E5-4A26-922A-7A341AE430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75F172-24DF-4ED8-BF1D-7583D50B4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EB1A3F-989A-43D1-9AFC-BE25B6F6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0B2DDA-112E-47A4-A03E-BB94322B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0E1498-C705-43D5-902C-5AE094AD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22D26A-8DB9-4B5F-BCA7-7EAAAFB0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14664D-5216-4D00-B701-080302B6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74070A-3232-40E9-ADCE-F8C260EA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6EABE0-B7BD-48E0-8A68-0FBC6EDF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C214F6-E185-4CE2-8F2F-9A27386E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BDF3FF-D2C9-4A4A-A89E-41E6179A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AD7C07-8C45-44A8-B744-125D12010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2C8BC5-3FFC-4F77-8CCB-4DB5B5EE7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A14AA6D-21DB-4552-BDD2-30B04E898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E16E105-E519-4640-91CC-9361E00E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81B577F-F57B-481D-86F7-5E991454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E72F6F0-C523-48ED-979B-3BDEBF20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CCE02E6-42AA-41B4-9832-AE43606A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B77D490-A4C3-4EBC-B51D-2B8D28319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6AD8EA7-08CA-4B54-AF9B-07756314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EC4B58B-3E58-4575-BCA7-106010F0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9211883-5082-4DE3-893B-AA891458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5B695BC-71CA-4700-9AF9-DB7DA8DC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FDAFA75-BE02-4D37-8CEC-3E03959B0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F6F6450-00A1-42B5-90EA-E9FF1B4F0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9AEA-86D2-4F7E-B2DF-A70DA2F5A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0985-C0C5-4628-88EE-7DD2F149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8B7A-5A6F-481B-A810-D7C68D49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CC00-9150-4115-95A3-0B71D7DF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6E49-AAC4-4847-8D74-E5518C36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59B8-DD6C-44AA-949B-E10B6FD3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D86F-9457-4615-BE45-3F12F550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670B-DC94-4F48-B9C8-D66FB6DB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55C1-65DD-4B6B-95A6-1115475F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7942-E85F-498D-8080-1320158B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5E03-F7D2-494F-ACAE-388D22B05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5AEB-090C-4D22-AEF4-C533EBCEC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6986-5473-4603-8353-DD9A5C16A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F1A3-9C72-4F31-A5E4-D1766047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8BF6-6BBF-4550-A23B-11B762EA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0B7D-DFDC-4459-9E85-A33CAF6A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381DD-29EF-442F-B4AA-4BCF1811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C560-F4BA-49C7-B5D9-926D8CE3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954C-1AEE-4DC4-8BDF-EF6647C2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460C-23F9-46A0-8496-F9932695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8942-37B9-4A92-9429-9E6647B4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AFCD-7EE7-40AC-9E37-A3A022F8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26A1-5521-4988-AA50-3EBC19AA8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5E61-F8BB-4BFF-BAE0-98807AAA7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69474-E1B2-408F-AC23-D368872A0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26C52-D483-41ED-B645-3611D72D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3BD11-A239-4FA0-8DB5-4CC5177E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286FE-2122-4467-AB4A-8A0AED32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45FA9-2D97-46B3-8274-9331D3AD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BB8B0-629A-4F51-AF00-51547739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7B4C2-B752-4163-8654-7D52964F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BC2C9-A160-4CDF-9066-F2666021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7E7CB-232B-44CB-AA34-26BEAE30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98238-D3A2-4213-9C8F-D4824990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AC11C-183D-44A7-9A96-0AF8FC0BC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60108-F14A-4D40-8D2B-F647717CE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82F56-F45D-4693-A3C3-F07A274CC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76724-F5D4-46B1-9BB6-1648038A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4C20C-B89B-4E01-8EC6-1F747073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DE3C2-1263-4B00-B8AF-B96D7A5B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BC8A8-C4AC-412E-B366-6462E15A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149CF-8B02-4D18-8203-4022A5E4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CFD8A-E236-49A6-808A-1785ABDF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48AA8-F304-4D47-AF8A-3D53203F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28BB6-1702-47F2-9391-7F661427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E4103-F872-41EC-8E49-33672DF1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0124C-E0F2-48B3-B5D5-08D2858AE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B60CF-5A80-4CA0-AF29-876E1D5C1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949F8-F531-4B9F-B3FD-8FB1C9D9C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A4B12-92AC-4CB7-B89B-78DA7088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C3D1B-6D7F-4453-8840-F6BCF252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5280" y="907920"/>
            <a:ext cx="848520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1547640" cy="65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E9B8D8-3B56-4D8E-B1EB-D1D409CF369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7" descr="Slide-Master-Background---Title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6" name="TextBox 4"/>
          <p:cNvSpPr/>
          <p:nvPr/>
        </p:nvSpPr>
        <p:spPr>
          <a:xfrm>
            <a:off x="1676520" y="6545160"/>
            <a:ext cx="581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Arial"/>
                <a:ea typeface="新細明體"/>
              </a:rPr>
              <a:t>sales@digicert.com                 www.digicert.com                 +1 (801) 877-210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Picture 7" descr=""/>
          <p:cNvPicPr/>
          <p:nvPr/>
        </p:nvPicPr>
        <p:blipFill>
          <a:blip r:embed="rId3"/>
          <a:stretch/>
        </p:blipFill>
        <p:spPr>
          <a:xfrm>
            <a:off x="1509840" y="5902200"/>
            <a:ext cx="6135480" cy="64296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"/>
          <p:cNvPicPr/>
          <p:nvPr/>
        </p:nvPicPr>
        <p:blipFill>
          <a:blip r:embed="rId4"/>
          <a:stretch/>
        </p:blipFill>
        <p:spPr>
          <a:xfrm>
            <a:off x="1141560" y="6321600"/>
            <a:ext cx="2592360" cy="44748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7" descr="Slide Master Background - Content 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7" descr="Slide Master Background - Content 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492878-D0CC-4059-AC5E-645961AAF0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7" descr="Slide Master Background - Content 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8" name="Title 1"/>
          <p:cNvSpPr/>
          <p:nvPr/>
        </p:nvSpPr>
        <p:spPr>
          <a:xfrm>
            <a:off x="457200" y="274680"/>
            <a:ext cx="822960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C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1C75C3-6186-4079-AE30-7022CF9E9B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9" descr="Slide Master Background - Content 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0" name="Title 1"/>
          <p:cNvSpPr/>
          <p:nvPr/>
        </p:nvSpPr>
        <p:spPr>
          <a:xfrm>
            <a:off x="457200" y="274680"/>
            <a:ext cx="822960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C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19A051-B7A5-4FF8-9738-7D50397DE7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5" descr="Slide Master Background - Content 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2" name="Title 1"/>
          <p:cNvSpPr/>
          <p:nvPr/>
        </p:nvSpPr>
        <p:spPr>
          <a:xfrm>
            <a:off x="457200" y="274680"/>
            <a:ext cx="822960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C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7D27D7-C35C-4BA0-BF6F-0077A3F879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4" descr="Slide Master Background - Content 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60F410-6E8B-431E-968E-A1E14D603D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7" descr="Slide Master Background - Content 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5" name="Title 1"/>
          <p:cNvSpPr/>
          <p:nvPr/>
        </p:nvSpPr>
        <p:spPr>
          <a:xfrm>
            <a:off x="457200" y="274680"/>
            <a:ext cx="822960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C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E078D5-EF06-4772-BC89-4C5C7610AA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Picture 7" descr="Slide Master Background - Content 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671883-80D3-4E03-A3F4-DBA0CB44E2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95280" y="907920"/>
            <a:ext cx="848520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50920" y="43920"/>
            <a:ext cx="848520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6877080" y="6284880"/>
            <a:ext cx="2266920" cy="573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3"/>
          <a:stretch/>
        </p:blipFill>
        <p:spPr>
          <a:xfrm>
            <a:off x="0" y="6337440"/>
            <a:ext cx="1116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 type="sldNum" idx="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AB8B0E-4BF0-483E-8DB4-94A83A4F83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sldNum" idx="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42B367-4168-436E-AAA1-58A7E1F351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1547640" cy="6555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395280" y="907920"/>
            <a:ext cx="848520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3"/>
          <a:stretch/>
        </p:blipFill>
        <p:spPr>
          <a:xfrm>
            <a:off x="0" y="6134040"/>
            <a:ext cx="1547640" cy="7239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395280" y="907920"/>
            <a:ext cx="848520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50920" y="43920"/>
            <a:ext cx="848520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1285560" y="999720"/>
            <a:ext cx="7715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861a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"/>
          </p:nvPr>
        </p:nvSpPr>
        <p:spPr>
          <a:xfrm>
            <a:off x="1285920" y="6543360"/>
            <a:ext cx="12333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61a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61aa"/>
                </a:solidFill>
                <a:latin typeface="Calibri"/>
              </a:rPr>
              <a:t>10 June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2"/>
          </p:nvPr>
        </p:nvSpPr>
        <p:spPr>
          <a:xfrm>
            <a:off x="2668320" y="6549840"/>
            <a:ext cx="494964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3861aa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861aa"/>
                </a:solidFill>
                <a:latin typeface="Calibri"/>
              </a:rPr>
              <a:t>Federated Identity Management Workshop - Tim B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3"/>
          </p:nvPr>
        </p:nvSpPr>
        <p:spPr>
          <a:xfrm>
            <a:off x="8600760" y="6543360"/>
            <a:ext cx="3999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3861a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7CFE2F-DE80-499A-AEB7-0322C8D6E7AF}" type="slidenum">
              <a:rPr b="0" lang="en-GB" sz="1200" spc="-1" strike="noStrike">
                <a:solidFill>
                  <a:srgbClr val="3861a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31" descr="banner-ITonly"/>
          <p:cNvPicPr/>
          <p:nvPr/>
        </p:nvPicPr>
        <p:blipFill>
          <a:blip r:embed="rId2"/>
          <a:stretch/>
        </p:blipFill>
        <p:spPr>
          <a:xfrm>
            <a:off x="1193760" y="0"/>
            <a:ext cx="7950240" cy="849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1190520" cy="60199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5"/>
          <p:cNvSpPr>
            <a:spLocks noGrp="1"/>
          </p:cNvSpPr>
          <p:nvPr>
            <p:ph type="title"/>
          </p:nvPr>
        </p:nvSpPr>
        <p:spPr>
          <a:xfrm>
            <a:off x="1285560" y="142920"/>
            <a:ext cx="600084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Text Box 34"/>
          <p:cNvSpPr/>
          <p:nvPr/>
        </p:nvSpPr>
        <p:spPr>
          <a:xfrm>
            <a:off x="0" y="6037200"/>
            <a:ext cx="1276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861aa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861aa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861aa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861aa"/>
                </a:solidFill>
                <a:latin typeface="Tahoma"/>
              </a:rPr>
              <a:t>www.cern.ch/i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1285560" y="999720"/>
            <a:ext cx="7715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861a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4"/>
          </p:nvPr>
        </p:nvSpPr>
        <p:spPr>
          <a:xfrm>
            <a:off x="1285920" y="6543360"/>
            <a:ext cx="12333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61a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61aa"/>
                </a:solidFill>
                <a:latin typeface="Calibri"/>
              </a:rPr>
              <a:t>9 June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ftr" idx="5"/>
          </p:nvPr>
        </p:nvSpPr>
        <p:spPr>
          <a:xfrm>
            <a:off x="2668320" y="6549840"/>
            <a:ext cx="494964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61aa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61aa"/>
                </a:solidFill>
                <a:latin typeface="Calibri"/>
              </a:rPr>
              <a:t>Federated Identity Management Workshop - Bob J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sldNum" idx="6"/>
          </p:nvPr>
        </p:nvSpPr>
        <p:spPr>
          <a:xfrm>
            <a:off x="8600760" y="6543360"/>
            <a:ext cx="3999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3861a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C39FD7-4A84-4CE5-BE7A-A5B5C1785025}" type="slidenum">
              <a:rPr b="0" lang="en-GB" sz="1200" spc="-1" strike="noStrike">
                <a:solidFill>
                  <a:srgbClr val="3861a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31" descr="banner-ITonly"/>
          <p:cNvPicPr/>
          <p:nvPr/>
        </p:nvPicPr>
        <p:blipFill>
          <a:blip r:embed="rId2"/>
          <a:stretch/>
        </p:blipFill>
        <p:spPr>
          <a:xfrm>
            <a:off x="1193760" y="0"/>
            <a:ext cx="7950240" cy="8492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1190520" cy="60199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5"/>
          <p:cNvSpPr>
            <a:spLocks noGrp="1"/>
          </p:cNvSpPr>
          <p:nvPr>
            <p:ph type="title"/>
          </p:nvPr>
        </p:nvSpPr>
        <p:spPr>
          <a:xfrm>
            <a:off x="1285560" y="142920"/>
            <a:ext cx="600084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Text Box 34"/>
          <p:cNvSpPr/>
          <p:nvPr/>
        </p:nvSpPr>
        <p:spPr>
          <a:xfrm>
            <a:off x="0" y="6037200"/>
            <a:ext cx="1276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861aa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861aa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861aa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861aa"/>
                </a:solidFill>
                <a:latin typeface="Tahoma"/>
              </a:rPr>
              <a:t>www.cern.ch/i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1285560" y="999720"/>
            <a:ext cx="7715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861a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7"/>
          </p:nvPr>
        </p:nvSpPr>
        <p:spPr>
          <a:xfrm>
            <a:off x="1285920" y="6543360"/>
            <a:ext cx="12333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61a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61aa"/>
                </a:solidFill>
                <a:latin typeface="Calibri"/>
              </a:rPr>
              <a:t>9 June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ftr" idx="8"/>
          </p:nvPr>
        </p:nvSpPr>
        <p:spPr>
          <a:xfrm>
            <a:off x="2668320" y="6549840"/>
            <a:ext cx="494964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61aa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61aa"/>
                </a:solidFill>
                <a:latin typeface="Calibri"/>
              </a:rPr>
              <a:t>Federated Identity Management Workshop - Bob J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9"/>
          </p:nvPr>
        </p:nvSpPr>
        <p:spPr>
          <a:xfrm>
            <a:off x="8600760" y="6543360"/>
            <a:ext cx="3999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3861a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FD04C2-5E4D-419A-99A8-C87026F247BC}" type="slidenum">
              <a:rPr b="0" lang="en-GB" sz="1200" spc="-1" strike="noStrike">
                <a:solidFill>
                  <a:srgbClr val="3861a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31" descr="banner-ITonly"/>
          <p:cNvPicPr/>
          <p:nvPr/>
        </p:nvPicPr>
        <p:blipFill>
          <a:blip r:embed="rId2"/>
          <a:stretch/>
        </p:blipFill>
        <p:spPr>
          <a:xfrm>
            <a:off x="1193760" y="0"/>
            <a:ext cx="7950240" cy="8492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1190520" cy="60199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5"/>
          <p:cNvSpPr>
            <a:spLocks noGrp="1"/>
          </p:cNvSpPr>
          <p:nvPr>
            <p:ph type="title"/>
          </p:nvPr>
        </p:nvSpPr>
        <p:spPr>
          <a:xfrm>
            <a:off x="1285560" y="142920"/>
            <a:ext cx="600084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Text Box 34"/>
          <p:cNvSpPr/>
          <p:nvPr/>
        </p:nvSpPr>
        <p:spPr>
          <a:xfrm>
            <a:off x="0" y="6037200"/>
            <a:ext cx="1276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861aa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861aa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861aa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861aa"/>
                </a:solidFill>
                <a:latin typeface="Tahoma"/>
              </a:rPr>
              <a:t>www.cern.ch/i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2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6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7" name="Group 12"/>
          <p:cNvGrpSpPr/>
          <p:nvPr/>
        </p:nvGrpSpPr>
        <p:grpSpPr>
          <a:xfrm>
            <a:off x="0" y="0"/>
            <a:ext cx="9144000" cy="1044720"/>
            <a:chOff x="0" y="0"/>
            <a:chExt cx="9144000" cy="1044720"/>
          </a:xfrm>
        </p:grpSpPr>
        <p:sp>
          <p:nvSpPr>
            <p:cNvPr id="298" name="Rectangle 4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99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35200" cy="9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Rectangle 6"/>
            <p:cNvSpPr/>
            <p:nvPr/>
          </p:nvSpPr>
          <p:spPr>
            <a:xfrm>
              <a:off x="1619280" y="0"/>
              <a:ext cx="1800000" cy="97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7"/>
            <p:cNvSpPr/>
            <p:nvPr/>
          </p:nvSpPr>
          <p:spPr>
            <a:xfrm>
              <a:off x="1619280" y="0"/>
              <a:ext cx="1800000" cy="97992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124000" y="115560"/>
            <a:ext cx="6840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0"/>
          </p:nvPr>
        </p:nvSpPr>
        <p:spPr>
          <a:xfrm>
            <a:off x="6156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4 Oct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Kelsey/Security Poli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12"/>
          </p:nvPr>
        </p:nvSpPr>
        <p:spPr>
          <a:xfrm>
            <a:off x="7020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B65838-4E8F-4E64-9BD7-E9521203209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7667640" y="658656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egi.e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54000" y="66056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GI-InSPIRE RI-26132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6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6" name="Group 12"/>
          <p:cNvGrpSpPr/>
          <p:nvPr/>
        </p:nvGrpSpPr>
        <p:grpSpPr>
          <a:xfrm>
            <a:off x="0" y="0"/>
            <a:ext cx="9144000" cy="1044720"/>
            <a:chOff x="0" y="0"/>
            <a:chExt cx="9144000" cy="1044720"/>
          </a:xfrm>
        </p:grpSpPr>
        <p:sp>
          <p:nvSpPr>
            <p:cNvPr id="347" name="Rectangle 4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35200" cy="9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Rectangle 6"/>
            <p:cNvSpPr/>
            <p:nvPr/>
          </p:nvSpPr>
          <p:spPr>
            <a:xfrm>
              <a:off x="1619280" y="0"/>
              <a:ext cx="1800000" cy="97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7"/>
            <p:cNvSpPr/>
            <p:nvPr/>
          </p:nvSpPr>
          <p:spPr>
            <a:xfrm>
              <a:off x="1619280" y="0"/>
              <a:ext cx="1800000" cy="97992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24000" y="115560"/>
            <a:ext cx="6840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13"/>
          </p:nvPr>
        </p:nvSpPr>
        <p:spPr>
          <a:xfrm>
            <a:off x="6156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4 Oct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Kelsey/Security Poli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15"/>
          </p:nvPr>
        </p:nvSpPr>
        <p:spPr>
          <a:xfrm>
            <a:off x="7020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21D811-10FF-4DE9-96A8-0DCD7FD17E9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17"/>
          <p:cNvSpPr/>
          <p:nvPr/>
        </p:nvSpPr>
        <p:spPr>
          <a:xfrm>
            <a:off x="7667640" y="658656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egi.e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18"/>
          <p:cNvSpPr/>
          <p:nvPr/>
        </p:nvSpPr>
        <p:spPr>
          <a:xfrm>
            <a:off x="54000" y="66056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GI-InSPIRE RI-26132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Text Box 1"/>
          <p:cNvSpPr/>
          <p:nvPr/>
        </p:nvSpPr>
        <p:spPr>
          <a:xfrm>
            <a:off x="0" y="19810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RA Transferral 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Text Box 2"/>
          <p:cNvSpPr/>
          <p:nvPr/>
        </p:nvSpPr>
        <p:spPr>
          <a:xfrm>
            <a:off x="609480" y="3962520"/>
            <a:ext cx="7921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ric Y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EUGridPMA &amp; IGTF All Hands Me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KIT, Germa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7 May, 20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 Box 1"/>
          <p:cNvSpPr/>
          <p:nvPr/>
        </p:nvSpPr>
        <p:spPr>
          <a:xfrm>
            <a:off x="1447920" y="44280"/>
            <a:ext cx="758808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User/Host Cert and RA have to move out from a CA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Text Box 2"/>
          <p:cNvSpPr/>
          <p:nvPr/>
        </p:nvSpPr>
        <p:spPr>
          <a:xfrm>
            <a:off x="71280" y="907920"/>
            <a:ext cx="8964720" cy="56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0120" indent="-330120">
              <a:lnSpc>
                <a:spcPts val="3087"/>
              </a:lnSpc>
              <a:buSzPct val="102884"/>
              <a:buBlip>
                <a:blip r:embed="rId1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ena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0120">
              <a:lnSpc>
                <a:spcPts val="3087"/>
              </a:lnSpc>
              <a:buSzPct val="102884"/>
              <a:buBlip>
                <a:blip r:embed="rId2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tus/Management Change of 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16000">
              <a:lnSpc>
                <a:spcPts val="3087"/>
              </a:lnSpc>
              <a:buSzPct val="102884"/>
              <a:buBlip>
                <a:blip r:embed="rId3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A is running out it’s fu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16000">
              <a:lnSpc>
                <a:spcPts val="3087"/>
              </a:lnSpc>
              <a:buSzPct val="102884"/>
              <a:buBlip>
                <a:blip r:embed="rId4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GI re-organ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16000">
              <a:lnSpc>
                <a:spcPts val="3087"/>
              </a:lnSpc>
              <a:buSzPct val="102884"/>
              <a:buBlip>
                <a:blip r:embed="rId5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olicy change of the CA Host Instit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0120">
              <a:lnSpc>
                <a:spcPts val="3087"/>
              </a:lnSpc>
              <a:buSzPct val="102884"/>
              <a:buBlip>
                <a:blip r:embed="rId6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ition of RA established before a national C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ts val="3087"/>
              </a:lnSpc>
              <a:buSzPct val="102884"/>
              <a:buBlip>
                <a:blip r:embed="rId7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o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0120">
              <a:lnSpc>
                <a:spcPts val="3087"/>
              </a:lnSpc>
              <a:buSzPct val="102884"/>
              <a:buBlip>
                <a:blip r:embed="rId8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inimize the impact to Users and Grid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0120">
              <a:lnSpc>
                <a:spcPts val="3087"/>
              </a:lnSpc>
              <a:buSzPct val="102884"/>
              <a:buBlip>
                <a:blip r:embed="rId9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Formalize the procedures to CA, User/Host and 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ts val="3087"/>
              </a:lnSpc>
              <a:buSzPct val="102884"/>
              <a:buBlip>
                <a:blip r:embed="rId10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0120">
              <a:lnSpc>
                <a:spcPts val="3087"/>
              </a:lnSpc>
              <a:buSzPct val="102884"/>
              <a:buBlip>
                <a:blip r:embed="rId11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 some case, RA is more stable than CA, as RA is part of the user comm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0120">
              <a:lnSpc>
                <a:spcPts val="3087"/>
              </a:lnSpc>
              <a:buSzPct val="102884"/>
              <a:buBlip>
                <a:blip r:embed="rId12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Good strategy to take advantage of multiple service providers (multiple CAs)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Text Box 1"/>
          <p:cNvSpPr/>
          <p:nvPr/>
        </p:nvSpPr>
        <p:spPr>
          <a:xfrm>
            <a:off x="1447920" y="44280"/>
            <a:ext cx="758808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tus Change of a Production 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9" name=""/>
          <p:cNvGraphicFramePr/>
          <p:nvPr/>
        </p:nvGraphicFramePr>
        <p:xfrm>
          <a:off x="228600" y="1066680"/>
          <a:ext cx="8763120" cy="4875480"/>
        </p:xfrm>
        <a:graphic>
          <a:graphicData uri="http://schemas.openxmlformats.org/drawingml/2006/table">
            <a:tbl>
              <a:tblPr/>
              <a:tblGrid>
                <a:gridCol w="1295280"/>
                <a:gridCol w="1543320"/>
                <a:gridCol w="1542960"/>
                <a:gridCol w="1095480"/>
                <a:gridCol w="1095120"/>
                <a:gridCol w="2190960"/>
              </a:tblGrid>
              <a:tr h="7621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ut of Service for some ti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ransition to another Institu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hutdow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31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oot Key and facility is secure &amp; CRL is in servi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oot Key and facility is secure &amp; CRL is NOT in servi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ame Root Key and Facility ?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New C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933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 Itsel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impac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new issuance is allow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P/guidel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93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impac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-app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-app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933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impac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-app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-app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Text Box 1"/>
          <p:cNvSpPr/>
          <p:nvPr/>
        </p:nvSpPr>
        <p:spPr>
          <a:xfrm>
            <a:off x="1447920" y="44280"/>
            <a:ext cx="758808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User/Host Cert and RA have to transfer to another CA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Text Box 2"/>
          <p:cNvSpPr/>
          <p:nvPr/>
        </p:nvSpPr>
        <p:spPr>
          <a:xfrm>
            <a:off x="71280" y="907920"/>
            <a:ext cx="8964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0120" indent="-330120">
              <a:lnSpc>
                <a:spcPts val="3087"/>
              </a:lnSpc>
              <a:buSzPct val="102884"/>
              <a:buBlip>
                <a:blip r:embed="rId1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ot possible: all have to re-app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ts val="3087"/>
              </a:lnSpc>
              <a:buSzPct val="102884"/>
              <a:buBlip>
                <a:blip r:embed="rId2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ser/Host Ce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0120">
              <a:lnSpc>
                <a:spcPts val="3087"/>
              </a:lnSpc>
              <a:buSzPct val="102884"/>
              <a:buBlip>
                <a:blip r:embed="rId3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he whole process of new application has to be going again ? Or a new cert could be issued with the current ID by another CA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ts val="3087"/>
              </a:lnSpc>
              <a:buSzPct val="102884"/>
              <a:buBlip>
                <a:blip r:embed="rId4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0120">
              <a:lnSpc>
                <a:spcPts val="3087"/>
              </a:lnSpc>
              <a:buSzPct val="102884"/>
              <a:buBlip>
                <a:blip r:embed="rId5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he whole process of new application has to be exercised ? Or a new cert will be issued with the current ID by another CA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ts val="3087"/>
              </a:lnSpc>
              <a:buSzPct val="102884"/>
              <a:buBlip>
                <a:blip r:embed="rId6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ow about having an RA serving multiple CAs 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ts val="3087"/>
              </a:lnSpc>
              <a:buSzPct val="102884"/>
              <a:buBlip>
                <a:blip r:embed="rId7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f the formal procedure/guideline is available ? Anything could be abide by for the moment 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0120">
              <a:lnSpc>
                <a:spcPts val="3087"/>
              </a:lnSpc>
              <a:buSzPct val="102884"/>
              <a:buBlip>
                <a:blip r:embed="rId8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gistration Practices Stat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RPS can be considered as a subordinate document to the C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RPS should use the RFC 3647 Framework of 9 defined areas that mirrors the structure of a CP and/or CPS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llows easy comparisons of the relative policy and practice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s completeness of the material cov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applicable areas of RFC 3647 for an RPS can be designated as s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1"/>
          <p:cNvSpPr/>
          <p:nvPr/>
        </p:nvSpPr>
        <p:spPr>
          <a:xfrm>
            <a:off x="0" y="0"/>
            <a:ext cx="54100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f RPS is a good solution 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00:41:55Z</dcterms:created>
  <dc:creator>David Groep</dc:creator>
  <dc:description/>
  <dc:language>en-US</dc:language>
  <cp:lastModifiedBy>Eric Yen</cp:lastModifiedBy>
  <dcterms:modified xsi:type="dcterms:W3CDTF">2012-05-08T08:43:51Z</dcterms:modified>
  <cp:revision>302</cp:revision>
  <dc:subject/>
  <dc:title>International Grid Trust Federation Session  GGF 18 Washington, DC, USA</dc:title>
</cp:coreProperties>
</file>