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9213b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9213b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AC8F3-E742-4C86-B994-C2EFB9301120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2E4A1-5476-470B-8867-9BBB3113AE5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04BAE-AC08-450E-84F1-DB8AD6B454E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FE0A8-9427-4DD8-8F82-06E312E6AD5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5682D-E264-4E45-821E-624A76A8592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6639F-6A73-477F-9136-004A47B0F76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0C41B-900E-48D0-BFCF-0FAE87A24CC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24658-C1A7-40D6-8232-E8745110EB9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9213b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08880"/>
            <a:ext cx="822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9213b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9213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842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842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088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088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088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A410-09F9-4C4E-8C4C-237F1E071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9213b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1CE2-7A05-4839-A04C-FDEAF7014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9213b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1993-FCED-4011-8D4D-04D4FD46E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9213b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7EC1-3055-4A32-9874-F4A896401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9213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8650-E169-4632-BD5C-BEBA16AE8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050560" y="274320"/>
            <a:ext cx="663588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08E0-6F41-42D3-A814-4FD69CD94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9213b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19C6-2CA4-40C8-8586-9E7F030BA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9213b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9213b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E295-1669-4341-8404-FAEA92C74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9213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08880"/>
            <a:ext cx="822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A9A4-D2D5-41EF-B91C-6958B9101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9213b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08880"/>
            <a:ext cx="822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ECD5-EEAF-4217-9166-6A96A53C6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9213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DB87-2560-44D2-8DBB-F813FCDD1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9213b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4842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4842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088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088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088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24EE-B265-4AF2-A066-60A7A37C5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9213b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9213b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9213b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050560" y="274320"/>
            <a:ext cx="663588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9213b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9213b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9213b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08880"/>
            <a:ext cx="822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9213b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9213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Line 8"/>
          <p:cNvSpPr/>
          <p:nvPr/>
        </p:nvSpPr>
        <p:spPr>
          <a:xfrm>
            <a:off x="1187280" y="981000"/>
            <a:ext cx="6697800" cy="0"/>
          </a:xfrm>
          <a:prstGeom prst="line">
            <a:avLst/>
          </a:prstGeom>
          <a:ln w="284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6"/>
          <p:cNvSpPr/>
          <p:nvPr/>
        </p:nvSpPr>
        <p:spPr>
          <a:xfrm>
            <a:off x="6516720" y="62373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E6513-5816-45C6-A00E-9259B4CEDC27}" type="slidenum">
              <a:rPr b="1" lang="en-GB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18" descr="TAGPMA-med"/>
          <p:cNvPicPr/>
          <p:nvPr/>
        </p:nvPicPr>
        <p:blipFill>
          <a:blip r:embed="rId2"/>
          <a:stretch/>
        </p:blipFill>
        <p:spPr>
          <a:xfrm>
            <a:off x="179280" y="189000"/>
            <a:ext cx="1654200" cy="1128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1" descr="TAGPMA-med"/>
          <p:cNvPicPr/>
          <p:nvPr/>
        </p:nvPicPr>
        <p:blipFill>
          <a:blip r:embed="rId2"/>
          <a:stretch/>
        </p:blipFill>
        <p:spPr>
          <a:xfrm>
            <a:off x="324000" y="260280"/>
            <a:ext cx="2011320" cy="13716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9213b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9213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3BEEF-D238-45DE-87B3-6B180F0CE052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dsimmel@psc.edu" TargetMode="External"/><Relationship Id="rId2" Type="http://schemas.openxmlformats.org/officeDocument/2006/relationships/hyperlink" Target="mailto:Scott@DigiCert.com" TargetMode="External"/><Relationship Id="rId3" Type="http://schemas.openxmlformats.org/officeDocument/2006/relationships/hyperlink" Target="mailto:astolk@ula.ve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igtf.net/" TargetMode="External"/><Relationship Id="rId2" Type="http://schemas.openxmlformats.org/officeDocument/2006/relationships/hyperlink" Target="http://www.tagpm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9280" y="2923920"/>
            <a:ext cx="554508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3200" spc="-1" strike="noStrike">
                <a:solidFill>
                  <a:srgbClr val="ff0000"/>
                </a:solidFill>
                <a:latin typeface="Impact"/>
              </a:rPr>
              <a:t> </a:t>
            </a:r>
            <a:r>
              <a:rPr b="0" lang="en-US" sz="3200" spc="-1" strike="noStrike">
                <a:solidFill>
                  <a:srgbClr val="09213b"/>
                </a:solidFill>
                <a:latin typeface="Impact"/>
              </a:rPr>
              <a:t>TAGPMA Update</a:t>
            </a:r>
            <a:br>
              <a:rPr sz="3200"/>
            </a:br>
            <a:r>
              <a:rPr b="0" lang="en-GB" sz="2800" spc="-1" strike="noStrike">
                <a:solidFill>
                  <a:srgbClr val="0000ff"/>
                </a:solidFill>
                <a:latin typeface="Impact"/>
              </a:rPr>
              <a:t>Derek Simmel</a:t>
            </a:r>
            <a:br>
              <a:rPr sz="2800"/>
            </a:br>
            <a:endParaRPr b="0" lang="en-US" sz="2800" spc="-1" strike="noStrike">
              <a:solidFill>
                <a:srgbClr val="09213b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68360" y="4941720"/>
            <a:ext cx="798336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8000"/>
                </a:solidFill>
                <a:latin typeface="Impact"/>
              </a:rPr>
              <a:t>25</a:t>
            </a:r>
            <a:r>
              <a:rPr b="0" lang="en-GB" sz="2800" spc="-1" strike="noStrike" baseline="30000">
                <a:solidFill>
                  <a:srgbClr val="008000"/>
                </a:solidFill>
                <a:latin typeface="Impact"/>
              </a:rPr>
              <a:t>th</a:t>
            </a:r>
            <a:r>
              <a:rPr b="0" lang="en-GB" sz="2800" spc="-1" strike="noStrike">
                <a:solidFill>
                  <a:srgbClr val="008000"/>
                </a:solidFill>
                <a:latin typeface="Impact"/>
              </a:rPr>
              <a:t> EUGridPMA / IGTF All-Hands Meeting</a:t>
            </a:r>
            <a:br>
              <a:rPr sz="2800"/>
            </a:br>
            <a:r>
              <a:rPr b="0" lang="en-GB" sz="2800" spc="-1" strike="noStrike">
                <a:solidFill>
                  <a:srgbClr val="008000"/>
                </a:solidFill>
                <a:latin typeface="Impact"/>
              </a:rPr>
              <a:t>Karlsruhe, German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Impact"/>
              </a:rPr>
              <a:t>May 7-9, 201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2" name="Group 4"/>
          <p:cNvGrpSpPr/>
          <p:nvPr/>
        </p:nvGrpSpPr>
        <p:grpSpPr>
          <a:xfrm>
            <a:off x="4572000" y="765000"/>
            <a:ext cx="3527280" cy="1287000"/>
            <a:chOff x="4572000" y="765000"/>
            <a:chExt cx="3527280" cy="1287000"/>
          </a:xfrm>
        </p:grpSpPr>
        <p:sp>
          <p:nvSpPr>
            <p:cNvPr id="93" name="WordArt 5"/>
            <p:cNvSpPr txBox="1"/>
            <p:nvPr/>
          </p:nvSpPr>
          <p:spPr>
            <a:xfrm>
              <a:off x="4626000" y="765000"/>
              <a:ext cx="21812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TAGPMA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94" name="Text Box 6"/>
            <p:cNvSpPr/>
            <p:nvPr/>
          </p:nvSpPr>
          <p:spPr>
            <a:xfrm>
              <a:off x="4572000" y="1409400"/>
              <a:ext cx="3527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 Americas Grid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olicy Management Authority</a:t>
              </a: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Leadership</a:t>
            </a:r>
            <a:endParaRPr b="0" lang="en-US" sz="3200" spc="-1" strike="noStrike">
              <a:solidFill>
                <a:srgbClr val="09213b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43588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244a5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44a58"/>
                </a:solidFill>
                <a:latin typeface="Verdana"/>
              </a:rPr>
              <a:t>Current Offic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244a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44a58"/>
                </a:solidFill>
                <a:latin typeface="Verdana"/>
              </a:rPr>
              <a:t>Chair: </a:t>
            </a:r>
            <a:r>
              <a:rPr b="0" lang="en-US" sz="2000" spc="-1" strike="noStrike">
                <a:solidFill>
                  <a:srgbClr val="244a58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244a58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244a58"/>
                </a:solidFill>
                <a:latin typeface="Verdana"/>
              </a:rPr>
              <a:t>Derek Simmel</a:t>
            </a:r>
            <a:r>
              <a:rPr b="0" lang="en-US" sz="2000" spc="-1" strike="noStrike">
                <a:solidFill>
                  <a:srgbClr val="244a58"/>
                </a:solidFill>
                <a:latin typeface="Verdana"/>
              </a:rPr>
              <a:t> (PSC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a5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244a5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244a58"/>
                </a:solidFill>
                <a:latin typeface="Verdana"/>
              </a:rPr>
              <a:t>	</a:t>
            </a:r>
            <a:r>
              <a:rPr b="0" lang="en-US" sz="1800" spc="-1" strike="noStrike" u="sng">
                <a:solidFill>
                  <a:srgbClr val="7030a0"/>
                </a:solidFill>
                <a:uFillTx/>
                <a:latin typeface="Verdana"/>
                <a:hlinkClick r:id="rId1"/>
              </a:rPr>
              <a:t>dsimmel@psc.edu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244a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44a58"/>
                </a:solidFill>
                <a:latin typeface="Verdana"/>
              </a:rPr>
              <a:t>Vice Chair:</a:t>
            </a:r>
            <a:r>
              <a:rPr b="0" lang="en-US" sz="2000" spc="-1" strike="noStrike">
                <a:solidFill>
                  <a:srgbClr val="244a58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244a58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244a58"/>
                </a:solidFill>
                <a:latin typeface="Verdana"/>
              </a:rPr>
              <a:t>Scott Rea</a:t>
            </a:r>
            <a:r>
              <a:rPr b="0" lang="en-US" sz="2000" spc="-1" strike="noStrike">
                <a:solidFill>
                  <a:srgbClr val="244a58"/>
                </a:solidFill>
                <a:latin typeface="Verdana"/>
              </a:rPr>
              <a:t> (DigiCert + REBCA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a5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244a5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244a58"/>
                </a:solidFill>
                <a:latin typeface="Verdana"/>
              </a:rPr>
              <a:t>	</a:t>
            </a:r>
            <a:r>
              <a:rPr b="0" lang="en-US" sz="1800" spc="-1" strike="noStrike" u="sng">
                <a:solidFill>
                  <a:srgbClr val="7030a0"/>
                </a:solidFill>
                <a:uFillTx/>
                <a:latin typeface="Verdana"/>
                <a:hlinkClick r:id="rId2"/>
              </a:rPr>
              <a:t>Scott@DigiCert.co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244a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44a58"/>
                </a:solidFill>
                <a:latin typeface="Verdana"/>
              </a:rPr>
              <a:t>Secretary(s): </a:t>
            </a:r>
            <a:r>
              <a:rPr b="0" lang="en-US" sz="2000" spc="-1" strike="noStrike">
                <a:solidFill>
                  <a:srgbClr val="244a58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244a58"/>
                </a:solidFill>
                <a:latin typeface="Verdana"/>
              </a:rPr>
              <a:t>Ale Stolk</a:t>
            </a:r>
            <a:r>
              <a:rPr b="0" lang="en-US" sz="2000" spc="-1" strike="noStrike">
                <a:solidFill>
                  <a:srgbClr val="244a58"/>
                </a:solidFill>
                <a:latin typeface="Verdana"/>
              </a:rPr>
              <a:t> (ULAGrid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a5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244a5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244a58"/>
                </a:solidFill>
                <a:latin typeface="Verdana"/>
              </a:rPr>
              <a:t>	</a:t>
            </a:r>
            <a:r>
              <a:rPr b="0" lang="en-US" sz="1800" spc="-1" strike="noStrike" u="sng">
                <a:solidFill>
                  <a:srgbClr val="7030a0"/>
                </a:solidFill>
                <a:uFillTx/>
                <a:latin typeface="Verdana"/>
                <a:hlinkClick r:id="rId3"/>
              </a:rPr>
              <a:t>astolk@ula.v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Current Membership</a:t>
            </a:r>
            <a:endParaRPr b="0" lang="en-US" sz="3200" spc="-1" strike="noStrike">
              <a:solidFill>
                <a:srgbClr val="09213b"/>
              </a:solidFill>
              <a:latin typeface="Verdana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177920" y="1011240"/>
          <a:ext cx="7066080" cy="5586480"/>
        </p:xfrm>
        <a:graphic>
          <a:graphicData uri="http://schemas.openxmlformats.org/drawingml/2006/table">
            <a:tbl>
              <a:tblPr/>
              <a:tblGrid>
                <a:gridCol w="1666800"/>
                <a:gridCol w="1656000"/>
                <a:gridCol w="2158920"/>
                <a:gridCol w="1584360"/>
              </a:tblGrid>
              <a:tr h="304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rganiz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e2751d"/>
                      </a:solidFill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e2751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unt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e2751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spresentat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e2751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P/R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e2751d"/>
                      </a:solidFill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e2751d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giCe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e2751d"/>
                      </a:solidFill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cott Re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e2751d"/>
                      </a:solidFill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SN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e2751d"/>
                      </a:solidFill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ike Helm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e2751d"/>
                      </a:solidFill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620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ridCan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e2751d"/>
                      </a:solidFill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n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oger Impey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e2751d"/>
                      </a:solidFill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BDS ANS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e2751d"/>
                      </a:solidFill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raz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rgio Lietti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e2751d"/>
                      </a:solidFill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C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e2751d"/>
                      </a:solidFill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eve Bea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e2751d"/>
                      </a:solidFill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C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e2751d"/>
                      </a:solidFill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im Basney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e2751d"/>
                      </a:solidFill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620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ERS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e2751d"/>
                      </a:solidFill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reyas Choli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e2751d"/>
                      </a:solidFill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IC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e2751d"/>
                      </a:solidFill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ictor Hazlewoo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e2751d"/>
                      </a:solidFill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S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e2751d"/>
                      </a:solidFill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rek Simme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e2751d"/>
                      </a:solidFill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U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e2751d"/>
                      </a:solidFill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i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andra Jaqu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e2751d"/>
                      </a:solidFill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DS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e2751d"/>
                      </a:solidFill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cott Sakai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e2751d"/>
                      </a:solidFill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</a:tr>
              <a:tr h="19620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NAMH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e2751d"/>
                      </a:solidFill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tto Huiman Carrasc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e2751d"/>
                      </a:solidFill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C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e2751d"/>
                      </a:solidFill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athaniel Mendoz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e2751d"/>
                      </a:solidFill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F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e2751d"/>
                      </a:solidFill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raz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inod Rebell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e2751d"/>
                      </a:solidFill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LAGri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e2751d"/>
                      </a:solidFill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nezuel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ejandra Stolk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e2751d"/>
                      </a:solidFill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</a:tr>
              <a:tr h="19620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A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e2751d"/>
                      </a:solidFill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xi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uben Aquin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e2751d"/>
                      </a:solidFill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IAND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e2751d"/>
                      </a:solidFill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lomb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dres Holgui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e2751d"/>
                      </a:solidFill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L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e2751d"/>
                      </a:solidFill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enti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ula Venos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e2751d"/>
                      </a:solidFill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N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e2751d"/>
                      </a:solidFill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rwin Gaine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e2751d"/>
                      </a:solidFill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iSel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e2751d"/>
                      </a:solidFill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inod Rebell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e2751d"/>
                      </a:solidFill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620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I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e2751d"/>
                      </a:solidFill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bbie Bucci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e2751d"/>
                      </a:solidFill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S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e2751d"/>
                      </a:solidFill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ine Altunay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e2751d"/>
                      </a:solidFill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B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e2751d"/>
                      </a:solidFill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cott Re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e2751d"/>
                      </a:solidFill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URAGri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e2751d"/>
                      </a:solidFill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erry Perez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e2751d"/>
                      </a:solidFill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620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Gri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e2751d"/>
                      </a:solidFill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an Sil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e2751d"/>
                      </a:solidFill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LC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e2751d"/>
                      </a:solidFill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witzerlan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ave Kelsey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e2751d"/>
                      </a:solidFill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SE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e2751d"/>
                      </a:solidFill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im Marstelle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e2751d"/>
                      </a:solidFill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Current TAGPMA Membership</a:t>
            </a:r>
            <a:endParaRPr b="0" lang="en-US" sz="3200" spc="-1" strike="noStrike">
              <a:solidFill>
                <a:srgbClr val="09213b"/>
              </a:solidFill>
              <a:latin typeface="Verdan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349"/>
              </a:spcBef>
              <a:buClr>
                <a:srgbClr val="244a5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44a58"/>
                </a:solidFill>
                <a:latin typeface="Verdana"/>
              </a:rPr>
              <a:t>27 Members from North, Central and South Americ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349"/>
              </a:spcBef>
              <a:buClr>
                <a:srgbClr val="244a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44a58"/>
                </a:solidFill>
                <a:latin typeface="Verdana"/>
              </a:rPr>
              <a:t>Covering Canada, US, Mexico, Venezuela, Chile, Peru Argentina, Brazil, and Colombia. Two Catchall CAs cover the remaining countri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349"/>
              </a:spcBef>
              <a:buClr>
                <a:srgbClr val="244a5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44a58"/>
                </a:solidFill>
                <a:latin typeface="Verdana"/>
              </a:rPr>
              <a:t>23 IGTF Accredited CA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349"/>
              </a:spcBef>
              <a:buClr>
                <a:srgbClr val="244a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44a58"/>
                </a:solidFill>
                <a:latin typeface="Verdana"/>
              </a:rPr>
              <a:t>13 Classic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300"/>
              </a:spcBef>
              <a:buClr>
                <a:srgbClr val="244a58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44a58"/>
                </a:solidFill>
                <a:latin typeface="Verdana"/>
              </a:rPr>
              <a:t>DigiCert(2) – US, TACC - US, UFF BrGrid &amp; UFF LACGrid - Brazil, ANSPGrid – Brazil, UNLPGrid - Argentina, REUNA – Chile, ULAGrid – Venezuela, GridCanada, UNAM – Mexico, UNIANDES - Colombia.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300"/>
              </a:spcBef>
              <a:buClr>
                <a:srgbClr val="244a58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44a58"/>
                </a:solidFill>
                <a:latin typeface="Verdana"/>
              </a:rPr>
              <a:t>NOTE: DOE Grid accredited by EUGridPM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349"/>
              </a:spcBef>
              <a:buClr>
                <a:srgbClr val="244a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44a58"/>
                </a:solidFill>
                <a:latin typeface="Verdana"/>
              </a:rPr>
              <a:t>7 SLCS (NCSA x 3, FermiLabs, NERSC, PSC, NICS UTK - U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349"/>
              </a:spcBef>
              <a:buClr>
                <a:srgbClr val="244a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44a58"/>
                </a:solidFill>
                <a:latin typeface="Verdana"/>
              </a:rPr>
              <a:t>3 MICS (NCSA - US, CILogin - US and TACC - U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349"/>
              </a:spcBef>
              <a:buClr>
                <a:srgbClr val="244a5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44a58"/>
                </a:solidFill>
                <a:latin typeface="Verdana"/>
              </a:rPr>
              <a:t>2 CAs in-process, pending accredit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349"/>
              </a:spcBef>
              <a:buClr>
                <a:srgbClr val="244a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44a58"/>
                </a:solidFill>
                <a:latin typeface="Verdana"/>
              </a:rPr>
              <a:t>1 Classic pending (SENAMHI – Peru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349"/>
              </a:spcBef>
              <a:buClr>
                <a:srgbClr val="244a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44a58"/>
                </a:solidFill>
                <a:latin typeface="Verdana"/>
              </a:rPr>
              <a:t>1 MICS pending (SDSC – US)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349"/>
              </a:spcBef>
              <a:buClr>
                <a:srgbClr val="244a5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44a58"/>
                </a:solidFill>
                <a:latin typeface="Verdana"/>
              </a:rPr>
              <a:t>7 Relying Parti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349"/>
              </a:spcBef>
              <a:buClr>
                <a:srgbClr val="244a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44a58"/>
                </a:solidFill>
                <a:latin typeface="Verdana"/>
              </a:rPr>
              <a:t>(OSG, XSEDE, THEgrid, LCG, REBCA, NIH, SURA Grid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349"/>
              </a:spcBef>
              <a:buClr>
                <a:srgbClr val="244a5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44a58"/>
                </a:solidFill>
                <a:latin typeface="Verdana"/>
              </a:rPr>
              <a:t>2 CAs accredited since last F2F in February, 2012 at SCSC, La Jolla, CA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349"/>
              </a:spcBef>
              <a:buClr>
                <a:srgbClr val="244a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44a58"/>
                </a:solidFill>
                <a:latin typeface="Verdana"/>
              </a:rPr>
              <a:t>NCSA Two-Factor CA – U.S. – SLC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349"/>
              </a:spcBef>
              <a:buClr>
                <a:srgbClr val="244a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44a58"/>
                </a:solidFill>
                <a:latin typeface="Verdana"/>
              </a:rPr>
              <a:t>ANSPGrid CA – Brazil – Classic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349"/>
              </a:spcBef>
              <a:buClr>
                <a:srgbClr val="244a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Communication Infrastructure</a:t>
            </a:r>
            <a:endParaRPr b="0" lang="en-US" sz="3200" spc="-1" strike="noStrike">
              <a:solidFill>
                <a:srgbClr val="09213b"/>
              </a:solidFill>
              <a:latin typeface="Verdan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51"/>
              </a:spcBef>
              <a:buClr>
                <a:srgbClr val="244a5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a58"/>
                </a:solidFill>
                <a:latin typeface="Verdana"/>
              </a:rPr>
              <a:t>IGTF Website </a:t>
            </a:r>
            <a:r>
              <a:rPr b="0" lang="en-US" sz="1800" spc="-1" strike="noStrike" u="sng">
                <a:solidFill>
                  <a:srgbClr val="7030a0"/>
                </a:solidFill>
                <a:uFillTx/>
                <a:latin typeface="Verdana"/>
                <a:hlinkClick r:id="rId1"/>
              </a:rPr>
              <a:t>http://www.igtf.ne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451"/>
              </a:spcBef>
              <a:buClr>
                <a:srgbClr val="244a5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451"/>
              </a:spcBef>
              <a:buClr>
                <a:srgbClr val="244a5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a58"/>
                </a:solidFill>
                <a:latin typeface="Verdana"/>
              </a:rPr>
              <a:t>TAGPMA Website </a:t>
            </a:r>
            <a:r>
              <a:rPr b="0" lang="en-US" sz="1800" spc="-1" strike="noStrike" u="sng">
                <a:solidFill>
                  <a:srgbClr val="7030a0"/>
                </a:solidFill>
                <a:uFillTx/>
                <a:latin typeface="Verdana"/>
                <a:hlinkClick r:id="rId2"/>
              </a:rPr>
              <a:t>http://www.tagpma.org</a:t>
            </a:r>
            <a:r>
              <a:rPr b="0" lang="en-US" sz="1800" spc="-1" strike="noStrike">
                <a:solidFill>
                  <a:srgbClr val="244a58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451"/>
              </a:spcBef>
              <a:buClr>
                <a:srgbClr val="244a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a58"/>
                </a:solidFill>
                <a:latin typeface="Verdana"/>
              </a:rPr>
              <a:t>Hosts static, public information &amp; profil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451"/>
              </a:spcBef>
              <a:buClr>
                <a:srgbClr val="244a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44a58"/>
                </a:solidFill>
                <a:latin typeface="Verdana"/>
              </a:rPr>
              <a:t>Overhaul overdue </a:t>
            </a:r>
            <a:r>
              <a:rPr b="0" lang="en-US" sz="1800" spc="-1" strike="noStrike">
                <a:solidFill>
                  <a:srgbClr val="244a58"/>
                </a:solidFill>
                <a:latin typeface="Wingdings"/>
                <a:ea typeface="Wingdings"/>
              </a:rPr>
              <a:t></a:t>
            </a:r>
            <a:r>
              <a:rPr b="0" lang="en-US" sz="1800" spc="-1" strike="noStrike">
                <a:solidFill>
                  <a:srgbClr val="244a58"/>
                </a:solidFill>
                <a:latin typeface="Verdana"/>
              </a:rPr>
              <a:t> - plan to have it done by August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451"/>
              </a:spcBef>
              <a:buClr>
                <a:srgbClr val="244a5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451"/>
              </a:spcBef>
              <a:buClr>
                <a:srgbClr val="244a5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a58"/>
                </a:solidFill>
                <a:latin typeface="Verdana"/>
              </a:rPr>
              <a:t>TAGPMA twiki </a:t>
            </a:r>
            <a:r>
              <a:rPr b="0" lang="en-GB" sz="1800" spc="-1" strike="noStrike">
                <a:solidFill>
                  <a:srgbClr val="244a58"/>
                </a:solidFill>
                <a:latin typeface="Verdana"/>
              </a:rPr>
              <a:t>http(s)://tagpma.es.net/wiki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451"/>
              </a:spcBef>
              <a:buClr>
                <a:srgbClr val="244a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a58"/>
                </a:solidFill>
                <a:latin typeface="Verdana"/>
              </a:rPr>
              <a:t>hosts in-process TAGPMA documents, notes, tutorials etc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451"/>
              </a:spcBef>
              <a:buClr>
                <a:srgbClr val="244a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a58"/>
                </a:solidFill>
                <a:latin typeface="Verdana"/>
              </a:rPr>
              <a:t>Contains agenda and minutes from monthly meeting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451"/>
              </a:spcBef>
              <a:buClr>
                <a:srgbClr val="244a5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451"/>
              </a:spcBef>
              <a:buClr>
                <a:srgbClr val="244a5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a58"/>
                </a:solidFill>
                <a:latin typeface="Verdana"/>
              </a:rPr>
              <a:t>Mailing li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tagpma-general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451"/>
              </a:spcBef>
              <a:buClr>
                <a:srgbClr val="244a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a58"/>
                </a:solidFill>
                <a:latin typeface="Verdana"/>
              </a:rPr>
              <a:t>Mailing lists have been moved over to Google Apps for Education, also enabling Calendar, Docs &amp; Sit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451"/>
              </a:spcBef>
              <a:buClr>
                <a:srgbClr val="244a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a58"/>
                </a:solidFill>
                <a:latin typeface="Verdana"/>
              </a:rPr>
              <a:t>E-mail any issues direct to the Chair (dsimmel@psc.edu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Summary of News</a:t>
            </a:r>
            <a:endParaRPr b="0" lang="en-US" sz="3200" spc="-1" strike="noStrike">
              <a:solidFill>
                <a:srgbClr val="09213b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244a5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44a58"/>
                </a:solidFill>
                <a:latin typeface="Verdana"/>
              </a:rPr>
              <a:t>TAGPMA Voted to ACCEPT the Updated Classic Profile v4.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451"/>
              </a:spcBef>
              <a:buClr>
                <a:srgbClr val="244a5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44a58"/>
                </a:solidFill>
                <a:latin typeface="Verdana"/>
              </a:rPr>
              <a:t>Most Recent Accredita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451"/>
              </a:spcBef>
              <a:buClr>
                <a:srgbClr val="244a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a58"/>
                </a:solidFill>
                <a:latin typeface="Verdana"/>
              </a:rPr>
              <a:t>[USA] NCSA Two-Factor CA – SLCS (MyProxy with 2-factor authentication token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451"/>
              </a:spcBef>
              <a:buClr>
                <a:srgbClr val="244a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a58"/>
                </a:solidFill>
                <a:latin typeface="Verdana"/>
              </a:rPr>
              <a:t>[Brazil] ANSPGrid CA - Classic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451"/>
              </a:spcBef>
              <a:buClr>
                <a:srgbClr val="244a5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44a58"/>
                </a:solidFill>
                <a:latin typeface="Verdana"/>
              </a:rPr>
              <a:t>Membership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451"/>
              </a:spcBef>
              <a:buClr>
                <a:srgbClr val="244a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a58"/>
                </a:solidFill>
                <a:latin typeface="Verdana"/>
              </a:rPr>
              <a:t>2 CAs (SENAMHI &amp; SDSC) are still in process for accredit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451"/>
              </a:spcBef>
              <a:buClr>
                <a:srgbClr val="244a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a58"/>
                </a:solidFill>
                <a:latin typeface="Verdana"/>
              </a:rPr>
              <a:t>NCAR is pursuing development of its planned C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451"/>
              </a:spcBef>
              <a:buClr>
                <a:srgbClr val="244a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a58"/>
                </a:solidFill>
                <a:latin typeface="Verdana"/>
              </a:rPr>
              <a:t>XSEDE is developing a new HLCA (to be hosted by NCSA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400"/>
              </a:spcBef>
              <a:buClr>
                <a:srgbClr val="244a58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44a58"/>
                </a:solidFill>
                <a:latin typeface="Verdana"/>
              </a:rPr>
              <a:t>May permit consolidation of some XSEDE member CA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400"/>
              </a:spcBef>
              <a:buClr>
                <a:srgbClr val="244a58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44a58"/>
                </a:solidFill>
                <a:latin typeface="Verdana"/>
              </a:rPr>
              <a:t>XSEDE Service Providers would become RAs for the XSEDE CA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451"/>
              </a:spcBef>
              <a:buClr>
                <a:srgbClr val="244a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a58"/>
                </a:solidFill>
                <a:latin typeface="Verdana"/>
              </a:rPr>
              <a:t>Membership Review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400"/>
              </a:spcBef>
              <a:buClr>
                <a:srgbClr val="244a58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44a58"/>
                </a:solidFill>
                <a:latin typeface="Verdana"/>
              </a:rPr>
              <a:t>One RP still suspended – no response received to date – if they do not restore their participation by the August meeting, we will remove them from membership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Summary of News</a:t>
            </a:r>
            <a:endParaRPr b="0" lang="en-US" sz="3200" spc="-1" strike="noStrike">
              <a:solidFill>
                <a:srgbClr val="09213b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6868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244a5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44a58"/>
                </a:solidFill>
                <a:latin typeface="Verdana"/>
              </a:rPr>
              <a:t>Previous F2F Meeting: TAGPMA 15 at SDSC, San Diego, C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244a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44a58"/>
                </a:solidFill>
                <a:latin typeface="Verdana"/>
              </a:rPr>
              <a:t>February 9-10, 2012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244a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44a58"/>
                </a:solidFill>
                <a:latin typeface="Verdana"/>
              </a:rPr>
              <a:t>Details can be found her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indico.rnp.br/conferenceDisplay.py?confId=137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244a5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44a58"/>
                </a:solidFill>
                <a:latin typeface="Verdana"/>
              </a:rPr>
              <a:t>Planning for TAGPMA 16 at UTP, Ciudad de Panama, Panama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244a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44a58"/>
                </a:solidFill>
                <a:latin typeface="Verdana"/>
              </a:rPr>
              <a:t>Week of August 27-31, 2012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244a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44a58"/>
                </a:solidFill>
                <a:latin typeface="Verdana"/>
              </a:rPr>
              <a:t>TAGPMA 16 will be co-located with the CLCAR conference at the Technological University of Panama (Universidad Tecnológica de Panamá)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244a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44a58"/>
                </a:solidFill>
                <a:latin typeface="Verdana"/>
              </a:rPr>
              <a:t>CLCAR (Conferencia Latinoamericana de Computación de Alto Rendimento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244a58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44a58"/>
                </a:solidFill>
                <a:latin typeface="Verdana"/>
              </a:rPr>
              <a:t>Latin American Conference on High Performance Comput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244a58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44a58"/>
                </a:solidFill>
                <a:latin typeface="Verdana"/>
              </a:rPr>
              <a:t>Call for papers available: Full papers and Poster abstracts DUE MAY 15, 2012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244a58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44a58"/>
                </a:solidFill>
                <a:latin typeface="Verdana"/>
              </a:rPr>
              <a:t>Papers may be submitted in English, Spanish, or Portugues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244a58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44a58"/>
                </a:solidFill>
                <a:latin typeface="Verdana"/>
              </a:rPr>
              <a:t>See www.clcar.org for detail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TAGPMA 16 / CLCAR</a:t>
            </a:r>
            <a:endParaRPr b="0" lang="en-US" sz="3200" spc="-1" strike="noStrike">
              <a:solidFill>
                <a:srgbClr val="09213b"/>
              </a:solidFill>
              <a:latin typeface="Verdana"/>
            </a:endParaRPr>
          </a:p>
        </p:txBody>
      </p:sp>
      <p:pic>
        <p:nvPicPr>
          <p:cNvPr id="108" name="Picture 3" descr="Screen Shot 2012-05-07 at May 7 3.54.16 AM.png"/>
          <p:cNvPicPr/>
          <p:nvPr/>
        </p:nvPicPr>
        <p:blipFill>
          <a:blip r:embed="rId1"/>
          <a:stretch/>
        </p:blipFill>
        <p:spPr>
          <a:xfrm>
            <a:off x="826920" y="1014480"/>
            <a:ext cx="7453440" cy="58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TAGPMA Conference Calls</a:t>
            </a:r>
            <a:endParaRPr b="0" lang="en-US" sz="3200" spc="-1" strike="noStrike">
              <a:solidFill>
                <a:srgbClr val="09213b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43588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244a5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44a58"/>
                </a:solidFill>
                <a:latin typeface="Verdana"/>
              </a:rPr>
              <a:t>Regular Video Conference Calls are now </a:t>
            </a:r>
            <a:r>
              <a:rPr b="1" lang="en-US" sz="2000" spc="-1" strike="noStrike">
                <a:solidFill>
                  <a:srgbClr val="244a58"/>
                </a:solidFill>
                <a:latin typeface="Verdana"/>
              </a:rPr>
              <a:t>Monthly</a:t>
            </a:r>
            <a:r>
              <a:rPr b="0" lang="en-US" sz="2000" spc="-1" strike="noStrike">
                <a:solidFill>
                  <a:srgbClr val="244a58"/>
                </a:solidFill>
                <a:latin typeface="Verdana"/>
              </a:rPr>
              <a:t>, at 12noon Eastern on the </a:t>
            </a:r>
            <a:r>
              <a:rPr b="1" lang="en-US" sz="2000" spc="-1" strike="noStrike">
                <a:solidFill>
                  <a:srgbClr val="244a58"/>
                </a:solidFill>
                <a:latin typeface="Verdana"/>
              </a:rPr>
              <a:t>2nd Wednesday</a:t>
            </a:r>
            <a:r>
              <a:rPr b="0" lang="en-US" sz="2000" spc="-1" strike="noStrike">
                <a:solidFill>
                  <a:srgbClr val="244a58"/>
                </a:solidFill>
                <a:latin typeface="Verdana"/>
              </a:rPr>
              <a:t> of each month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244a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44a58"/>
                </a:solidFill>
                <a:latin typeface="Verdana"/>
              </a:rPr>
              <a:t>Next one will be June 13, 201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244a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44a58"/>
                </a:solidFill>
                <a:latin typeface="Verdana"/>
              </a:rPr>
              <a:t>Video arrangements: EVO – look for TAGPM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244a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44a58"/>
                </a:solidFill>
                <a:latin typeface="Verdana"/>
              </a:rPr>
              <a:t>Video ESNet 884483 or GDS 0011349884483 or phone 1-510-883-7860 884483#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244a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44a58"/>
                </a:solidFill>
                <a:latin typeface="Verdana"/>
              </a:rPr>
              <a:t>Call for agenda items goes out 1 week before the next cal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244a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44a58"/>
                </a:solidFill>
                <a:latin typeface="Verdana"/>
              </a:rPr>
              <a:t>The agenda is usually posted on tagpma-general e-mail list no later than 1 day before the meeting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244a5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44a58"/>
                </a:solidFill>
                <a:latin typeface="Verdana"/>
              </a:rPr>
              <a:t>Feel free to join to attend meetings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8T23:38:54Z</dcterms:created>
  <dc:creator>Scott Rea</dc:creator>
  <dc:description/>
  <dc:language>en-US</dc:language>
  <cp:lastModifiedBy>Derek Simmel</cp:lastModifiedBy>
  <cp:lastPrinted>2012-05-07T08:19:40Z</cp:lastPrinted>
  <dcterms:modified xsi:type="dcterms:W3CDTF">2012-05-07T09:14:06Z</dcterms:modified>
  <cp:revision>157</cp:revision>
  <dc:subject>F2F12 Lubbock TX</dc:subject>
  <dc:title>TAGPMA Update</dc:title>
</cp:coreProperties>
</file>