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213b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E2F3-38D7-4420-8A30-D93CD01AF0C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5A41-23EE-400D-A137-4B3489ED58E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that “a new host cert would need to be propagated to all users” (CA cert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 Illinois has no plans to support IPv6 – would have to find an external provider to host if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AGPMA have a procedure to test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help with OpenCA OCSP responder set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512 and 256 now – no support planned for 384/224 vari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run OCSP as needed over last 8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capable but not on IPv6 supported network, CRL available via IPv6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A3C5-AFD0-4906-A200-E824E276E9E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D759-BBAD-43AB-B418-7875D34DD2F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0C62-F079-4D19-963E-19ABB058177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F83F-CF2F-4DCD-95A6-B8ED628E2D3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DE21-9464-4A8F-994D-125B4A458D8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89CB-0104-4C8B-A325-C207060F5BF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AB24-7C13-4536-B214-4B7B371AE90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F70-2669-4FF4-ABBB-81A0A0CA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583B-6537-44E2-A85F-CBF4A14D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3AC1-65D5-4B4D-BCD7-81BB5A7E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16D0-59F5-461C-AC8D-17982C90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08B9-95FD-464A-987B-BD321116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B8FD-C033-4731-90AB-47F16C4B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CE70-7A7B-4494-A669-65D66F79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435-733B-4C24-8050-AF6E848F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709E-EB9E-4B7F-B068-64151FCD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6277-DC3E-46E3-9ABD-862C92C4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1991-A23D-44A0-A90F-933E151A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3BD2-A59C-42C2-B586-D8E717F3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213b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>
            <a:off x="1187280" y="98100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562B-2918-48AD-937E-7CDCDF156520}" type="slidenum">
              <a:rPr b="1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TAGPMA-med"/>
          <p:cNvPicPr/>
          <p:nvPr/>
        </p:nvPicPr>
        <p:blipFill>
          <a:blip r:embed="rId2"/>
          <a:stretch/>
        </p:blipFill>
        <p:spPr>
          <a:xfrm>
            <a:off x="324000" y="260280"/>
            <a:ext cx="2011320" cy="1371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213b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9F9E-13C6-4E34-B2FF-43586ADB3BB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dsimmel@psc.edu" TargetMode="External"/><Relationship Id="rId2" Type="http://schemas.openxmlformats.org/officeDocument/2006/relationships/hyperlink" Target="mailto:Scott@DigiCert.com" TargetMode="External"/><Relationship Id="rId3" Type="http://schemas.openxmlformats.org/officeDocument/2006/relationships/hyperlink" Target="mailto:astolk@ula.v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gtf.net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2923920"/>
            <a:ext cx="5545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09213b"/>
                </a:solidFill>
                <a:latin typeface="Impact"/>
              </a:rPr>
              <a:t>TAGPMA Update</a:t>
            </a:r>
            <a:br>
              <a:rPr sz="3200"/>
            </a:br>
            <a:r>
              <a:rPr b="0" lang="en-GB" sz="2800" spc="-1" strike="noStrike">
                <a:solidFill>
                  <a:srgbClr val="0000ff"/>
                </a:solidFill>
                <a:latin typeface="Impact"/>
              </a:rPr>
              <a:t>Derek Simmel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ff"/>
                </a:solidFill>
                <a:latin typeface="Impact"/>
              </a:rPr>
              <a:t>presented by Dave Kelsey</a:t>
            </a:r>
            <a:br>
              <a:rPr sz="2800"/>
            </a:br>
            <a:endParaRPr b="0" lang="en-US" sz="28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0560" y="494172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26</a:t>
            </a:r>
            <a:r>
              <a:rPr b="0" lang="en-GB" sz="2800" spc="-1" strike="noStrike" baseline="30000">
                <a:solidFill>
                  <a:srgbClr val="008000"/>
                </a:solidFill>
                <a:latin typeface="Impact"/>
              </a:rPr>
              <a:t>th</a:t>
            </a: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 EUGridPMA Meeting</a:t>
            </a:r>
            <a:br>
              <a:rPr sz="2800"/>
            </a:b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Lyon, F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Impact"/>
              </a:rPr>
              <a:t>September 10-12, 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4572000" y="765000"/>
            <a:ext cx="3527280" cy="1287000"/>
            <a:chOff x="4572000" y="765000"/>
            <a:chExt cx="3527280" cy="1287000"/>
          </a:xfrm>
        </p:grpSpPr>
        <p:sp>
          <p:nvSpPr>
            <p:cNvPr id="93" name="WordArt 5"/>
            <p:cNvSpPr txBox="1"/>
            <p:nvPr/>
          </p:nvSpPr>
          <p:spPr>
            <a:xfrm>
              <a:off x="4626000" y="7650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4" name="Text Box 6"/>
            <p:cNvSpPr/>
            <p:nvPr/>
          </p:nvSpPr>
          <p:spPr>
            <a:xfrm>
              <a:off x="4572000" y="14094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SHA-2, OCSP, IPv6 Survey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a58"/>
                </a:solidFill>
                <a:latin typeface="Verdana"/>
              </a:rPr>
              <a:t>TAGPMA Authentication Providers were ask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447840">
              <a:spcBef>
                <a:spcPts val="550"/>
              </a:spcBef>
              <a:buClr>
                <a:srgbClr val="244a5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44a58"/>
                </a:solidFill>
                <a:latin typeface="Verdana"/>
              </a:rPr>
              <a:t>SHA2 (SHA-512/384/256/224): When will your CA be able to generate/sign using a SHA2 (as opposed to SHA-1)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447840">
              <a:spcBef>
                <a:spcPts val="550"/>
              </a:spcBef>
              <a:buClr>
                <a:srgbClr val="244a5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447840">
              <a:spcBef>
                <a:spcPts val="550"/>
              </a:spcBef>
              <a:buClr>
                <a:srgbClr val="244a5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44a58"/>
                </a:solidFill>
                <a:latin typeface="Verdana"/>
              </a:rPr>
              <a:t>OCSP: When will your CA be able to provide an OCSP (Online Certificate Status Protocol) servic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447840">
              <a:spcBef>
                <a:spcPts val="550"/>
              </a:spcBef>
              <a:buClr>
                <a:srgbClr val="244a5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447840">
              <a:spcBef>
                <a:spcPts val="550"/>
              </a:spcBef>
              <a:buClr>
                <a:srgbClr val="244a5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44a58"/>
                </a:solidFill>
                <a:latin typeface="Verdana"/>
              </a:rPr>
              <a:t>IPv6: When will your CA's online services (e.g., CRL download server, OCSP service, CA website) be accessible via IPv6 network addressing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SHA-2, OCSP, IPv6 Survey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44480" y="1197000"/>
          <a:ext cx="7655040" cy="5203800"/>
        </p:xfrm>
        <a:graphic>
          <a:graphicData uri="http://schemas.openxmlformats.org/drawingml/2006/table">
            <a:tbl>
              <a:tblPr/>
              <a:tblGrid>
                <a:gridCol w="1914480"/>
                <a:gridCol w="1913040"/>
                <a:gridCol w="1913040"/>
                <a:gridCol w="191448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/CA Op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A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CS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Pv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ULAG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30 Sep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30 Sep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31 Dec 2012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P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U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30 Sep 2012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15 Sep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SD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&lt;1 month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F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/Dec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LBN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01 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C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Ci-Log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default 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DigiC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in service 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UNL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testing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plan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v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LACG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31 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 (ye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BrG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31 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 (ye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GridCan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planned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Oct 2012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DOEGri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(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in service(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(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SHA-2, OCSP, IPv6 Survey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a58"/>
                </a:solidFill>
                <a:latin typeface="Verdana"/>
              </a:rPr>
              <a:t>Survey not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46360" indent="-454320">
              <a:spcBef>
                <a:spcPts val="1001"/>
              </a:spcBef>
              <a:buClr>
                <a:srgbClr val="244a58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Concern that “a new host cert would need to be propagated to all users” (CA cert?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6360" indent="-454320">
              <a:spcBef>
                <a:spcPts val="1001"/>
              </a:spcBef>
              <a:buClr>
                <a:srgbClr val="244a58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U Illinois has no plans to support IPv6 – would have to find an external provider to host if nee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6360" indent="-454320">
              <a:spcBef>
                <a:spcPts val="1001"/>
              </a:spcBef>
              <a:buClr>
                <a:srgbClr val="244a58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Does TAGPMA have a procedure to test thi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6360" indent="-454320">
              <a:spcBef>
                <a:spcPts val="1001"/>
              </a:spcBef>
              <a:buClr>
                <a:srgbClr val="244a58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Need help with OpenCA OCSP responder set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6360" indent="-454320">
              <a:spcBef>
                <a:spcPts val="1001"/>
              </a:spcBef>
              <a:buClr>
                <a:srgbClr val="244a58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testing 512 and 256 now – no support planned for 384/224 vari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6360" indent="-454320">
              <a:spcBef>
                <a:spcPts val="1001"/>
              </a:spcBef>
              <a:buClr>
                <a:srgbClr val="244a58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have run OCSP as needed over last 8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6360" indent="-454320">
              <a:spcBef>
                <a:spcPts val="1001"/>
              </a:spcBef>
              <a:buClr>
                <a:srgbClr val="244a58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CA capable but not on IPv6 supported network, CRL available via IPv6 n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6360" indent="-45432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SHA-2, OCSP, IPv6 Survey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a58"/>
                </a:solidFill>
                <a:latin typeface="Verdana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44a58"/>
                </a:solidFill>
                <a:latin typeface="Verdana"/>
              </a:rPr>
              <a:t>Most TAGPMA CAs are prepared to enable SHA-2 signatures with their infrastructures by December 201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44a58"/>
                </a:solidFill>
                <a:latin typeface="Verdana"/>
              </a:rPr>
              <a:t>Not all plan to support SHA-384 and SHA-22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001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Are these necessar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001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Why not just pick one, e.g., SHA-512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44a58"/>
                </a:solidFill>
                <a:latin typeface="Verdana"/>
              </a:rPr>
              <a:t>Only one TAGPMA CA provides OCSP service no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001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others have no demand for it from their R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44a58"/>
                </a:solidFill>
                <a:latin typeface="Verdana"/>
              </a:rPr>
              <a:t>About half of the TAGPMA CAs have no current plans to support IPv6 (yet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Leadership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Current Offic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Chair: 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Derek Simmel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(PS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1"/>
              </a:rPr>
              <a:t>dsimmel@psc.ed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Vice Chair: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Scott Rea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(DigiCert + REB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2"/>
              </a:rPr>
              <a:t>Scott@DigiCer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Secretary: 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Ale Stolk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(ULAGri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3"/>
              </a:rPr>
              <a:t>astolk@ula.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Membership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87280" y="1125360"/>
          <a:ext cx="7066080" cy="5389920"/>
        </p:xfrm>
        <a:graphic>
          <a:graphicData uri="http://schemas.openxmlformats.org/drawingml/2006/table">
            <a:tbl>
              <a:tblPr/>
              <a:tblGrid>
                <a:gridCol w="1667160"/>
                <a:gridCol w="1655640"/>
                <a:gridCol w="2158920"/>
                <a:gridCol w="158436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resen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/R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giC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ke Hel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id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ger Imp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BDS AN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gio Liett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ve Bea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Basn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R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reyas Chol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ctor Hazlew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rek Simme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U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ndra Jaqu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D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Saka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AM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to Huiman Carras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haniel Mendoz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8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A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ejandra Stol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ncisco Martin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AN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res Holgu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ula Veno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win Gain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B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an Si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LC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ve Kels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SE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Marstell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DETYS / UT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n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rube Urri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dCLA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le/L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uis A. Núñ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26 Members from North, Central and South Ame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Covering Canada, US, Mexico, Venezuela, Chile, Peru, Argentina, Brazil, Colombia and Panam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giSela project has end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23 IGTF Accredited 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13 Classic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DigiCert(2) – US, TACC - US, UFF BrGrid &amp; UFF LACGrid - Brazil, ANSPGrid – Brazil, UNLPGrid - Argentina, REUNA – Chile, ULAGrid – Venezuela, GridCanada, UNAM – Mexico, UNIANDES - Colombia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DOE Grid accredited by EUGridP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7 SL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NCSA x 3, FermiLabs, NERSC, PSC, NICS UTK - 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3 M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NCSA - US, CILogin - US and TACC - 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TACC CAs to be retired (Date TB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3 CA accreditations in-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1 Classic pending (SENAMHI – Peru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2 MICS pending (SDSC, NCAR – U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8 Relying Par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(FNAL, OSG, XSEDE, THEgrid, LCG, REBCA, CIDETYS/UTP, redCLAR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NIH and SURAGrid retired their membershi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CIDETYS/UTP (Panama) is a new RP member as of September, 20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redCLARA (based in Chile but covering several Latin American Countries) is a new RP member as of September, 20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mmunication Infrastructure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IGTF Website 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1"/>
              </a:rPr>
              <a:t>http://www.igtf.n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TAGPMA Website http://www.tagpma.or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Hosts static, public information &amp; profi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Verdana"/>
              </a:rPr>
              <a:t>Overhaul overdue </a:t>
            </a:r>
            <a:r>
              <a:rPr b="0" lang="en-US" sz="1800" spc="-1" strike="noStrike">
                <a:solidFill>
                  <a:srgbClr val="244a58"/>
                </a:solidFill>
                <a:latin typeface="Wingdings"/>
                <a:ea typeface="Wingdings"/>
              </a:rPr>
              <a:t>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TAGPMA twiki </a:t>
            </a:r>
            <a:r>
              <a:rPr b="0" lang="en-GB" sz="1800" spc="-1" strike="noStrike">
                <a:solidFill>
                  <a:srgbClr val="244a58"/>
                </a:solidFill>
                <a:latin typeface="Verdana"/>
              </a:rPr>
              <a:t>http(s)://tagpma.es.net/wiki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hosts in-process TAGPMA documents, notes, tutorial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Contains agenda and minutes from monthly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Mailing lis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tagpma-general, tagpma-privat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Mailing lists have been moved over to Google Apps for Education, also enabling Calendar, Docs &amp; Si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E-mail any issues direct to the Chair (dsimmel@psc.edu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ummary of News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Verdana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3 CAs (SENAMHI, SDSC and NCAR) are still in process for accredi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CIDETYS/UTP Panama made a presentation at TAGPMA 16 and was voted in as a new RP mem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redCLARA made a presentation at TAGPMA 16 and was voted in as a new RP mem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XSEDE is developing a new HLCA (to be hosted by NC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May permit consolidation of some XSEDE member C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XSEDE Service Providers would become RAs for the XSEDE C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Membership Revie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NIH and SURAGrid have resigned their membershi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TACC plans to retire its CA(s) and retire its membership so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ummary of News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686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Verdana"/>
              </a:rPr>
              <a:t>Most Recent F2F Meeting: TAGPMA 16 at Panama City, Pan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August 29-30, 201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Details can be found her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indico.rnp.br/conferenceDisplay.py?confId=14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Hosted with the CLCAR conference August 27-31, 2012 at the Technological University of Panama (Universidad Tecnológica de Panamá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CLCAR (Conferencia Latinoamericana de Computación de Alto Rendiment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Latin American Conference on High Performance Compu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See www.clcar.org for detai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Derek, Scott R. and Ale submitted a paper, “</a:t>
            </a:r>
            <a:r>
              <a:rPr b="0" i="1" lang="en-US" sz="1600" spc="-1" strike="noStrike">
                <a:solidFill>
                  <a:srgbClr val="244a58"/>
                </a:solidFill>
                <a:latin typeface="Verdana"/>
              </a:rPr>
              <a:t>An Introduction to The Americas Grid Policy Management Authority (TAGPMA) and the International Grid Trust Federation (IGTF)</a:t>
            </a: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” which was accepted for publication and a presentation: http://www.tagpma.org/files/CLCAR-Paper15-Simmel-Rae-Stolk.pd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onference Calls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Regular Video Conference Calls are now 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Monthly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, at 12noon Eastern on the 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2nd Wednesday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of each month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Next one will be September 12, 20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Video arrangements: EVO – look for TAGP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Call for agenda items goes out ~1 week before the next c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The agenda is usually posted on tagpma-general e-mail list no later than 1 day before th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We welcome all IGTF members and prospective TAGPMA members to attend our TAGPMA meeting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Scott Rea</dc:creator>
  <dc:description/>
  <dc:language>en-US</dc:language>
  <cp:lastModifiedBy>Derek Simmel</cp:lastModifiedBy>
  <cp:lastPrinted>2012-08-29T08:25:06Z</cp:lastPrinted>
  <dcterms:modified xsi:type="dcterms:W3CDTF">2012-09-09T20:53:25Z</dcterms:modified>
  <cp:revision>179</cp:revision>
  <dc:subject>F2F12 Lubbock TX</dc:subject>
  <dc:title>TAGPMA Update</dc:title>
</cp:coreProperties>
</file>