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6675-0368-47FA-A631-CC477C285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6CBF-F9A4-4375-9187-568925D4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74CC-CEA3-4F2A-9809-B369574BE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D92D-5497-4C61-9964-D4675DC7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05D6-1F02-4482-959F-B86FFE74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A92A-9F3B-4DCA-9B90-F9E45AD6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7017-5DF2-4B53-A46E-155C4F17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8514-8BB1-41A7-AE85-0591DCC7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FF95-BF9B-4DEE-810A-4D504AA7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9D3F-4D86-499E-933F-8B7D1097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47B1-BB4C-4D01-ACCD-928FC794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9167-5748-449F-9582-F89FD483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9B03-777B-46B7-9D01-F8CD55AF9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KGrid CA Self-Audit 20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838080" y="37116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eel-ur-Rehm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soor Sheik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1AAF-436E-4953-B7B1-0D00946B0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”: 3/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es the RA maintain the archive of these records in an auditable form?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(RA item 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n RA does not maintain such records in auditable for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he archival for requests and confirmations is currently done by the CA, as we have a small user communit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4900-9FCF-415F-857E-FC5DBC568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X”: 1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s the CA system completely off-line or one-line which uses FIPS 140-2 level 3 capable HSM operated in FIPS 140-2 level 3 mode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CA item 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 machine is completely off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herefore, We do not have HS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A44B-4B8D-4919-97CE-D8DCC90E0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X”: 2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es the on-line CA provide a log of issued certificates and a signed revocation list? Is the log tamper-protected?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CA item 1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 server is not an online machin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E917-722B-4582-B1D8-ADEA82D89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X”: 3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re new EE certificates signed by a new cryptographic data?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(CA item 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es, new certificates are signed by new cryptographic dat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s the old but still valid certificate available if there are still valid certificates signed by the old private k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CA item 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, as the transition period is not due yet!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lso, old certificates and old key is not valid any mor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2499-A79A-4253-9666-3E21020A2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X”: 4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ow is the re-new process described?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(CA item 4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e do not have a renewal policy for certificates as PK-GRID CA does not renew certificates rather it only rekey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219320" y="2666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/Suggestions are wel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0FB8-D000-4645-9CCE-A718F113F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7F5B-3895-478E-9D5D-87341D841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rief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K-Grid CA was ﬁrst presented and accredited during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EuGridPMA meeting (held in September 2004) at Bruss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nor updates until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rastructure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chine specs, kernel version, openss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re secure prem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gressively restrictive access privileges among multiple physical t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B4C1-961F-47F6-B926-DEB5520E1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udit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dit guidelines used: GFD.125 (dated: March 31, 200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policy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: 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: 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: 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: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89C2-51C4-49CD-8090-1D1AC6493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”: 1/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s a CRL issued at least 7 days before expiration (for off-line) or 3 days before expiration (for on-line)?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(CA item 2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e missed it a couple of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041E-02A5-47E5-BFF9-E790A1FF2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”: 2/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he repository must be run at least on a best-effort basis, with an intended availability of 24x7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 (CA item 4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e had few un-announced downti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629F-5853-429F-8DCF-1EC72EC53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”: 3/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ver the entire lifetime of the CA it must not be linked to any other entity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ow does the CA guarantee this requirement?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RA item 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his guarantee is not explicitly mentioned in the CP/CP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3C52-D8DA-4BE0-AA3B-3BF9CB14E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”: 1/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very CA should perform operational audits of the CA/RA staff at least once per year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CA item 4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his has not been practiced regularl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29E9-0A4B-4625-B3ED-FDA12362A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”: 1/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es the CA or RA have documented evidence on retaining the same identity over time?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(RA item 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e need to have a documented evide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on retaining the same identity over tim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4DFC-9FBC-469E-9DF7-A1D1B8684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”: 2/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es the RA record and archive all requests and confirmations?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(RA item 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he archival for requests and confirmations is currently done by the CA, as we have a small user communit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0T06:26:38Z</dcterms:created>
  <dc:creator>NCP</dc:creator>
  <dc:description/>
  <dc:language>en-US</dc:language>
  <cp:lastModifiedBy>Mansoor-ul-Islam</cp:lastModifiedBy>
  <dcterms:modified xsi:type="dcterms:W3CDTF">2012-09-11T07:54:52Z</dcterms:modified>
  <cp:revision>73</cp:revision>
  <dc:subject/>
  <dc:title>PKGrid CA self Audit</dc:title>
</cp:coreProperties>
</file>