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93E9BB7-582D-4C26-93D0-04DEE92AE6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5A2E05A-F97B-46FC-8964-CF35FBA550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F12ECD6D-3905-4E34-AC2E-0637BC07BE5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797872DB-DA10-4504-A57A-C921B2AF9E5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832A3D0-7169-45B6-B225-EFE909294A4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2C58B82-B7F6-4839-8555-332806D51D4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B1A2243-D5EF-4193-9A5D-85B3E3E539F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D05EE919-F164-48F6-B2BE-66E49598057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F3A6409-E1C6-4463-87A5-A9C8C60F13C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CB195A1-8216-4CE7-A8D7-D04BBDAC955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FD50BFA-63E5-40BA-B8FB-3AD0687B52B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EF4BA3A-C6EB-4D0E-977D-1C8F9B3C92B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0C92D81-C8EB-492B-947D-A8CA4051075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6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SHA-2 statement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10-12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yon, FR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HA-2 conclusions from Ly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recommendation is that CAs will not issue general availability SHA-2 certs before </a:t>
            </a:r>
            <a:r>
              <a:rPr b="1" lang="en-US" sz="1600" spc="-1" strike="noStrike">
                <a:solidFill>
                  <a:srgbClr val="000066"/>
                </a:solidFill>
                <a:latin typeface="Lucida Sans"/>
              </a:rPr>
              <a:t>1 August 2013 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[RP datum point]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SHA-1 is broken, revocation and transition will be immediate as inspired by the categorization in the HASHRAT document (seconds to few months)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scheduled end of life for SHA-1 EECs is 1 September 2014, meaning that SHA-1 EECs SHOULD have a validUntil date no later than that dat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there are CAs with EECs having a later date, the primary mitigation of the risk in case SHA-1 is broken will be removal of said CA from the IGTF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CAs SHOULD have SHA-2 issuing capability by October 1</a:t>
            </a:r>
            <a:r>
              <a:rPr b="0" lang="en-US" sz="16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 201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o need to move any existing CA self-signed root certs to SHA-2 if we rely only on the distributed metadata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nce intermediate CAs are distributed but the distribution may be superseded by dynamic CA chains (subject to the namespace constraints) … SHOULD be SHA-2 after 31 March 2014, and if SHA-1 it MUST be revoked and re-issued if and when SHA-1 is broken (like for EECs).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Once broken, the new intermediates will be distributed or both the intermediates and root removed from the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ew CA certs generated after April 2014 SHOULD be SHA-512 from, noting that existing (self-signed) CA certs MAY be SHA-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SHA-256 and SHA-512, and not 224 nor 384. Each CA MAY pick its own varian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RLs on the default CDP SHOULD be SHA-1 until at least 1 September 2014. CAs MAY start distributing SHA-2 based CRLs after that date, and MAY have SHA-2 based CRLs available on alternate CDPs after 1 October 2012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f same subject is signed twice (once SHA-1 once SHA-2) must use different cert serial numbers. Same is true of CRLs with same data. Must be different sequence number. 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Breakage of the SHA-1 algorithm in a way that allows trivial generation of plaintexts with a specific hash necessitates removal of SHA-1 algo support. This is a software vulnerability issue outside of our scope and SHOULD be dealt with using regular vulnerability mechanisms of the RPs. It then WILL necessitate SHA-2 based root certs as well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he ‘end-of-life’ SHA-2 migration recommendation does not apply to certificates with a short life time (for SLCS CAs) until at least 1 September 2014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is recommendation does not address attribute authori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CSP will continue to use SHA-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9-10T15:41:24Z</dcterms:modified>
  <cp:revision>603</cp:revision>
  <dc:subject/>
  <dc:title>European Grid Policy Management Authority</dc:title>
</cp:coreProperties>
</file>