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782BB-F86D-4653-9BF4-1F86083B9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7EFD8-10C0-4D46-BDF9-D263034E1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2F1264-6010-4734-BE58-B2CC796BD7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B62763-91A3-4453-B97B-4121AE6317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EC28C4-480F-483F-A0AF-B8A378F574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BF48CC-4838-47F7-8CCE-A1E195A585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979AFA-F299-42E4-A52C-57D74F6341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73A2DB-6793-45F3-9DE2-C6545183E3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0E1EA1-9121-43D2-8C70-93F09FE42D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172FED-9948-474C-A05B-0E1900F4CF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28843A-D4D7-4F58-BF8F-66A6E7DFBA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F0EAE5-33AD-40FC-AA27-BB073E0937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4879D-15D5-4D82-8B14-8C9999DC4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B85BDE-E0AB-4E8E-875F-0B2C76D9C1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C1B77C-9183-42C3-90D4-1CCC14A6CE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317112-70B9-4C17-BB8C-1933575333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8E4A1B-E3D2-4487-96D7-E0F9BB91F1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79585D-2FD3-4849-9B6D-C4ECD4E45E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3717AB-D14B-4F6D-9F11-30AB993B01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65BDAD-4E40-47A9-BF35-752412A4E0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6CE2E8-C527-49D4-95D5-A8DB394082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34A035-74CE-4DBE-B2B9-4C41864600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BB2105-74A4-451C-875C-A4FF54A61A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23D60-C150-40FC-A8E0-DB01D4BCD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096660-C6B5-4C2F-AF33-08F33CFFE3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425790-44D7-4067-8FF0-D9EAE6522E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68BF1A-E857-422B-8133-852DD8E386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4B0527-074A-4F42-B871-AB722A0886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6F2280-9620-4216-8742-31830C277D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24965A-EE6E-468E-B31D-FFD432CD53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B129E7-8E28-426B-85F3-918384EC79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596F08-AD8B-445F-B260-1A46CFFAC1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96FF68-3CEF-4A82-B206-F6D3E49F8A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1D5C93-D8AF-446D-91FE-DF82261DFF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AE9E96-15AB-4721-97AB-327B332E20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448975-574D-4091-A01F-367D0532F6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E90AEA-3BE2-463E-9333-28F1031540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3B86082-541C-417E-A081-B0DAF340C87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9FCE5E-0603-4277-877D-19260EC9B5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75FC92-A431-45EB-8EF2-9303DD4B2A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E25419-C05B-4AB3-942C-179B1209CC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70EA19-BAC9-411D-A97E-58B1DF4307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BD497A-6801-414F-94B1-BD665C1C79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44102D-CC1B-47E6-B9B0-B5CE7A9A7A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F88830-A610-4D45-8DAD-0770C5BEEE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5905AC-BF9C-4CCD-B598-98C4F892E6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5D4FD6-D4AF-465E-A839-83951973A4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2BCDB85-D5C3-4790-945C-F7F4FD5A9DF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A156E3-23F8-4A16-B343-E46FE7EC06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F734E70-807C-4556-8D31-1E3AA59662F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9CA181-6019-495E-B2A2-6873F23854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E330ED-9838-4367-88AC-959C1038D4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E37A6A-5C08-462F-B65D-1BA4609D86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B9ECD5-E97B-4DC0-9F81-F95AE0C291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CCD3FC-DC38-4A8D-BAFF-00054A44BE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B9A398-50FE-4722-9E7C-864921237D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A65799-0AA1-4AD1-B09A-5F0209B131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6291FC-8E87-41BD-A40A-FAEF35D667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5F91CD-BBC5-41A1-B953-A44D5793C5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1BE274-6F16-4EA1-B4BD-A88A97959F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D15DDB0-E16E-4EB9-837D-56481B756B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B4092AA-72CB-4B1B-8774-0F38B892E32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817019-7396-4473-B54C-ABE0E14AEB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D96163-D0C5-4F22-82F1-BD36CA80DD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2DEE8B-4B7F-4D5F-BF31-EE0FED9C61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01C033-2BFB-4002-821C-0DEEBD2494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B51BD3-6584-4318-A7B7-9B0397E0DD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777021-3B6A-4C22-AEE9-7B3028E8DB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C75A62-7538-4B32-B608-A11CCE7ED8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7F211A-2904-421B-8274-3569F75EC1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925FC0-3E8F-42BE-90E8-F39C3C593F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DBB85AC-A844-4E38-93AE-A376C857F0A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6520D4-84B3-47E2-B996-247539F31D2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1185190-5B84-4AF8-B0B0-A579B78E706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E75B51-363B-49B8-8D5F-922B787187B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4726D5B-D432-4B01-9652-E7634F83AD3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2CFD5D-A73F-4668-9454-0FF6A8C5E1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1B607F-6FF8-4D62-BA77-BFD3C2C03F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493C93-97F2-4BB4-9A78-F65DB26141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7A693C-F32D-40BC-941C-E12B9B6D47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130EE0-91B6-4051-820E-BB68F6DA00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1024D9-8165-484D-A558-D48AE3B20B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110174F-AE81-4E1F-9DF1-424DA41419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2A230D8-E639-4171-AAB8-9A3ABC7FDB0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F2E2C1C-CB57-4584-9755-ABC3989273D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A1093C4-9715-467B-A388-6AF5D71BA20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E8462A-1D3E-419C-B255-4AE00F07EC3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5E226F-1325-448E-8E5B-5FD4895D4C2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C5DF114-DE83-4DFB-A01E-779D52C591C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DE0839-B987-4D30-8CC2-E1167E694F2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89D77F-6C5C-4972-9FFF-756D13B879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7AE42DF-EDAF-4B53-8394-CCE15EBA34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BFC3C1-7453-44E3-AE8F-B9B75B8F3F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24158D-5B33-4540-875E-9DFC8C78C1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6E5972C-AA9F-435C-A0F9-4C32D45EA6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FC8408D-2FD0-48D6-A0BB-1FAD038A691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8B1D16A-ACA8-4F1E-8285-7784E859DA5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E635697-8071-41BA-9D2E-F0B76204CDB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173AB7B-8CF4-48ED-BCED-6579C36729C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D48B41C-4A65-4095-BB72-A41F5DB1960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C683A3B-763E-4771-93BC-BC96B5DEE6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5C2210A-D529-4B90-8059-C3E7CF558B4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98DF2F-B12E-4736-BE06-A5D4E80E516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0F8B891-FF93-4EE7-B769-5F73DEF5389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0F303-A550-435E-BD34-C16833535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28025BE-5E2A-4757-8659-4706A550222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1BDD51-924F-403A-ACAB-EA9CEBA092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BC365A6-A37C-4665-A58A-8DF1202AE79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5E2883C-F6BB-4DB4-8A2C-36BDEFFEA88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041BD28-BCAD-4722-98A0-1293FAA824C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BC5C17D-74BF-44FB-A25D-A7A9FA9D5FB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186F97F-DBCD-4B3D-B3ED-AEC65469812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3003E14-4574-4DA4-9F80-0DF4B2AE607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AADFF47-3DE6-4C80-B272-3F8C08007C3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EB2264-3915-4381-9A92-74FF385D5C0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335EC64-EBA0-4C27-9115-934873DC9C6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45778E6-C225-486C-8B32-75127752968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F8884F2-DE45-4506-BD1B-2A48FAC85A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F357F42-3F6B-4EAD-BB9C-08EACBDFBC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DB47878-87B9-4230-AB53-1EEF9A5D7A1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F5B4ED3-751A-4596-AF1D-1DD32F65B88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12732F1-F059-4BEF-85B0-95768795033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88495BB-86AD-4E2E-B43D-208E4AB1AE6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C3EFAFD-C14C-46F9-B93B-D410B055794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859000E-D9F0-45BB-9403-B9219959B2B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453E3D1-E984-47D1-B244-8F54C7E9B93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6F78FAF-9453-448D-A29D-B6E9BC34F1B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EB650E1-71FC-44C8-A58F-5249CE085F6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CBAC977-98F1-4DFA-B322-8B666C5255D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C388F12-67C5-49AC-BBC6-B1A493AA3B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F8B10D7-D2A9-4E02-B564-0D8CC4CCDB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2229E54-A7CC-4C09-9731-1C5F16D704B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F32285E-12DD-44E7-96DC-D187E966FB4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A2F1523-BA9D-4640-95F8-A4B3888C787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CE97EE6-6BF2-41BF-B6AD-8E6C18DAE18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B702E51-85C0-4950-9833-C6EAF342115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460C4CB-0431-4F7C-9159-49F4482DAB0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842F316-279E-4E42-86BA-30D5728B235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320DFA8-D1CC-4D2A-AA5E-17B114A8564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AB67BA7-337D-4A34-B2CF-9AF81DB1694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C6F66A7-F9CC-47FF-A9FE-739AB76C36F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079E685-9EC0-4776-81B6-1525E2B9832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5CA3EAE-F156-4B46-A16B-3C6BAA21D2B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02E45B2-BC08-4975-A930-F09659A4931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FD93A95-A2B9-490C-9961-6BBBBFC32B6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6C0BC7B-E9BA-432D-AB06-DB39D058333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7F0AF36-258F-4169-9826-9018F61EB1E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CDFAFAE-C939-445A-A8E1-B4ED2BE9E0E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49789BB-B0DC-43F2-B416-EA319D572AE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A6A6FEC-DB93-459C-A958-6913D618AB0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FB703E7-ECF5-433E-8D79-AF556DC3361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6B0BD36-0C7A-416B-A122-634EEE81B9A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B4F2B35-914D-4C0E-BB96-0DE112CE567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340826E-4202-4BC7-BE35-CE633269B7E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4B732D5-9AE4-4F81-9BCA-6042D702F54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67C5A1A-8DF6-4385-9D3E-50E31B51F40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5CA24F8-86F5-4A1C-AB22-505126903B1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2045595-0D4D-42BE-BB38-FA4C04BFAAF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911BC0E-2C83-4524-8526-FA62899F5C3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F4B2AAB-D43E-4598-B58F-2A20CBC35AB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E0588FE-3948-46D4-A7AD-45EE7F39776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1A4A248-02F1-48FE-8F4F-2A5B4F89F4A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821DCB6-4EEA-4AD5-AF2D-34AFFE7A618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C9CECAF-224C-4220-8FF5-EA6DA3CF493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A7E4BCA-C8CF-4E85-9ACB-2875ACB796E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0A26848-BCCF-45C6-A685-0068FDE00AF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0DD1CEE-0145-4C17-AA78-4D755702620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1FC0E9A-3B78-4F01-AF2D-31396B0DC63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C680A7C-81FB-440F-B183-130DDFD9557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B140445-521B-4F63-B72A-26F97C944CD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407EE21-C61D-4647-BFFD-887413A736B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E793BB8-DF44-465E-8643-46CBB904D6C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892753A-2223-4C01-8C37-76F41BCF8A7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B5E1A7A-4F2B-4207-BB8A-A91A6C2222F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3F48E12-A93E-4982-ACE7-377F4E5CBE3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C9DEBFE-5626-4B9B-8C8B-B261925BBCE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55C7A96-70C7-482A-AD64-ABE50AEC877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19A1A48-A8CB-4C6C-9A69-11A50657AAE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5FA00F2-4B4E-4189-AC1D-B07E418C37C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5B77A31-ABAC-4C3D-95A1-C8EE26AA416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6439A08-C6B7-403E-8D62-88C7FCC3929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98B6DF4-8CDA-4D68-B5FF-0EF15B6823E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20B25B5-2F1C-400E-BE78-240C676F19A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D2372ED-4455-4D1F-A452-4B5E1237E7A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144C524-A060-440E-AD70-26617092341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BDD7D64-D2F1-4063-AFBC-563A0571421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D92EDE3-C76E-456C-B48C-CD9BE5A7333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1929644-9860-4E7A-9627-9EDC7D8014A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4B7C6F8-C58E-403B-AFBC-0AB07238C8A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A6A7697-21AD-45D1-A020-CD9A0590DFE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98AA2F3-B86B-4AC8-8B64-B68A98450A1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39D6ADB-261F-4DAD-ABA3-E8B4E39B9FA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5E75657-10C4-4165-A773-31CC4A00E97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379C864-0376-454B-903B-F951AB61098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E9982E0-0CD4-43A2-A10B-0792D314312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7727DF1-D097-4033-BFA8-688B25EAA44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59F6035-5ABA-4BA2-BD5A-D36BF455623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FB4174E-0B1D-40EA-89AB-97768574500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7A44A76-8CD9-43EF-9989-8671F2BB0DE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4F2831B-39E4-45FD-8E93-938714736DC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3603872-057D-4441-80F6-4DC5148666A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06BF945-874E-4459-B446-992920200B0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1A195D4-8F46-440B-B3AD-3340237120A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00B2FF3-82A1-4703-84B2-01BDB20F2C7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3D5CD6C-6F4D-40C5-9AF4-96FACC14BC7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8E53D-0A99-4E3F-AF84-98DDD74B8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454D2FF-E77E-42FC-9554-B3638E38921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3B451-D6AC-4BCE-A075-0C09E3007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5BCA2-DCB4-4487-B726-0636191F1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A8F6F-4D6A-4FF6-A0D5-3C37E92E3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AE486-7AE0-4EBA-9F98-519C68182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EF481-48C8-4D9E-8C62-63080FC91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0CEC0-E602-4A64-BD8F-00A2BB6C9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7293E-F832-4A9B-B827-A94B6FA07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1123D-9AAA-4811-9637-601CD4BFE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04B9C-0E49-4EAF-8A8F-25FEEB40B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A5895-95AA-4A44-8A03-2ACC9C580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C4B28-33AB-4105-9153-3BCB5FB99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121B45-5F65-4ED8-8042-AE1C55A04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68094-69D4-4B6B-B96C-4C5CD5417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30D6D3-A5CF-45E3-A00C-7469FE0B87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4242A-05E5-471B-B8E6-DF3AC957F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DB0759-746E-45B9-9E0C-66B5CB68CE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9897E5-C8A5-4806-83E2-98799AB33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B3F511-0F9B-4BFF-A123-AC2623C1D5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ED7CFA-152D-469A-BA64-BD25F581AC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5CB5EB-E15F-4F21-A4FE-3E09A99B45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7119B-8E2F-4842-9BFA-EA92C75DA6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F0FBF2-614A-4619-8B60-0B54C4553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6BD4DE-0F35-499B-939E-AE29B5E08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A1E0D4-8066-47B4-B224-3FC956AC37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FB3D8C-7876-4C3F-8B71-D50CFC648E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F48F1-3E6A-41DB-A417-5CEE60CFD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AEB5BB-11E2-4A82-A5D9-CAD3254AEA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482C84-52DA-40FD-B6EB-E59871963D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18383-10F4-4B41-879A-5607F343DC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75C8F-9071-4DC4-9E62-14FEC11B34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0BF067-3205-461B-901C-C31E545A12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3E2D60-5231-496F-88A8-B3FCA5CF9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7E33FA-8125-4078-B912-4D4AA27C91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28842D-697D-4EEB-902D-53943BB8F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326BE-D86D-45DF-A1DB-F99A42B84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B0AAC6-7D86-4922-A51A-577A45972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5A195-D42B-4F5B-BFBB-8F04DF712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B249BC-846F-4EFB-8859-0972710F8C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EA8C06-B628-42B9-83F6-9ADB270A63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965560-8095-4866-ACE1-4740DE497C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1C8664-CA63-44EF-94C8-E7B27F966D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835CA2-FF2F-4C80-92C9-013612ACFA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5CE08A-63BC-4D6C-9FB9-523955F079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44619A-31E4-4334-821C-15EDC53A9F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C89559-9A90-41C5-9E95-20410ACD84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7ECFD8-EEDF-4729-8830-C183C8A556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3728AE-8A3D-4DDA-82F0-D0576EA07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B0BE6-E35F-4642-94FD-58FC269BB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2E221C-E258-44AA-9640-4DCB1B6993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9EDC7-9689-42B3-B4ED-EA13A96DC8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77E451-3C87-41AE-9355-20A24F278C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356911-FAE3-4ACD-BD60-6A69F958A2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556CD3-909D-486B-9487-DA5E308B2A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62BF8D-EFD0-40C8-828C-C67452F00D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F8D5BC-47BA-47F0-8F13-D5BEE7D115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3661A2-B7E4-4940-B8CC-60FD089422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9EA8B8-C498-4E84-8064-452DE908BA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A04B09-0A53-4747-8781-FD56D4CF6B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4623C-31B9-48A5-983E-2E1019740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2FA5C5-7653-4034-8083-07A82936F4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B537BB-21DC-4C2E-A2E5-91A2C58C5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A86F42-6E2C-49A1-8D3C-52B0EED010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C6D67C-6DF0-4F6D-B023-43411E4298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D8B53E-6CA9-4D62-80FE-022BEA51E8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450983-EBFC-4675-8976-62CF9558B7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E411F2-88E3-43B0-91B0-0F983D1EBC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263B0A-2792-48B5-AF72-E1503440AF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63EA4F-F369-458E-B1C0-59A3AF5DEB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BED482-F69E-4E6D-A2AB-73064C4487D7}"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8599-9F9D-4F87-8F60-302015441AD4}"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6" name="Round Diagonal Corner Rectangle 10"/>
          <p:cNvSpPr/>
          <p:nvPr/>
        </p:nvSpPr>
        <p:spPr>
          <a:xfrm>
            <a:off x="179280" y="44280"/>
            <a:ext cx="8785440" cy="576360"/>
          </a:xfrm>
          <a:custGeom>
            <a:avLst/>
            <a:gdLst>
              <a:gd name="textAreaLeft" fmla="*/ 28080 w 8785440"/>
              <a:gd name="textAreaRight" fmla="*/ 8757360 w 8785440"/>
              <a:gd name="textAreaTop" fmla="*/ 28080 h 576360"/>
              <a:gd name="textAreaBottom" fmla="*/ 548280 h 576360"/>
            </a:gdLst>
            <a:ahLst/>
            <a:rect l="textAreaLeft" t="textAreaTop" r="textAreaRight" b="textAreaBottom"/>
            <a:pathLst>
              <a:path w="8785225" h="576263">
                <a:moveTo>
                  <a:pt x="96046" y="0"/>
                </a:moveTo>
                <a:lnTo>
                  <a:pt x="8785225" y="0"/>
                </a:lnTo>
                <a:lnTo>
                  <a:pt x="8785225" y="480217"/>
                </a:lnTo>
                <a:lnTo>
                  <a:pt x="8785225" y="480217"/>
                </a:lnTo>
                <a:arcTo wR="96046" hR="96046" stAng="0" swAng="5400000"/>
                <a:lnTo>
                  <a:pt x="0" y="576263"/>
                </a:lnTo>
                <a:lnTo>
                  <a:pt x="0" y="96046"/>
                </a:lnTo>
                <a:lnTo>
                  <a:pt x="0" y="96046"/>
                </a:lnTo>
                <a:arcTo wR="96046" hR="96046"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370"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1"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D496-2856-492D-AECF-802816B051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411"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2"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A406-1DC9-403B-954D-3EFFADE1F6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45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B40C-0B54-45F3-905E-BF21B467210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493"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94"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BC5A-FCB4-4881-ACDB-CFC7056282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534" name="PlaceHolder 1"/>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35" name="PlaceHolder 2"/>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3"/>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5079-4918-40F7-937A-CE049BC934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74" name="Picture 4" descr="ArmeSFo_Logo"/>
          <p:cNvPicPr/>
          <p:nvPr/>
        </p:nvPicPr>
        <p:blipFill>
          <a:blip r:embed="rId2"/>
          <a:stretch/>
        </p:blipFill>
        <p:spPr>
          <a:xfrm>
            <a:off x="3828960" y="73080"/>
            <a:ext cx="1390680" cy="476280"/>
          </a:xfrm>
          <a:prstGeom prst="rect">
            <a:avLst/>
          </a:prstGeom>
          <a:ln w="0">
            <a:noFill/>
          </a:ln>
        </p:spPr>
      </p:pic>
      <p:sp>
        <p:nvSpPr>
          <p:cNvPr id="575"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576" name="PlaceHolder 1"/>
          <p:cNvSpPr>
            <a:spLocks noGrp="1"/>
          </p:cNvSpPr>
          <p:nvPr>
            <p:ph type="dt" idx="3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77" name="PlaceHolder 2"/>
          <p:cNvSpPr>
            <a:spLocks noGrp="1"/>
          </p:cNvSpPr>
          <p:nvPr>
            <p:ph type="ftr" idx="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3"/>
          <p:cNvSpPr>
            <a:spLocks noGrp="1"/>
          </p:cNvSpPr>
          <p:nvPr>
            <p:ph type="sldNum" idx="3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973DC-127C-4016-A20A-17E5087C89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6" name="Picture 4" descr="ArmeSFo_Logo"/>
          <p:cNvPicPr/>
          <p:nvPr/>
        </p:nvPicPr>
        <p:blipFill>
          <a:blip r:embed="rId2"/>
          <a:stretch/>
        </p:blipFill>
        <p:spPr>
          <a:xfrm>
            <a:off x="3828960" y="73080"/>
            <a:ext cx="1390680" cy="476280"/>
          </a:xfrm>
          <a:prstGeom prst="rect">
            <a:avLst/>
          </a:prstGeom>
          <a:ln w="0">
            <a:noFill/>
          </a:ln>
        </p:spPr>
      </p:pic>
      <p:sp>
        <p:nvSpPr>
          <p:cNvPr id="617"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618" name="PlaceHolder 1"/>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19" name="PlaceHolder 2"/>
          <p:cNvSpPr>
            <a:spLocks noGrp="1"/>
          </p:cNvSpPr>
          <p:nvPr>
            <p:ph type="ftr" idx="4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3"/>
          <p:cNvSpPr>
            <a:spLocks noGrp="1"/>
          </p:cNvSpPr>
          <p:nvPr>
            <p:ph type="sldNum" idx="4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EE98-471B-44C7-87CE-5F012A4779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8" name="Picture 4" descr="ArmeSFo_Logo"/>
          <p:cNvPicPr/>
          <p:nvPr/>
        </p:nvPicPr>
        <p:blipFill>
          <a:blip r:embed="rId2"/>
          <a:stretch/>
        </p:blipFill>
        <p:spPr>
          <a:xfrm>
            <a:off x="3828960" y="73080"/>
            <a:ext cx="1390680" cy="476280"/>
          </a:xfrm>
          <a:prstGeom prst="rect">
            <a:avLst/>
          </a:prstGeom>
          <a:ln w="0">
            <a:noFill/>
          </a:ln>
        </p:spPr>
      </p:pic>
      <p:sp>
        <p:nvSpPr>
          <p:cNvPr id="659"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660" name="PlaceHolder 1"/>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61" name="PlaceHolder 2"/>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3"/>
          <p:cNvSpPr>
            <a:spLocks noGrp="1"/>
          </p:cNvSpPr>
          <p:nvPr>
            <p:ph type="sldNum" idx="4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DC2E-53DC-4287-A1C0-2DD1D2494E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6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2" name="Picture 4" descr="ArmeSFo_Logo"/>
          <p:cNvPicPr/>
          <p:nvPr/>
        </p:nvPicPr>
        <p:blipFill>
          <a:blip r:embed="rId2"/>
          <a:stretch/>
        </p:blipFill>
        <p:spPr>
          <a:xfrm>
            <a:off x="3828960" y="73080"/>
            <a:ext cx="1390680" cy="476280"/>
          </a:xfrm>
          <a:prstGeom prst="rect">
            <a:avLst/>
          </a:prstGeom>
          <a:ln w="0">
            <a:noFill/>
          </a:ln>
        </p:spPr>
      </p:pic>
      <p:sp>
        <p:nvSpPr>
          <p:cNvPr id="703"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704" name="PlaceHolder 1"/>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05" name="PlaceHolder 2"/>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3"/>
          <p:cNvSpPr>
            <a:spLocks noGrp="1"/>
          </p:cNvSpPr>
          <p:nvPr>
            <p:ph type="sldNum" idx="4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CA2D-3D4C-4830-910E-2636049E58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44" name="Picture 4" descr="ArmeSFo_Logo"/>
          <p:cNvPicPr/>
          <p:nvPr/>
        </p:nvPicPr>
        <p:blipFill>
          <a:blip r:embed="rId2"/>
          <a:stretch/>
        </p:blipFill>
        <p:spPr>
          <a:xfrm>
            <a:off x="3828960" y="73080"/>
            <a:ext cx="1390680" cy="476280"/>
          </a:xfrm>
          <a:prstGeom prst="rect">
            <a:avLst/>
          </a:prstGeom>
          <a:ln w="0">
            <a:noFill/>
          </a:ln>
        </p:spPr>
      </p:pic>
      <p:sp>
        <p:nvSpPr>
          <p:cNvPr id="745"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746" name="PlaceHolder 1"/>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47" name="PlaceHolder 2"/>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3"/>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FEF7-D4EE-4D58-ABF9-CCC1EF0817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6" name="Picture 4" descr="ArmeSFo_Logo"/>
          <p:cNvPicPr/>
          <p:nvPr/>
        </p:nvPicPr>
        <p:blipFill>
          <a:blip r:embed="rId2"/>
          <a:stretch/>
        </p:blipFill>
        <p:spPr>
          <a:xfrm>
            <a:off x="3828960" y="73080"/>
            <a:ext cx="1390680" cy="476280"/>
          </a:xfrm>
          <a:prstGeom prst="rect">
            <a:avLst/>
          </a:prstGeom>
          <a:ln w="0">
            <a:noFill/>
          </a:ln>
        </p:spPr>
      </p:pic>
      <p:sp>
        <p:nvSpPr>
          <p:cNvPr id="787"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788"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89" name="PlaceHolder 2"/>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3"/>
          <p:cNvSpPr>
            <a:spLocks noGrp="1"/>
          </p:cNvSpPr>
          <p:nvPr>
            <p:ph type="sldNum" idx="5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B86D-79B5-4632-B276-B68646CFAC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8" name="Picture 4" descr="ArmeSFo_Logo"/>
          <p:cNvPicPr/>
          <p:nvPr/>
        </p:nvPicPr>
        <p:blipFill>
          <a:blip r:embed="rId2"/>
          <a:stretch/>
        </p:blipFill>
        <p:spPr>
          <a:xfrm>
            <a:off x="3828960" y="73080"/>
            <a:ext cx="1390680" cy="476280"/>
          </a:xfrm>
          <a:prstGeom prst="rect">
            <a:avLst/>
          </a:prstGeom>
          <a:ln w="0">
            <a:noFill/>
          </a:ln>
        </p:spPr>
      </p:pic>
      <p:sp>
        <p:nvSpPr>
          <p:cNvPr id="829"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830" name="PlaceHolder 1"/>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1" name="PlaceHolder 2"/>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B885-637B-4E95-9626-78B492EBD3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70" name="Picture 4" descr="ArmeSFo_Logo"/>
          <p:cNvPicPr/>
          <p:nvPr/>
        </p:nvPicPr>
        <p:blipFill>
          <a:blip r:embed="rId2"/>
          <a:stretch/>
        </p:blipFill>
        <p:spPr>
          <a:xfrm>
            <a:off x="3828960" y="73080"/>
            <a:ext cx="1390680" cy="476280"/>
          </a:xfrm>
          <a:prstGeom prst="rect">
            <a:avLst/>
          </a:prstGeom>
          <a:ln w="0">
            <a:noFill/>
          </a:ln>
        </p:spPr>
      </p:pic>
      <p:sp>
        <p:nvSpPr>
          <p:cNvPr id="871"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872" name="PlaceHolder 1"/>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73" name="PlaceHolder 2"/>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PlaceHolder 3"/>
          <p:cNvSpPr>
            <a:spLocks noGrp="1"/>
          </p:cNvSpPr>
          <p:nvPr>
            <p:ph type="sldNum" idx="6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3C6F-3EE6-4297-A4C2-51BC5F2E03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12" name="Picture 4" descr="ArmeSFo_Logo"/>
          <p:cNvPicPr/>
          <p:nvPr/>
        </p:nvPicPr>
        <p:blipFill>
          <a:blip r:embed="rId2"/>
          <a:stretch/>
        </p:blipFill>
        <p:spPr>
          <a:xfrm>
            <a:off x="3828960" y="73080"/>
            <a:ext cx="1390680" cy="476280"/>
          </a:xfrm>
          <a:prstGeom prst="rect">
            <a:avLst/>
          </a:prstGeom>
          <a:ln w="0">
            <a:noFill/>
          </a:ln>
        </p:spPr>
      </p:pic>
      <p:sp>
        <p:nvSpPr>
          <p:cNvPr id="913"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914" name="PlaceHolder 1"/>
          <p:cNvSpPr>
            <a:spLocks noGrp="1"/>
          </p:cNvSpPr>
          <p:nvPr>
            <p:ph type="dt" idx="6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15" name="PlaceHolder 2"/>
          <p:cNvSpPr>
            <a:spLocks noGrp="1"/>
          </p:cNvSpPr>
          <p:nvPr>
            <p:ph type="ftr" idx="6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PlaceHolder 3"/>
          <p:cNvSpPr>
            <a:spLocks noGrp="1"/>
          </p:cNvSpPr>
          <p:nvPr>
            <p:ph type="sldNum" idx="6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8E8D-915D-4AD9-AB81-640CFF99AA0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4" name="Picture 4" descr="ArmeSFo_Logo"/>
          <p:cNvPicPr/>
          <p:nvPr/>
        </p:nvPicPr>
        <p:blipFill>
          <a:blip r:embed="rId2"/>
          <a:stretch/>
        </p:blipFill>
        <p:spPr>
          <a:xfrm>
            <a:off x="3828960" y="73080"/>
            <a:ext cx="1390680" cy="476280"/>
          </a:xfrm>
          <a:prstGeom prst="rect">
            <a:avLst/>
          </a:prstGeom>
          <a:ln w="0">
            <a:noFill/>
          </a:ln>
        </p:spPr>
      </p:pic>
      <p:sp>
        <p:nvSpPr>
          <p:cNvPr id="955"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956" name="PlaceHolder 1"/>
          <p:cNvSpPr>
            <a:spLocks noGrp="1"/>
          </p:cNvSpPr>
          <p:nvPr>
            <p:ph type="dt" idx="6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57" name="PlaceHolder 2"/>
          <p:cNvSpPr>
            <a:spLocks noGrp="1"/>
          </p:cNvSpPr>
          <p:nvPr>
            <p:ph type="ftr" idx="6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PlaceHolder 3"/>
          <p:cNvSpPr>
            <a:spLocks noGrp="1"/>
          </p:cNvSpPr>
          <p:nvPr>
            <p:ph type="sldNum" idx="6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7A2F-2E2D-42BC-AD84-D53BCE2B82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6" name="Picture 4" descr="ArmeSFo_Logo"/>
          <p:cNvPicPr/>
          <p:nvPr/>
        </p:nvPicPr>
        <p:blipFill>
          <a:blip r:embed="rId2"/>
          <a:stretch/>
        </p:blipFill>
        <p:spPr>
          <a:xfrm>
            <a:off x="3828960" y="73080"/>
            <a:ext cx="1390680" cy="476280"/>
          </a:xfrm>
          <a:prstGeom prst="rect">
            <a:avLst/>
          </a:prstGeom>
          <a:ln w="0">
            <a:noFill/>
          </a:ln>
        </p:spPr>
      </p:pic>
      <p:sp>
        <p:nvSpPr>
          <p:cNvPr id="997"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998" name="PlaceHolder 1"/>
          <p:cNvSpPr>
            <a:spLocks noGrp="1"/>
          </p:cNvSpPr>
          <p:nvPr>
            <p:ph type="dt" idx="6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99" name="PlaceHolder 2"/>
          <p:cNvSpPr>
            <a:spLocks noGrp="1"/>
          </p:cNvSpPr>
          <p:nvPr>
            <p:ph type="ftr" idx="6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PlaceHolder 3"/>
          <p:cNvSpPr>
            <a:spLocks noGrp="1"/>
          </p:cNvSpPr>
          <p:nvPr>
            <p:ph type="sldNum" idx="6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1013-2E1A-4699-B05A-970BFA2790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4" descr="ArmeSFo_Logo"/>
          <p:cNvPicPr/>
          <p:nvPr/>
        </p:nvPicPr>
        <p:blipFill>
          <a:blip r:embed="rId2"/>
          <a:stretch/>
        </p:blipFill>
        <p:spPr>
          <a:xfrm>
            <a:off x="3828960" y="73080"/>
            <a:ext cx="1390680" cy="476280"/>
          </a:xfrm>
          <a:prstGeom prst="rect">
            <a:avLst/>
          </a:prstGeom>
          <a:ln w="0">
            <a:noFill/>
          </a:ln>
        </p:spPr>
      </p:pic>
      <p:sp>
        <p:nvSpPr>
          <p:cNvPr id="83"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121" name="Round Diagonal Corner Rectangle 10"/>
          <p:cNvSpPr/>
          <p:nvPr/>
        </p:nvSpPr>
        <p:spPr>
          <a:xfrm>
            <a:off x="179280" y="44280"/>
            <a:ext cx="8785440" cy="576360"/>
          </a:xfrm>
          <a:custGeom>
            <a:avLst/>
            <a:gdLst>
              <a:gd name="textAreaLeft" fmla="*/ 28080 w 8785440"/>
              <a:gd name="textAreaRight" fmla="*/ 8757360 w 8785440"/>
              <a:gd name="textAreaTop" fmla="*/ 28080 h 576360"/>
              <a:gd name="textAreaBottom" fmla="*/ 548280 h 576360"/>
            </a:gdLst>
            <a:ahLst/>
            <a:rect l="textAreaLeft" t="textAreaTop" r="textAreaRight" b="textAreaBottom"/>
            <a:pathLst>
              <a:path w="8785225" h="576263">
                <a:moveTo>
                  <a:pt x="96046" y="0"/>
                </a:moveTo>
                <a:lnTo>
                  <a:pt x="8785225" y="0"/>
                </a:lnTo>
                <a:lnTo>
                  <a:pt x="8785225" y="480217"/>
                </a:lnTo>
                <a:lnTo>
                  <a:pt x="8785225" y="480217"/>
                </a:lnTo>
                <a:arcTo wR="96046" hR="96046" stAng="0" swAng="5400000"/>
                <a:lnTo>
                  <a:pt x="0" y="576263"/>
                </a:lnTo>
                <a:lnTo>
                  <a:pt x="0" y="96046"/>
                </a:lnTo>
                <a:lnTo>
                  <a:pt x="0" y="96046"/>
                </a:lnTo>
                <a:arcTo wR="96046" hR="96046"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9055-40BC-4607-9F6D-B64C37C1F452}"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165"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6"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662EA-BF71-4170-9A5C-3B18C8F52E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206"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7"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93E8-8188-40C8-8373-3440F6508E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247"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8"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C92D-14F9-4D74-87EC-A13E18FD70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288"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9"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B1A4-75D2-498D-8D2C-21B732A417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32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30"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C8A1-BA11-4E61-8CD0-E8A7C0FB817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0" y="2421000"/>
            <a:ext cx="9144000" cy="65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rmeSFo CA update</a:t>
            </a:r>
            <a:br>
              <a:rPr sz="4400"/>
            </a:br>
            <a:endParaRPr b="0" lang="en-US" sz="4400" spc="-1" strike="noStrike">
              <a:solidFill>
                <a:srgbClr val="000000"/>
              </a:solidFill>
              <a:latin typeface="Calibri"/>
            </a:endParaRPr>
          </a:p>
        </p:txBody>
      </p:sp>
      <p:sp>
        <p:nvSpPr>
          <p:cNvPr id="1038" name="PlaceHolder 2"/>
          <p:cNvSpPr>
            <a:spLocks noGrp="1"/>
          </p:cNvSpPr>
          <p:nvPr>
            <p:ph type="subTitle"/>
          </p:nvPr>
        </p:nvSpPr>
        <p:spPr>
          <a:xfrm>
            <a:off x="1371600" y="3885840"/>
            <a:ext cx="6400800" cy="119844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alibri"/>
              </a:rPr>
              <a:t>Armenuhi Abramyan, Narine Manukyan</a:t>
            </a:r>
            <a:endParaRPr b="0" lang="en-US" sz="28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eada"/>
                </a:solidFill>
                <a:latin typeface="Calibri"/>
              </a:rPr>
              <a:t>aabramya@escience.am, nmanukya@escience.am</a:t>
            </a:r>
            <a:endParaRPr b="0" lang="en-US" sz="1800" spc="-1" strike="noStrike">
              <a:solidFill>
                <a:srgbClr val="000000"/>
              </a:solidFill>
              <a:latin typeface="Calibri"/>
            </a:endParaRPr>
          </a:p>
        </p:txBody>
      </p:sp>
      <p:pic>
        <p:nvPicPr>
          <p:cNvPr id="1039" name="Picture 4" descr="ArmeSFo_Logo"/>
          <p:cNvPicPr/>
          <p:nvPr/>
        </p:nvPicPr>
        <p:blipFill>
          <a:blip r:embed="rId1"/>
          <a:stretch/>
        </p:blipFill>
        <p:spPr>
          <a:xfrm>
            <a:off x="3828960" y="73080"/>
            <a:ext cx="1390680" cy="476280"/>
          </a:xfrm>
          <a:prstGeom prst="rect">
            <a:avLst/>
          </a:prstGeom>
          <a:ln w="0">
            <a:noFill/>
          </a:ln>
        </p:spPr>
      </p:pic>
      <p:sp>
        <p:nvSpPr>
          <p:cNvPr id="1040" name="Rectangle 4"/>
          <p:cNvSpPr/>
          <p:nvPr/>
        </p:nvSpPr>
        <p:spPr>
          <a:xfrm>
            <a:off x="2232000" y="76500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lide Number Placeholder 2"/>
          <p:cNvSpPr/>
          <p:nvPr/>
        </p:nvSpPr>
        <p:spPr>
          <a:xfrm>
            <a:off x="8271000" y="6437160"/>
            <a:ext cx="761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FA1B-3C22-4090-8B9A-09BC69F511B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70" name="TextBox 6"/>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Educational programme</a:t>
            </a:r>
            <a:endParaRPr b="0" lang="en-US" sz="3600" spc="-1" strike="noStrike">
              <a:solidFill>
                <a:srgbClr val="000000"/>
              </a:solidFill>
              <a:latin typeface="Arial"/>
            </a:endParaRPr>
          </a:p>
        </p:txBody>
      </p:sp>
      <p:sp>
        <p:nvSpPr>
          <p:cNvPr id="1071" name="Rectangle 3"/>
          <p:cNvSpPr/>
          <p:nvPr/>
        </p:nvSpPr>
        <p:spPr>
          <a:xfrm>
            <a:off x="285840" y="1428840"/>
            <a:ext cx="8358120" cy="3904920"/>
          </a:xfrm>
          <a:prstGeom prst="rect">
            <a:avLst/>
          </a:prstGeom>
          <a:noFill/>
          <a:ln w="0">
            <a:noFill/>
          </a:ln>
        </p:spPr>
        <p:style>
          <a:lnRef idx="0"/>
          <a:fillRef idx="0"/>
          <a:effectRef idx="0"/>
          <a:fontRef idx="minor"/>
        </p:style>
        <p:txBody>
          <a:bodyPr lIns="90000" rIns="90000" tIns="46800" bIns="46800" anchor="t">
            <a:spAutoFit/>
          </a:bodyPr>
          <a:p>
            <a:pPr marL="343080" indent="-228600" algn="just">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alibri"/>
                <a:ea typeface="Arial"/>
              </a:rPr>
              <a:t>An educational web portal </a:t>
            </a:r>
            <a:r>
              <a:rPr b="1" i="1" lang="en-US" sz="2000" spc="-1" strike="noStrike" u="sng">
                <a:solidFill>
                  <a:srgbClr val="ff3300"/>
                </a:solidFill>
                <a:uFillTx/>
                <a:latin typeface="Calibri"/>
                <a:ea typeface="Arial"/>
              </a:rPr>
              <a:t>WhyPKI</a:t>
            </a:r>
            <a:r>
              <a:rPr b="1" lang="en-US" sz="2000" spc="-1" strike="noStrike">
                <a:solidFill>
                  <a:srgbClr val="000000"/>
                </a:solidFill>
                <a:latin typeface="Calibri"/>
                <a:ea typeface="Arial"/>
              </a:rPr>
              <a:t> </a:t>
            </a:r>
            <a:r>
              <a:rPr b="1" lang="en-US" sz="2000" spc="-1" strike="noStrike">
                <a:solidFill>
                  <a:srgbClr val="008000"/>
                </a:solidFill>
                <a:latin typeface="Calibri"/>
                <a:ea typeface="Arial"/>
              </a:rPr>
              <a:t>dedicated to the security in cyberspace has been created </a:t>
            </a:r>
            <a:r>
              <a:rPr b="0" lang="en-US" sz="2000" spc="-1" strike="noStrike">
                <a:solidFill>
                  <a:srgbClr val="000000"/>
                </a:solidFill>
                <a:latin typeface="Calibri"/>
                <a:ea typeface="Arial"/>
              </a:rPr>
              <a:t>(http://www.escience.am/whypki/). </a:t>
            </a:r>
            <a:r>
              <a:rPr b="1" lang="en-US" sz="2000" spc="-1" strike="noStrike">
                <a:solidFill>
                  <a:srgbClr val="008000"/>
                </a:solidFill>
                <a:latin typeface="Calibri"/>
                <a:ea typeface="Arial"/>
              </a:rPr>
              <a:t>The portal is bilingual, in Armenian and English, which is important for the development of the Armenian cybersecurity vocabulary</a:t>
            </a:r>
            <a:endParaRPr b="0" lang="en-US" sz="2000" spc="-1" strike="noStrike">
              <a:solidFill>
                <a:srgbClr val="000000"/>
              </a:solidFill>
              <a:latin typeface="Arial"/>
            </a:endParaRPr>
          </a:p>
          <a:p>
            <a:pPr marL="34308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28600" algn="just">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Arial"/>
              </a:rPr>
              <a:t>An educational CA, </a:t>
            </a:r>
            <a:r>
              <a:rPr b="1" i="1" lang="en-US" sz="2000" spc="-1" strike="noStrike" u="sng">
                <a:solidFill>
                  <a:srgbClr val="ff3300"/>
                </a:solidFill>
                <a:uFillTx/>
                <a:latin typeface="Calibri"/>
                <a:ea typeface="Arial"/>
              </a:rPr>
              <a:t>ToyCA</a:t>
            </a:r>
            <a:r>
              <a:rPr b="1" lang="en-US" sz="2000" spc="-1" strike="noStrike">
                <a:solidFill>
                  <a:srgbClr val="1f497d"/>
                </a:solidFill>
                <a:latin typeface="Calibri"/>
                <a:ea typeface="Arial"/>
              </a:rPr>
              <a:t>, providing certificates for any requestor has been created</a:t>
            </a:r>
            <a:endParaRPr b="0" lang="en-US" sz="2000" spc="-1" strike="noStrike">
              <a:solidFill>
                <a:srgbClr val="000000"/>
              </a:solidFill>
              <a:latin typeface="Arial"/>
            </a:endParaRPr>
          </a:p>
          <a:p>
            <a:pPr marL="34308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he </a:t>
            </a:r>
            <a:r>
              <a:rPr b="1" i="1" lang="en-US" sz="2000" spc="-1" strike="noStrike" u="sng">
                <a:solidFill>
                  <a:srgbClr val="ff3300"/>
                </a:solidFill>
                <a:uFillTx/>
                <a:latin typeface="Calibri"/>
                <a:ea typeface="Arial"/>
              </a:rPr>
              <a:t>WhyPKI</a:t>
            </a:r>
            <a:r>
              <a:rPr b="1" lang="ru-RU" sz="2000" spc="-1" strike="noStrike">
                <a:solidFill>
                  <a:srgbClr val="000000"/>
                </a:solidFill>
                <a:latin typeface="Calibri"/>
                <a:ea typeface="Arial"/>
              </a:rPr>
              <a:t> </a:t>
            </a:r>
            <a:r>
              <a:rPr b="1" lang="en-US" sz="2000" spc="-1" strike="noStrike">
                <a:solidFill>
                  <a:srgbClr val="000000"/>
                </a:solidFill>
                <a:latin typeface="Calibri"/>
                <a:ea typeface="Arial"/>
              </a:rPr>
              <a:t>portal provides for </a:t>
            </a:r>
            <a:r>
              <a:rPr b="1" i="1" lang="en-US" sz="2000" spc="-1" strike="noStrike" u="sng">
                <a:solidFill>
                  <a:srgbClr val="ff3300"/>
                </a:solidFill>
                <a:uFillTx/>
                <a:latin typeface="Calibri"/>
                <a:ea typeface="Arial"/>
              </a:rPr>
              <a:t>ToyCA</a:t>
            </a:r>
            <a:r>
              <a:rPr b="1" lang="en-US" sz="2000" spc="-1" strike="noStrike">
                <a:solidFill>
                  <a:srgbClr val="000000"/>
                </a:solidFill>
                <a:latin typeface="Calibri"/>
                <a:ea typeface="Arial"/>
              </a:rPr>
              <a:t> an interface for generation of private keys and certificate requests (http://www.escience.am/whypki/?q=node/135)</a:t>
            </a:r>
            <a:endParaRPr b="0" lang="en-US" sz="2000" spc="-1" strike="noStrike">
              <a:solidFill>
                <a:srgbClr val="000000"/>
              </a:solidFill>
              <a:latin typeface="Arial"/>
            </a:endParaRPr>
          </a:p>
          <a:p>
            <a:pPr marL="34308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Bachelor student has been actively involved in the creation of </a:t>
            </a:r>
            <a:r>
              <a:rPr b="1" i="1" lang="en-US" sz="2000" spc="-1" strike="noStrike" u="sng">
                <a:solidFill>
                  <a:srgbClr val="ff3300"/>
                </a:solidFill>
                <a:uFillTx/>
                <a:latin typeface="Calibri"/>
                <a:ea typeface="Arial"/>
              </a:rPr>
              <a:t>WhyPKI</a:t>
            </a:r>
            <a:r>
              <a:rPr b="1" lang="en-US" sz="2000" spc="-1" strike="noStrike">
                <a:solidFill>
                  <a:srgbClr val="000000"/>
                </a:solidFill>
                <a:latin typeface="Calibri"/>
                <a:ea typeface="Arial"/>
              </a:rPr>
              <a:t> </a:t>
            </a:r>
            <a:r>
              <a:rPr b="0" lang="en-US" sz="2000" spc="-1" strike="noStrike">
                <a:solidFill>
                  <a:srgbClr val="000000"/>
                </a:solidFill>
                <a:latin typeface="Calibri"/>
                <a:ea typeface="Arial"/>
              </a:rPr>
              <a:t>and </a:t>
            </a:r>
            <a:r>
              <a:rPr b="1" i="1" lang="en-US" sz="2000" spc="-1" strike="noStrike" u="sng">
                <a:solidFill>
                  <a:srgbClr val="ff3300"/>
                </a:solidFill>
                <a:uFillTx/>
                <a:latin typeface="Calibri"/>
                <a:ea typeface="Arial"/>
              </a:rPr>
              <a:t>Toy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Slide Number Placeholder 2"/>
          <p:cNvSpPr/>
          <p:nvPr/>
        </p:nvSpPr>
        <p:spPr>
          <a:xfrm>
            <a:off x="8211960" y="6400800"/>
            <a:ext cx="824040" cy="341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6D83-3942-416E-8AE6-561FAD6A9D6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73" name="TextBox 4"/>
          <p:cNvSpPr/>
          <p:nvPr/>
        </p:nvSpPr>
        <p:spPr>
          <a:xfrm>
            <a:off x="285840" y="1214280"/>
            <a:ext cx="8665920" cy="4115880"/>
          </a:xfrm>
          <a:prstGeom prst="rect">
            <a:avLst/>
          </a:prstGeom>
          <a:noFill/>
          <a:ln w="0">
            <a:noFill/>
          </a:ln>
        </p:spPr>
        <p:style>
          <a:lnRef idx="0"/>
          <a:fillRef idx="0"/>
          <a:effectRef idx="0"/>
          <a:fontRef idx="minor"/>
        </p:style>
        <p:txBody>
          <a:bodyPr lIns="90000" rIns="90000" tIns="46800" bIns="46800" anchor="t">
            <a:spAutoFit/>
          </a:bodyPr>
          <a:p>
            <a:pPr indent="291960">
              <a:lnSpc>
                <a:spcPct val="15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Transition to the issuance of SHA-2 based certs and preparation of appropriate user explanatory documents (by January 1, 2013);</a:t>
            </a:r>
            <a:endParaRPr b="0" lang="en-US" sz="1800" spc="-1" strike="noStrike">
              <a:solidFill>
                <a:srgbClr val="000000"/>
              </a:solidFill>
              <a:latin typeface="Arial"/>
            </a:endParaRPr>
          </a:p>
          <a:p>
            <a:pPr indent="291960">
              <a:lnSpc>
                <a:spcPct val="15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291960">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Deployment of a production OCSP responder on ArmeSFo CA server (b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January 1, 2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1960">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Enabling IPv6 for the end-point of CRL and OCSP responder;</a:t>
            </a:r>
            <a:endParaRPr b="0" lang="en-US" sz="1800" spc="-1" strike="noStrike">
              <a:solidFill>
                <a:srgbClr val="000000"/>
              </a:solidFill>
              <a:latin typeface="Arial"/>
            </a:endParaRPr>
          </a:p>
          <a:p>
            <a:pPr indent="291960">
              <a:lnSpc>
                <a:spcPct val="15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291960">
              <a:lnSpc>
                <a:spcPct val="150000"/>
              </a:lnSpc>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Arial"/>
              </a:rPr>
              <a:t>Generation of a new 4096-bit ArmeSFo CA private key;</a:t>
            </a:r>
            <a:endParaRPr b="0" lang="en-US" sz="1800" spc="-1" strike="noStrike">
              <a:solidFill>
                <a:srgbClr val="000000"/>
              </a:solidFill>
              <a:latin typeface="Arial"/>
            </a:endParaRPr>
          </a:p>
          <a:p>
            <a:pPr indent="291960">
              <a:lnSpc>
                <a:spcPct val="150000"/>
              </a:lnSpc>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291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ance of new version of the CP/CPS;</a:t>
            </a:r>
            <a:endParaRPr b="0" lang="en-US" sz="1800" spc="-1" strike="noStrike">
              <a:solidFill>
                <a:srgbClr val="000000"/>
              </a:solidFill>
              <a:latin typeface="Arial"/>
            </a:endParaRPr>
          </a:p>
          <a:p>
            <a:pPr indent="291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29196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Preparation of the new instructions for ArmeSFo CA operators, RAs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subscribers compatible with new CP/CPS.</a:t>
            </a:r>
            <a:endParaRPr b="0" lang="en-US" sz="1800" spc="-1" strike="noStrike">
              <a:solidFill>
                <a:srgbClr val="000000"/>
              </a:solidFill>
              <a:latin typeface="Arial"/>
            </a:endParaRPr>
          </a:p>
        </p:txBody>
      </p:sp>
      <p:sp>
        <p:nvSpPr>
          <p:cNvPr id="1074" name="TextBox 4"/>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Next ste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2857680" y="3143160"/>
            <a:ext cx="3063600" cy="665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THANK YOU!</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BC3C-9595-4379-9CE0-8B74F4ECACF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42" name="TextBox 5"/>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About Narine Manukyan</a:t>
            </a:r>
            <a:endParaRPr b="0" lang="en-US" sz="3600" spc="-1" strike="noStrike">
              <a:solidFill>
                <a:srgbClr val="000000"/>
              </a:solidFill>
              <a:latin typeface="Arial"/>
            </a:endParaRPr>
          </a:p>
        </p:txBody>
      </p:sp>
      <p:sp>
        <p:nvSpPr>
          <p:cNvPr id="1043" name="Rectangle 6"/>
          <p:cNvSpPr/>
          <p:nvPr/>
        </p:nvSpPr>
        <p:spPr>
          <a:xfrm>
            <a:off x="642960" y="1643040"/>
            <a:ext cx="8064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This presentation was planned to be presented by Narine Manuky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However, after a bicycle accident, happened ten days ago at CERN, she was strongly advised by physicians not to travel for some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lide Number Placeholder 4"/>
          <p:cNvSpPr/>
          <p:nvPr/>
        </p:nvSpPr>
        <p:spPr>
          <a:xfrm>
            <a:off x="8256600" y="6410160"/>
            <a:ext cx="7621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4342-1C0F-4C58-AD30-1D500B2FB2E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45" name="TextBox 6"/>
          <p:cNvSpPr/>
          <p:nvPr/>
        </p:nvSpPr>
        <p:spPr>
          <a:xfrm>
            <a:off x="611280" y="1628640"/>
            <a:ext cx="7389720" cy="3751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Updates after January 2010, last presentation of ArmeSFo CA to EUGridPMA (in  Dublin)</a:t>
            </a:r>
            <a:endParaRPr b="0" lang="en-US" sz="2000" spc="-1" strike="noStrike">
              <a:solidFill>
                <a:srgbClr val="000000"/>
              </a:solidFill>
              <a:latin typeface="Arial"/>
            </a:endParaRPr>
          </a:p>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Status of self- and external audits</a:t>
            </a:r>
            <a:endParaRPr b="0" lang="en-US" sz="2000" spc="-1" strike="noStrike">
              <a:solidFill>
                <a:srgbClr val="000000"/>
              </a:solidFill>
              <a:latin typeface="Arial"/>
            </a:endParaRPr>
          </a:p>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OCSP  responder implementation</a:t>
            </a:r>
            <a:endParaRPr b="0" lang="en-US" sz="2000" spc="-1" strike="noStrike">
              <a:solidFill>
                <a:srgbClr val="000000"/>
              </a:solidFill>
              <a:latin typeface="Arial"/>
            </a:endParaRPr>
          </a:p>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SHA-2 based certificate profile</a:t>
            </a:r>
            <a:endParaRPr b="0" lang="en-US" sz="2000" spc="-1" strike="noStrike">
              <a:solidFill>
                <a:srgbClr val="000000"/>
              </a:solidFill>
              <a:latin typeface="Arial"/>
            </a:endParaRPr>
          </a:p>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Educational programme of ArmeSFo CA</a:t>
            </a:r>
            <a:endParaRPr b="0" lang="en-US" sz="2000" spc="-1" strike="noStrike">
              <a:solidFill>
                <a:srgbClr val="000000"/>
              </a:solidFill>
              <a:latin typeface="Arial"/>
            </a:endParaRPr>
          </a:p>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Next steps</a:t>
            </a:r>
            <a:endParaRPr b="0" lang="en-US" sz="2000" spc="-1" strike="noStrike">
              <a:solidFill>
                <a:srgbClr val="000000"/>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TextBox 4"/>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Cont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Slide Number Placeholder 2"/>
          <p:cNvSpPr/>
          <p:nvPr/>
        </p:nvSpPr>
        <p:spPr>
          <a:xfrm>
            <a:off x="8271000" y="6437160"/>
            <a:ext cx="761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7862-7880-4E6F-9B6D-F364678FB91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48" name="TextBox 4"/>
          <p:cNvSpPr/>
          <p:nvPr/>
        </p:nvSpPr>
        <p:spPr>
          <a:xfrm>
            <a:off x="235080" y="1198440"/>
            <a:ext cx="8729640" cy="3179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Calibri"/>
                <a:ea typeface="Arial"/>
              </a:rPr>
              <a:t>The actual personnel of  ArmeSFo CA:</a:t>
            </a:r>
            <a:endParaRPr b="0" lang="en-US" sz="2400" spc="-1" strike="noStrike">
              <a:solidFill>
                <a:srgbClr val="000000"/>
              </a:solidFill>
              <a:latin typeface="Arial"/>
            </a:endParaRPr>
          </a:p>
          <a:p>
            <a:pPr>
              <a:lnSpc>
                <a:spcPct val="150000"/>
              </a:lnSpc>
              <a:buClr>
                <a:srgbClr val="bf1ba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buClr>
                <a:srgbClr val="bf1ba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f1bab"/>
                </a:solidFill>
                <a:latin typeface="Calibri"/>
                <a:ea typeface="Arial"/>
              </a:rPr>
              <a:t>Ara Grigoryan </a:t>
            </a:r>
            <a:r>
              <a:rPr b="0" i="1" lang="en-US" sz="2000" spc="-1" strike="noStrike">
                <a:solidFill>
                  <a:srgbClr val="bf1bab"/>
                </a:solidFill>
                <a:latin typeface="Arial"/>
                <a:ea typeface="Arial"/>
              </a:rPr>
              <a:t>–</a:t>
            </a:r>
            <a:r>
              <a:rPr b="0" i="1" lang="en-US" sz="2000" spc="-1" strike="noStrike">
                <a:solidFill>
                  <a:srgbClr val="bf1bab"/>
                </a:solidFill>
                <a:latin typeface="Calibri"/>
                <a:ea typeface="Arial"/>
              </a:rPr>
              <a:t> manager</a:t>
            </a:r>
            <a:endParaRPr b="0" lang="en-US" sz="2000" spc="-1" strike="noStrike">
              <a:solidFill>
                <a:srgbClr val="000000"/>
              </a:solidFill>
              <a:latin typeface="Arial"/>
            </a:endParaRPr>
          </a:p>
          <a:p>
            <a:pPr>
              <a:lnSpc>
                <a:spcPct val="15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Calibri"/>
                <a:ea typeface="Arial"/>
              </a:rPr>
              <a:t>Arsen Hayrapetyan </a:t>
            </a:r>
            <a:r>
              <a:rPr b="0" i="1" lang="en-US" sz="2000" spc="-1" strike="noStrike">
                <a:solidFill>
                  <a:srgbClr val="008000"/>
                </a:solidFill>
                <a:latin typeface="Calibri"/>
                <a:ea typeface="Arial"/>
              </a:rPr>
              <a:t>– alternate manager</a:t>
            </a:r>
            <a:endParaRPr b="0" lang="en-US" sz="2000" spc="-1" strike="noStrike">
              <a:solidFill>
                <a:srgbClr val="000000"/>
              </a:solidFill>
              <a:latin typeface="Arial"/>
            </a:endParaRPr>
          </a:p>
          <a:p>
            <a:pPr>
              <a:lnSpc>
                <a:spcPct val="15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Calibri"/>
                <a:ea typeface="Arial"/>
              </a:rPr>
              <a:t>Narine Manukyan </a:t>
            </a:r>
            <a:r>
              <a:rPr b="0" i="1" lang="en-US" sz="2000" spc="-1" strike="noStrike">
                <a:solidFill>
                  <a:srgbClr val="008000"/>
                </a:solidFill>
                <a:latin typeface="Calibri"/>
                <a:ea typeface="Arial"/>
              </a:rPr>
              <a:t>– senior operator</a:t>
            </a:r>
            <a:endParaRPr b="0" lang="en-US" sz="2000" spc="-1" strike="noStrike">
              <a:solidFill>
                <a:srgbClr val="000000"/>
              </a:solidFill>
              <a:latin typeface="Arial"/>
            </a:endParaRPr>
          </a:p>
          <a:p>
            <a:pPr>
              <a:lnSpc>
                <a:spcPct val="150000"/>
              </a:lnSpc>
              <a:buClr>
                <a:srgbClr val="bf1ba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f1bab"/>
                </a:solidFill>
                <a:latin typeface="Calibri"/>
                <a:ea typeface="Arial"/>
              </a:rPr>
              <a:t>Armenuhi Abramyan </a:t>
            </a:r>
            <a:r>
              <a:rPr b="0" i="1" lang="en-US" sz="2000" spc="-1" strike="noStrike">
                <a:solidFill>
                  <a:srgbClr val="bf1bab"/>
                </a:solidFill>
                <a:latin typeface="Calibri"/>
                <a:ea typeface="Arial"/>
              </a:rPr>
              <a:t>– operator</a:t>
            </a:r>
            <a:endParaRPr b="0" lang="en-US" sz="2000" spc="-1" strike="noStrike">
              <a:solidFill>
                <a:srgbClr val="000000"/>
              </a:solidFill>
              <a:latin typeface="Arial"/>
            </a:endParaRPr>
          </a:p>
          <a:p>
            <a:pPr>
              <a:lnSpc>
                <a:spcPct val="150000"/>
              </a:lnSpc>
              <a:buClr>
                <a:srgbClr val="bf1ba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f1bab"/>
                </a:solidFill>
                <a:latin typeface="Calibri"/>
                <a:ea typeface="Arial"/>
              </a:rPr>
              <a:t>Vardanush Papikyan </a:t>
            </a:r>
            <a:r>
              <a:rPr b="0" i="1" lang="en-US" sz="2000" spc="-1" strike="noStrike">
                <a:solidFill>
                  <a:srgbClr val="bf1bab"/>
                </a:solidFill>
                <a:latin typeface="Calibri"/>
                <a:ea typeface="Arial"/>
              </a:rPr>
              <a:t>– operator</a:t>
            </a:r>
            <a:endParaRPr b="0" lang="en-US" sz="2000" spc="-1" strike="noStrike">
              <a:solidFill>
                <a:srgbClr val="000000"/>
              </a:solidFill>
              <a:latin typeface="Arial"/>
            </a:endParaRPr>
          </a:p>
        </p:txBody>
      </p:sp>
      <p:sp>
        <p:nvSpPr>
          <p:cNvPr id="1049" name="TextBox 5"/>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Updates: ArmeSFo CA personnel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Slide Number Placeholder 2"/>
          <p:cNvSpPr/>
          <p:nvPr/>
        </p:nvSpPr>
        <p:spPr>
          <a:xfrm>
            <a:off x="8271000" y="6437160"/>
            <a:ext cx="761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0677-B4EB-4838-BA00-8B5BC3FB1D6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51" name="TextBox 6"/>
          <p:cNvSpPr/>
          <p:nvPr/>
        </p:nvSpPr>
        <p:spPr>
          <a:xfrm>
            <a:off x="179280" y="1214280"/>
            <a:ext cx="8640720" cy="25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ugust 2007 ArmesFo CA established first RA unit for the users working in any structure of National Academy of Sciences of the Republic of Armenia (NAS RA), the largest in Armenia network of scientific institutions – </a:t>
            </a:r>
            <a:r>
              <a:rPr b="1" lang="en-US" sz="2000" spc="-1" strike="noStrike" u="sng">
                <a:solidFill>
                  <a:srgbClr val="bf1bab"/>
                </a:solidFill>
                <a:uFillTx/>
                <a:latin typeface="Calibri"/>
              </a:rPr>
              <a:t>RA of ArmeSFo CA in NAS RA</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alibri"/>
              </a:rPr>
              <a:t>In October 2010 ArmeSFo CA established second RA unit for the users working in the other Armenian organizations – </a:t>
            </a:r>
            <a:r>
              <a:rPr b="1" lang="en-US" sz="2000" spc="-1" strike="noStrike" u="sng">
                <a:solidFill>
                  <a:srgbClr val="bf1bab"/>
                </a:solidFill>
                <a:uFillTx/>
                <a:latin typeface="Calibri"/>
              </a:rPr>
              <a:t>RA of ArmeSFo CA in ArmeSFo</a:t>
            </a:r>
            <a:endParaRPr b="0" lang="en-US" sz="2000" spc="-1" strike="noStrike">
              <a:solidFill>
                <a:srgbClr val="000000"/>
              </a:solidFill>
              <a:latin typeface="Arial"/>
            </a:endParaRPr>
          </a:p>
        </p:txBody>
      </p:sp>
      <p:sp>
        <p:nvSpPr>
          <p:cNvPr id="1052" name="TextBox 7"/>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Updates: New RA and new instructions</a:t>
            </a:r>
            <a:endParaRPr b="0" lang="en-US" sz="3600" spc="-1" strike="noStrike">
              <a:solidFill>
                <a:srgbClr val="000000"/>
              </a:solidFill>
              <a:latin typeface="Arial"/>
            </a:endParaRPr>
          </a:p>
        </p:txBody>
      </p:sp>
      <p:sp>
        <p:nvSpPr>
          <p:cNvPr id="1053" name="TextBox 8"/>
          <p:cNvSpPr/>
          <p:nvPr/>
        </p:nvSpPr>
        <p:spPr>
          <a:xfrm>
            <a:off x="1143000" y="4857840"/>
            <a:ext cx="600084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rmeSFo CA does not fulfill anymore the duties of RA.</a:t>
            </a:r>
            <a:endParaRPr b="0" lang="en-US" sz="1800" spc="-1" strike="noStrike">
              <a:solidFill>
                <a:srgbClr val="000000"/>
              </a:solidFill>
              <a:latin typeface="Arial"/>
            </a:endParaRPr>
          </a:p>
        </p:txBody>
      </p:sp>
      <p:sp>
        <p:nvSpPr>
          <p:cNvPr id="1054" name="TextBox 9"/>
          <p:cNvSpPr/>
          <p:nvPr/>
        </p:nvSpPr>
        <p:spPr>
          <a:xfrm>
            <a:off x="285840" y="3857760"/>
            <a:ext cx="86407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ach RA, detailed certificate request instructions for subscribers have bee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blish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534960" y="1213920"/>
            <a:ext cx="8609040" cy="2643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cc"/>
                </a:solidFill>
                <a:uFillTx/>
                <a:latin typeface="Calibri"/>
                <a:ea typeface="Arial"/>
              </a:rPr>
              <a:t>Major</a:t>
            </a:r>
            <a:r>
              <a:rPr b="1" i="1" lang="en-US" sz="2000" spc="-1" strike="noStrike">
                <a:solidFill>
                  <a:srgbClr val="0000cc"/>
                </a:solidFill>
                <a:latin typeface="Calibri"/>
                <a:ea typeface="Arial"/>
              </a:rPr>
              <a:t> changes concern  a very detailed specification of:</a:t>
            </a:r>
            <a:endParaRPr b="0" lang="en-US" sz="2000" spc="-1" strike="noStrike">
              <a:solidFill>
                <a:srgbClr val="000000"/>
              </a:solidFill>
              <a:latin typeface="Calibri"/>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Calibri"/>
              </a:rPr>
              <a:t>RA obligations;</a:t>
            </a:r>
            <a:endParaRPr b="0" lang="en-US" sz="2000" spc="-1" strike="noStrike">
              <a:solidFill>
                <a:srgbClr val="000000"/>
              </a:solidFill>
              <a:latin typeface="Calibri"/>
            </a:endParaRPr>
          </a:p>
          <a:p>
            <a:pPr marL="343080" indent="-343080">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Calibri"/>
              </a:rPr>
              <a:t>Subscriber obligations;</a:t>
            </a:r>
            <a:endParaRPr b="0" lang="en-US" sz="2000" spc="-1" strike="noStrike">
              <a:solidFill>
                <a:srgbClr val="000000"/>
              </a:solidFill>
              <a:latin typeface="Calibri"/>
            </a:endParaRPr>
          </a:p>
          <a:p>
            <a:pPr marL="343080" indent="-343080">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Calibri"/>
              </a:rPr>
              <a:t>Re-keing procedure;</a:t>
            </a:r>
            <a:endParaRPr b="0" lang="en-US" sz="2000" spc="-1" strike="noStrike">
              <a:solidFill>
                <a:srgbClr val="000000"/>
              </a:solidFill>
              <a:latin typeface="Calibri"/>
            </a:endParaRPr>
          </a:p>
          <a:p>
            <a:pPr marL="343080" indent="-343080">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Calibri"/>
              </a:rPr>
              <a:t>Revocation request  procedu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Calibri"/>
                <a:ea typeface="Arial"/>
              </a:rPr>
              <a:t>These changes reflect the experience of our work with Armenian RAs and subscribers.</a:t>
            </a:r>
            <a:endParaRPr b="0" lang="en-US" sz="2000" spc="-1" strike="noStrike">
              <a:solidFill>
                <a:srgbClr val="000000"/>
              </a:solidFill>
              <a:latin typeface="Calibri"/>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6" name="Slide Number Placeholder 5"/>
          <p:cNvSpPr/>
          <p:nvPr/>
        </p:nvSpPr>
        <p:spPr>
          <a:xfrm>
            <a:off x="8253360" y="6421320"/>
            <a:ext cx="7621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79B8-88FF-45A2-A137-562A0EC1A05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57" name="TextBox 7"/>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Updates: Next version of CP/CPS </a:t>
            </a:r>
            <a:endParaRPr b="0" lang="en-US" sz="3600" spc="-1" strike="noStrike">
              <a:solidFill>
                <a:srgbClr val="000000"/>
              </a:solidFill>
              <a:latin typeface="Arial"/>
            </a:endParaRPr>
          </a:p>
        </p:txBody>
      </p:sp>
      <p:sp>
        <p:nvSpPr>
          <p:cNvPr id="1058" name="TextBox 5"/>
          <p:cNvSpPr/>
          <p:nvPr/>
        </p:nvSpPr>
        <p:spPr>
          <a:xfrm>
            <a:off x="571680" y="4162320"/>
            <a:ext cx="7429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w CP/CPS is ready, however its publication is pending mainly because of a necessity to prepare and publish simultaneously the corresponding detailed instructions for ArmeSFo CA operators, RAs and subscrib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Slide Number Placeholder 2"/>
          <p:cNvSpPr/>
          <p:nvPr/>
        </p:nvSpPr>
        <p:spPr>
          <a:xfrm>
            <a:off x="8346960" y="6448320"/>
            <a:ext cx="7621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452C-D4D2-4B85-B460-56E771ECA74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60" name="TextBox 4"/>
          <p:cNvSpPr/>
          <p:nvPr/>
        </p:nvSpPr>
        <p:spPr>
          <a:xfrm>
            <a:off x="500040" y="857160"/>
            <a:ext cx="8286840" cy="506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c00000"/>
                </a:solidFill>
                <a:latin typeface="Calibri"/>
              </a:rPr>
              <a:t>ArmeSFo CA self-audit was done back in December 2007 following to audit guidelines version 1.0-b4 </a:t>
            </a:r>
            <a:r>
              <a:rPr b="0" lang="en-US" sz="1800" spc="-1" strike="noStrike">
                <a:solidFill>
                  <a:srgbClr val="000000"/>
                </a:solidFill>
                <a:latin typeface="Calibri"/>
              </a:rPr>
              <a:t>(</a:t>
            </a:r>
            <a:r>
              <a:rPr b="0" lang="en-US" sz="1600" spc="-1" strike="noStrike">
                <a:solidFill>
                  <a:srgbClr val="000000"/>
                </a:solidFill>
                <a:latin typeface="Calibri"/>
              </a:rPr>
              <a:t>https://forge.gridforum.org/sf/go/doc4858</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b050"/>
                </a:solidFill>
                <a:latin typeface="Calibri"/>
              </a:rPr>
              <a:t>The results were presented at 12th EUGridPMA meeting in Amsterdam in January 2008 </a:t>
            </a:r>
            <a:r>
              <a:rPr b="0" lang="en-US" sz="1800" spc="-1" strike="noStrike">
                <a:solidFill>
                  <a:srgbClr val="000000"/>
                </a:solidFill>
                <a:latin typeface="Calibri"/>
              </a:rPr>
              <a:t>(</a:t>
            </a:r>
            <a:r>
              <a:rPr b="0" lang="en-US" sz="1600" spc="-1" strike="noStrike">
                <a:solidFill>
                  <a:srgbClr val="000000"/>
                </a:solidFill>
                <a:latin typeface="Calibri"/>
              </a:rPr>
              <a:t>https://www.eugridpma.org/agenda/archive-a073/ArmeSFo_CA_updates_and_self-audit.ppt</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In 2008 EUGridPMA appointed David O'Callaghan as a reviewer of ArmeSFo CA audit res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9e7800"/>
                </a:solidFill>
                <a:latin typeface="Calibri"/>
              </a:rPr>
              <a:t>In June 2009, the self-audit results were discussed in length with Jens Jensen who visited Armenia. Before the visit, it was agreed with David Groep that Jens would be a co-reviewer for the self-aud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Comments and suggestions by Jens have been taken into account and Arsen Hayrapetyan presented a status update at 18th EUGridPMA meeting in Dublin in January 2010 via videolink </a:t>
            </a:r>
            <a:r>
              <a:rPr b="0" lang="en-US" sz="1800" spc="-1" strike="noStrike">
                <a:solidFill>
                  <a:srgbClr val="7030a0"/>
                </a:solidFill>
                <a:latin typeface="Calibri"/>
              </a:rPr>
              <a:t>(</a:t>
            </a:r>
            <a:r>
              <a:rPr b="0" lang="en-US" sz="1000" spc="-1" strike="noStrike">
                <a:solidFill>
                  <a:srgbClr val="7030a0"/>
                </a:solidFill>
                <a:latin typeface="Calibri"/>
              </a:rPr>
              <a:t>http://agenda.nikhef.nl/getFile.py/access?contribId=9&amp;resId=1&amp;materialId=slides&amp;confId=914</a:t>
            </a:r>
            <a:r>
              <a:rPr b="0" lang="en-US" sz="1800" spc="-1" strike="noStrike">
                <a:solidFill>
                  <a:srgbClr val="7030a0"/>
                </a:solidFill>
                <a:latin typeface="Calibri"/>
              </a:rPr>
              <a:t>). </a:t>
            </a:r>
            <a:r>
              <a:rPr b="1" lang="en-US" sz="1800" spc="-1" strike="noStrike">
                <a:solidFill>
                  <a:srgbClr val="7030a0"/>
                </a:solidFill>
                <a:latin typeface="Calibri"/>
              </a:rPr>
              <a:t>Jens  commented on the self-audit after the talk and gave (orally) a (positive) short summary of his review.</a:t>
            </a:r>
            <a:endParaRPr b="0" lang="en-US" sz="1800" spc="-1" strike="noStrike">
              <a:solidFill>
                <a:srgbClr val="000000"/>
              </a:solidFill>
              <a:latin typeface="Arial"/>
            </a:endParaRPr>
          </a:p>
        </p:txBody>
      </p:sp>
      <p:sp>
        <p:nvSpPr>
          <p:cNvPr id="1061" name="TextBox 17"/>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Status of self- and external audi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Slide Number Placeholder 2"/>
          <p:cNvSpPr/>
          <p:nvPr/>
        </p:nvSpPr>
        <p:spPr>
          <a:xfrm>
            <a:off x="8273880" y="6377040"/>
            <a:ext cx="76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9DA0-656A-4C27-992A-29D48662E81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63" name="Text Box 5"/>
          <p:cNvSpPr/>
          <p:nvPr/>
        </p:nvSpPr>
        <p:spPr>
          <a:xfrm>
            <a:off x="108000" y="1143000"/>
            <a:ext cx="8785080" cy="393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 the CA’s openssl.cnf new section is ad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 v3_OCSP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basicConstraints = CA:FALSE</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keyUsage = nonRepudiation, digitalSignature, keyEnciphermen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extendedKeyUsage = OCSPSign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The following extension</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authorityInfoAccess</a:t>
            </a:r>
            <a:r>
              <a:rPr b="1" i="1" lang="en-US" sz="1600" spc="-1" strike="noStrike">
                <a:solidFill>
                  <a:srgbClr val="000099"/>
                </a:solidFill>
                <a:latin typeface="Courier New"/>
              </a:rPr>
              <a:t> </a:t>
            </a:r>
            <a:r>
              <a:rPr b="1" i="1" lang="ru-RU" sz="1600" spc="-1" strike="noStrike">
                <a:solidFill>
                  <a:srgbClr val="000099"/>
                </a:solidFill>
                <a:latin typeface="Courier New"/>
              </a:rPr>
              <a:t>=</a:t>
            </a:r>
            <a:r>
              <a:rPr b="1" i="1" lang="en-US" sz="1600" spc="-1" strike="noStrike">
                <a:solidFill>
                  <a:srgbClr val="000099"/>
                </a:solidFill>
                <a:latin typeface="Courier New"/>
              </a:rPr>
              <a:t> </a:t>
            </a:r>
            <a:r>
              <a:rPr b="1" i="1" lang="ru-RU" sz="1600" spc="-1" strike="noStrike">
                <a:solidFill>
                  <a:srgbClr val="000099"/>
                </a:solidFill>
                <a:latin typeface="Courier New"/>
              </a:rPr>
              <a:t>OCSP;URI:http://armgrid3.yerphi.am:8888</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s added to the sections</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 usr_cert ]</a:t>
            </a:r>
            <a:r>
              <a:rPr b="1" i="1" lang="en-US" sz="1600" spc="-1" strike="noStrike">
                <a:solidFill>
                  <a:srgbClr val="000099"/>
                </a:solidFill>
                <a:latin typeface="Courier New"/>
              </a:rPr>
              <a:t>,</a:t>
            </a:r>
            <a:r>
              <a:rPr b="1" i="1" lang="ru-RU" sz="1600" spc="-1" strike="noStrike">
                <a:solidFill>
                  <a:srgbClr val="000099"/>
                </a:solidFill>
                <a:latin typeface="Courier New"/>
              </a:rPr>
              <a:t>[ srv_cert ]</a:t>
            </a:r>
            <a:r>
              <a:rPr b="1" i="1" lang="en-US" sz="1600" spc="-1" strike="noStrike">
                <a:solidFill>
                  <a:srgbClr val="000099"/>
                </a:solidFill>
                <a:latin typeface="Courier New"/>
              </a:rPr>
              <a:t>,</a:t>
            </a:r>
            <a:r>
              <a:rPr b="1" i="1" lang="ru-RU" sz="1600" spc="-1" strike="noStrike">
                <a:solidFill>
                  <a:srgbClr val="000099"/>
                </a:solidFill>
                <a:latin typeface="Courier New"/>
              </a:rPr>
              <a:t>[ service_cert</a:t>
            </a:r>
            <a:r>
              <a:rPr b="1" i="1" lang="ru-RU" sz="1600" spc="-1" strike="noStrike">
                <a:solidFill>
                  <a:srgbClr val="000099"/>
                </a:solidFill>
                <a:latin typeface="Arial"/>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504d"/>
                </a:solidFill>
                <a:uFillTx/>
                <a:latin typeface="Arial"/>
              </a:rPr>
              <a:t>One has the following extension in EE certificates</a:t>
            </a:r>
            <a:r>
              <a:rPr b="0" lang="en-US" sz="1800" spc="-1" strike="noStrike">
                <a:solidFill>
                  <a:srgbClr val="c0504d"/>
                </a:solidFill>
                <a:latin typeface="Arial"/>
              </a:rPr>
              <a:t>:</a:t>
            </a:r>
            <a:r>
              <a:rPr b="0" lang="ru-RU" sz="1800" spc="-1" strike="noStrike">
                <a:solidFill>
                  <a:srgbClr val="c0504d"/>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Authority Information Access:</a:t>
            </a:r>
            <a:br>
              <a:rPr sz="1600"/>
            </a:br>
            <a:r>
              <a:rPr b="1" i="1" lang="ru-RU" sz="1600" spc="-1" strike="noStrike">
                <a:solidFill>
                  <a:srgbClr val="000099"/>
                </a:solidFill>
                <a:latin typeface="Courier New"/>
              </a:rPr>
              <a:t>            </a:t>
            </a:r>
            <a:r>
              <a:rPr b="1" i="1" lang="ru-RU" sz="1800" spc="-1" strike="noStrike">
                <a:solidFill>
                  <a:srgbClr val="000099"/>
                </a:solidFill>
                <a:latin typeface="Courier New"/>
              </a:rPr>
              <a:t>OCSP - URI:http://armgrid3.yerphi.am:8888</a:t>
            </a:r>
            <a:r>
              <a:rPr b="1" i="1" lang="ru-RU" sz="1800" spc="-1" strike="noStrike">
                <a:solidFill>
                  <a:srgbClr val="000099"/>
                </a:solidFill>
                <a:latin typeface="Arial"/>
              </a:rPr>
              <a:t> </a:t>
            </a:r>
            <a:endParaRPr b="0" lang="en-US" sz="1800" spc="-1" strike="noStrike">
              <a:solidFill>
                <a:srgbClr val="000000"/>
              </a:solidFill>
              <a:latin typeface="Arial"/>
            </a:endParaRPr>
          </a:p>
        </p:txBody>
      </p:sp>
      <p:sp>
        <p:nvSpPr>
          <p:cNvPr id="1064" name="TextBox 4"/>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OCSP Configu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6360" y="6308640"/>
            <a:ext cx="8712000" cy="54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Slide Number Placeholder 2"/>
          <p:cNvSpPr/>
          <p:nvPr/>
        </p:nvSpPr>
        <p:spPr>
          <a:xfrm>
            <a:off x="8273880" y="6377040"/>
            <a:ext cx="76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EE87-8792-490F-BDC8-502746F7E05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67" name="TextBox 5"/>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Test certificate with SHA256 and OCSP</a:t>
            </a:r>
            <a:endParaRPr b="0" lang="en-US" sz="3600" spc="-1" strike="noStrike">
              <a:solidFill>
                <a:srgbClr val="000000"/>
              </a:solidFill>
              <a:latin typeface="Arial"/>
            </a:endParaRPr>
          </a:p>
        </p:txBody>
      </p:sp>
      <p:sp>
        <p:nvSpPr>
          <p:cNvPr id="1068" name="Vertical Scroll 6"/>
          <p:cNvSpPr/>
          <p:nvPr/>
        </p:nvSpPr>
        <p:spPr>
          <a:xfrm>
            <a:off x="1571760" y="642960"/>
            <a:ext cx="5979960" cy="6035760"/>
          </a:xfrm>
          <a:prstGeom prst="verticalScroll">
            <a:avLst>
              <a:gd name="adj" fmla="val 2805"/>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ersion: 3 (0x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erial Number: 181 (0xb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ignature Algorithm</a:t>
            </a:r>
            <a:r>
              <a:rPr b="1" lang="en-US" sz="1400" spc="-1" strike="noStrike">
                <a:solidFill>
                  <a:srgbClr val="c00000"/>
                </a:solidFill>
                <a:latin typeface="Calibri"/>
              </a:rPr>
              <a:t>: </a:t>
            </a:r>
            <a:r>
              <a:rPr b="1" lang="en-US" sz="1600" spc="-1" strike="noStrike">
                <a:solidFill>
                  <a:srgbClr val="c00000"/>
                </a:solidFill>
                <a:latin typeface="Calibri"/>
              </a:rPr>
              <a:t>sha256WithRSAEncry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ssuer: C=AM, O=ArmeSFo, CN=ArmeSFo C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Validit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Not Before: Jun 14 12:17:43 2012 GM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Not After : Jun 14 12:17:43 2013 GM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ubject: C=AM, O=ArmeSFo, O=YerPhI, OU=Experimental Division, CN=Hakob Hakobya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ubject Public Key Inf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ublic Key Algorithm: rsaEncry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RSA Public Key: (1024 bi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Modulus (1024 bi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Exponent: 65537 (0x1000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extensi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Basic Constraints: critica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A:FALS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Key Usage: critica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Digital Signature, Key Encipherment, Data Encipher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Extended Key Usag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LS Web Client Authentication, E-mail Protec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Subject Alternative Nam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email:hakob@gmail.co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Certificate Polic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olicy: 1.3.6.1.4.1.17306.8.1.0.7</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olicy: 1.2.840.113612.5.2.2.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CRL Distribution Point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URI:http://armesfoca-crl.fzk.de/crl.pe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            </a:t>
            </a:r>
            <a:r>
              <a:rPr b="1" lang="en-US" sz="1600" spc="-1" strike="noStrike">
                <a:solidFill>
                  <a:srgbClr val="002060"/>
                </a:solidFill>
                <a:latin typeface="Calibri"/>
              </a:rPr>
              <a:t>Authority Information Acc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rPr>
              <a:t>                </a:t>
            </a:r>
            <a:r>
              <a:rPr b="1" lang="en-US" sz="1600" spc="-1" strike="noStrike">
                <a:solidFill>
                  <a:srgbClr val="002060"/>
                </a:solidFill>
                <a:latin typeface="Calibri"/>
              </a:rPr>
              <a:t>OCSP - URI:http://armgrid3.yerphi.am:888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ignature Algorithm: sha256WithRSAEncry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5T05:26:32Z</dcterms:created>
  <dc:creator>User</dc:creator>
  <dc:description/>
  <dc:language>en-US</dc:language>
  <cp:lastModifiedBy>AMIN</cp:lastModifiedBy>
  <dcterms:modified xsi:type="dcterms:W3CDTF">2012-09-11T05:55:19Z</dcterms:modified>
  <cp:revision>256</cp:revision>
  <dc:subject/>
  <dc:title>ArmeSFo CA update (including self-audit)</dc:title>
</cp:coreProperties>
</file>