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6456DCE-670A-4AF8-9A33-37B792707E6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1F59A95-9728-4F22-98CA-32790794C4D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C798E196-1A6B-4E01-AC53-EC094D4B888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79A58C4C-2783-48DC-95BC-22A3A8CFDF9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A60B5EC1-5DA9-4E2C-90AE-A938DED6E95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B4F6A8CC-0AC9-40EE-B3AE-F957A53EBF0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D1554F3D-EA53-4D07-9565-857228A405D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40C53740-FC3D-430D-A13D-4CE3E1F52CB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55753937-4B29-4840-BAE5-B819A735CA0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D49F9043-ED2F-4D60-9E6D-171D277662D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4AD11FDF-BBC0-4F11-BB50-C81F9A8B584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747D2B5E-F2B0-4B18-AF51-328EB9B2617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0F99D20A-78DD-49BC-94DB-13D23FBA5B5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Self-Audit statu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14-16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Rome, Italy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Pending audit results &amp; review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838080" y="1295280"/>
          <a:ext cx="8040960" cy="4449960"/>
        </p:xfrm>
        <a:graphic>
          <a:graphicData uri="http://schemas.openxmlformats.org/drawingml/2006/table">
            <a:tbl>
              <a:tblPr/>
              <a:tblGrid>
                <a:gridCol w="2679840"/>
                <a:gridCol w="2681280"/>
                <a:gridCol w="2679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elf-au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evie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altic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2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aveK, Oleksan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rmeS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2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Jens, +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PK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2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avidG, +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EE-Grid Catch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2-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dgars, David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Y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2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hijs, Sha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1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Jean-Christophe, +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1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rsula, David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G.AC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1-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dgars, Bo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MAR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1-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mir, David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Ke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9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Willy, Alex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el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1-01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Reimer, On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Upcoming self audi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838080" y="1231920"/>
          <a:ext cx="8040960" cy="4449600"/>
        </p:xfrm>
        <a:graphic>
          <a:graphicData uri="http://schemas.openxmlformats.org/drawingml/2006/table">
            <a:tbl>
              <a:tblPr/>
              <a:tblGrid>
                <a:gridCol w="2679840"/>
                <a:gridCol w="2681280"/>
                <a:gridCol w="2679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evie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lovak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o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MD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omorr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NIIF/Hungar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omorr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Nordu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Next meeting (‘IIRC’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pkIRIS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IP-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ustrian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IP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Renater/Grid-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EG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t 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PL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ES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RAN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ES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W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RAN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1-10T14:44:12Z</dcterms:modified>
  <cp:revision>606</cp:revision>
  <dc:subject/>
  <dc:title>European Grid Policy Management Authority</dc:title>
</cp:coreProperties>
</file>