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31B2F-A51E-4EF7-B705-4A0BB1E22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52BAD-635B-4BA0-9C35-418F346BFE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C40B5-CACC-4278-99C1-8E11477959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6AD31-1587-48E1-A1D8-26DEC5702E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AEC7D-135C-425A-966C-1CE4362392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25DD-31E6-417C-AFBF-4BBFDE905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32B8-B345-432F-B5BA-CFFFA1648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F601-B511-4B1E-9F23-46788D092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D49E-FA6F-4EFB-AFEB-63AF3BAA3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6162-771D-442A-8FE2-D22D1B9119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E3A0-09A0-4992-B9C3-B51C89D788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6A46-9793-4F44-8156-BC1923CB32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D562-637E-44DD-96C7-E9312FD715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9D9D-2F71-4424-8E63-B8EF255595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8A2E-6860-490C-8972-82F3EC8D66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5E33-792B-41CF-AC61-F872EC7B77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76D1-C826-4783-A295-29B193F87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2AF9-6CA7-4D23-84A7-7496E475BF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82F4-8798-4C83-A289-5424145CC5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E5CB-CD09-48EC-BB55-BEEA38D244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8851-8EF0-460B-A69B-90C346AF15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6A87-2641-46EA-8C78-44147093CE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A3C1-119D-494C-880B-97F95F883E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52DE-CF57-4E38-A155-56DAB0A36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C44E-A7DF-47BE-B7A9-517593785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65DF-AB15-4624-89CD-07EB7713E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D3D8-D12D-4873-B9CF-F8B0A2555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1ADE-60BE-4B0E-AF54-46938BA5F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8D9E-5AFF-4317-A133-EB9444878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81C4E-180F-48D1-8CAD-E8FC746AA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7"/>
          <p:cNvGrpSpPr/>
          <p:nvPr/>
        </p:nvGrpSpPr>
        <p:grpSpPr>
          <a:xfrm>
            <a:off x="5403960" y="214200"/>
            <a:ext cx="3527280" cy="1287000"/>
            <a:chOff x="5403960" y="214200"/>
            <a:chExt cx="3527280" cy="1287000"/>
          </a:xfrm>
        </p:grpSpPr>
        <p:sp>
          <p:nvSpPr>
            <p:cNvPr id="42" name="WordArt 5"/>
            <p:cNvSpPr txBox="1"/>
            <p:nvPr/>
          </p:nvSpPr>
          <p:spPr>
            <a:xfrm>
              <a:off x="5457960" y="2142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6"/>
            <p:cNvSpPr/>
            <p:nvPr/>
          </p:nvSpPr>
          <p:spPr>
            <a:xfrm>
              <a:off x="5403960" y="8586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1E7DE-891A-458E-8878-9AF9B7D10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27</a:t>
            </a:r>
            <a:r>
              <a:rPr b="0" lang="en-GB" sz="26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 EUGridPMA Meeting</a:t>
            </a:r>
            <a:br>
              <a:rPr sz="2600"/>
            </a:b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Rome, Ita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January 14-16,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HA-2 Deployment Timeline discussion</a:t>
            </a:r>
            <a:endParaRPr b="0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members voted and di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pprove the SHA-2 timeline as described in David Groep’s e-mail of September 10, 2012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n alternate SHA-2 deployment timeline, addressing TAGPMA concerns, has been developed and is available for review at</a:t>
            </a:r>
            <a:br>
              <a:rPr sz="32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tagpma.es.net/wiki/bin/view/Main/SHA2Timelin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 and questions are welcom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C5386-516F-4528-A9A4-E2F263904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Lead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TAGPMA Memb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Infrastructur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Conference Call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&amp; 18 (IGTF All Hands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HA-2 Deployment Timeline discussion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9CF18-BEB4-4039-8BA7-6C6D3978F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hair: Derek Simmel (PSC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immel@psc.edu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ice Chair: Scott Rea (DigiCert + REBC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tt@DigiCert.com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retary: Ale Stolk (ULAGrid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stolk@ula.v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82E5D-CD6A-4293-A55E-8958192E5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39680" y="1117440"/>
          <a:ext cx="7066080" cy="5389560"/>
        </p:xfrm>
        <a:graphic>
          <a:graphicData uri="http://schemas.openxmlformats.org/drawingml/2006/table">
            <a:tbl>
              <a:tblPr/>
              <a:tblGrid>
                <a:gridCol w="1665360"/>
                <a:gridCol w="1656000"/>
                <a:gridCol w="216036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overing Canada, US, Mexico, Venezuela, Chile, Peru, Argentina, Brazil, Colombia and Panama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2 Classic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OE Grid accredited by EUGridPM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7 SL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x 3, FermiLabs, NERSC, PSC, NICS UTK -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– US and CILogon –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F0320-DECC-4847-A3B1-D24604C51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TACC retired their membership in TAGPM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As should be removed from IGTF &amp; TACAR distributions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 Classic pending (SENAMHI – Peru, InCommon – US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 MICS pending (SDSC, NCAR – US)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8 Relying Parti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(FNAL, OSG, XSEDE, THEgrid, LCG, REBCA, CIDETYS/UTP, redCLARA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Common voted in as new prospective AP member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OGF has expressed interest in membership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720AC-B753-43A0-8D1C-1338D0DDE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static, public information &amp; profil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verhaul still way overdue </a:t>
            </a:r>
            <a:r>
              <a:rPr b="0" lang="en-US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in-process TAGPMA documents, notes, tutorials etc.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ontains agenda and minutes from monthly meeting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iling lists have been moved over to Google Apps for Education, also enabling Calendar, Docs &amp; Sit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-mail any issues direct to the Chair (dsimmel@psc.edu)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9AE32-D473-4441-896C-C0E8EC9F6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ext call will be February 13, 2013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Video arrangements: RedCLARA VC Espresso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quest for agenda items goes out ~1 week before the next cal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agenda is usually posted on tagpma-general e-mail list no later than 1 day before the meeting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1058C-1B34-4B43-B19F-89598BD79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17 &amp; 18 (IGTF All Hands)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17 – Colorado – May 9-10, 2013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sted by the National Center for Atmospheric Research (NCAR, US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Link to registration page will be posted shortly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18 – Argentin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ates TBD soon in October ~ November 2013 timeframe - stay tuned for a doodle poll link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8 will be the next IGTF All Hands meeting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65194-9528-4AB3-A677-423D7E446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1-14T06:34:40Z</dcterms:modified>
  <cp:revision>11</cp:revision>
  <dc:subject/>
  <dc:title>PowerPoint Presentation</dc:title>
</cp:coreProperties>
</file>