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F3AF359-1F4F-4FC6-BA17-DBCF9FE360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FB662D2-AD27-477F-B405-9A7142B7AB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DE3B137-45EA-4E3A-8510-52FED81DD7E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9A0B820-C085-4E92-85DE-DF2C3BA2D28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5AB9EB8-3103-4465-B0FA-0274C882C3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3110640-8C22-46C4-84CF-8DCF1437479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15B2F9C-F141-45A4-95FF-3647AD4D00E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E20F0EB-67F4-421D-B50D-ACBC3674987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FBEC9E1-A4C8-4D02-B2E5-E72EF48702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6D05C2A1-ACD7-4D57-B7B8-ABFB48D0896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D1FAA08-2708-470A-A229-7408CE274CB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B39B1C2-455A-4BDC-A651-9A9762DB8D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8EA26BEE-1ABF-4256-A23C-21B213D9DB6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CSP Guideline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hy OCSP for Grid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hould be less error-prone than fetch-crl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supported in softw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many fetch-crl issues come from site config trou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CRL downloads are also a ‘DoS’ against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ives support for dynamicly-inserted sub-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 advance knowledge needed of all CRL CD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used in conjunction with new namespa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hould enable dynamic sub-CA suppor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s more timely than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d 6-24 hours, which is ‘reasonable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in many cases (web!) CRL is not retrieved at all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CSP styl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ull-blown real time OCSP (RFC2560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vides protection against replay attac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sing nonce supplied by cli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computed and signed in real-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Lots of inbound data so needs HTTP POS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Light-weight OCSP (RFC5019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im is to be cachable (and stapleable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er HTTP G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-nonces (in repl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able, with HTTP headers set according to respons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es not contain dynamic data, so can be replay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and thus needs short ‘life time’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Light-weight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FC5019 leaves some deployment options o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ices can be ‘good’ or ‘bad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has to decide on how to generate respons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CA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RPs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mplement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xed quality, many implementation miss out on spec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minor (uses GET even for large requests), or major (always use POST, so response cannot be cached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pling’ RFC 6066 is not widely support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emingly apache and nginx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ven standard OCSP not fully supported by Griddy MW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but it acively worked on, and our guidance apprecia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act on C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now, it adds network load to the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we do not expect CRL retrieval to stop immediate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one OCSP request will be sent for each service ac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OCSP load is related to the ‘popularity’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e (subscriber base) of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ow ‘active’ the subscribers 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request/response is relatively sma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t that many by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of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is a critical service (use a HA setup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gressing with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Cas (DigiCert, TCS/Comodo) already have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ew others are almost ready, with RFC5019 or 2560, e.g.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SN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are waiting – would profit from guidance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, software tool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RPs and develop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per’ OCSP clients and RFC5019 not really the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n ‘expected responses’ helps a lot for cod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actical examples to help interpret RFC5019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 to make sure RPs don’t DoS us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GF CAOPS-WG &amp; IGTF Docu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 two docu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CAs: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f RFC5019 and expected response cont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uggestions (pre-computed, no/simple V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hints for good HTTP head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RPs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development guidance on app-level cach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all-back to CR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ane cache time defaul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guidance on (squid) caching servi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2T18:53:38Z</dcterms:modified>
  <cp:revision>610</cp:revision>
  <dc:subject/>
  <dc:title>European Grid Policy Management Authority</dc:title>
</cp:coreProperties>
</file>