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F884D6B-E60F-48FC-A043-F1656887BD8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0782840-028F-4581-8F59-90EC64AB847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B9FF032E-520B-4546-9453-E64D336E2BF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4C4AA4B9-BB4D-447E-ACAF-C780CD1FFF3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123CA029-CC92-427D-A3A9-FDB795D6E23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49E4E7D5-DBDE-4279-BDBA-9B2D2C1CAB9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D13A3C28-CF36-4E70-9B5A-1203D741BC8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88430994-9830-4E41-9277-A099F659241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95F2576B-B14E-46AB-9C7B-C4513045D72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2BB4EFBB-F664-4E14-BA75-DFEFD40BF60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F4A73169-1AB2-4639-9410-3AC650626F4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419AAC12-F7A0-4ABC-BEA5-C2D0C4015C6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7321BCE3-B675-433F-8A3E-181B79C20B6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7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 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January 14-16, 201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Rome, Italy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15840" y="6415200"/>
            <a:ext cx="987480" cy="4269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" descr="Milan Sova"/>
          <p:cNvPicPr/>
          <p:nvPr/>
        </p:nvPicPr>
        <p:blipFill>
          <a:blip r:embed="rId2"/>
          <a:stretch/>
        </p:blipFill>
        <p:spPr>
          <a:xfrm>
            <a:off x="2994120" y="1055520"/>
            <a:ext cx="3155760" cy="474696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4"/>
          <p:cNvSpPr/>
          <p:nvPr/>
        </p:nvSpPr>
        <p:spPr>
          <a:xfrm>
            <a:off x="309600" y="533520"/>
            <a:ext cx="86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ilan S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309600" y="5802480"/>
            <a:ext cx="86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1962-20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15840" y="6415200"/>
            <a:ext cx="987480" cy="4269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H:\Home\davidg\EUGridPMA\Meetings\2013-01-Rome\P1030545-small.jpg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15840" y="6415200"/>
            <a:ext cx="987480" cy="42696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1"/>
          <p:cNvSpPr/>
          <p:nvPr/>
        </p:nvSpPr>
        <p:spPr>
          <a:xfrm>
            <a:off x="299880" y="5502240"/>
            <a:ext cx="86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ttp://milansovacesnet.wordpress.com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2" name="Picture 3" descr="H:\Home\davidg\EUGridPMA\Meetings\2013-01-Rome\IMG_0974-cropped-small.jpg"/>
          <p:cNvPicPr/>
          <p:nvPr/>
        </p:nvPicPr>
        <p:blipFill>
          <a:blip r:embed="rId2"/>
          <a:stretch/>
        </p:blipFill>
        <p:spPr>
          <a:xfrm>
            <a:off x="1349280" y="685800"/>
            <a:ext cx="6423120" cy="48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Monday 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952560" y="1419120"/>
            <a:ext cx="8091360" cy="44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Lucida Sans"/>
              </a:rPr>
              <a:t>GARR and Roberto Cecchini</a:t>
            </a:r>
            <a:br>
              <a:rPr sz="4000"/>
            </a:br>
            <a:endParaRPr b="1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7464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Big Thank you f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GAR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..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LOGISTICS AND INFO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Agenda &amp; Practica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Present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pload your presentations to the agenda pag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ttp://www.eugridpma.org/meetings/2013-01/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nd follow the link to the on-line agend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ry and share your application/desktop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Modification  password for the whole meeting: </a:t>
            </a: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see board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Adobe connect</a:t>
            </a:r>
            <a:br>
              <a:rPr sz="2400"/>
            </a:br>
            <a:r>
              <a:rPr b="0" lang="en-US" sz="2400" spc="-1" strike="noStrike">
                <a:solidFill>
                  <a:srgbClr val="990000"/>
                </a:solidFill>
                <a:latin typeface="Lucida Sans"/>
              </a:rPr>
              <a:t>  https://webconf.vc.dfn.de/r17159825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Vidyo desktop client has basic screen sharing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  </a:t>
            </a:r>
            <a:r>
              <a:rPr b="0" lang="en-US" sz="1600" spc="-1" strike="noStrike">
                <a:solidFill>
                  <a:srgbClr val="990000"/>
                </a:solidFill>
                <a:latin typeface="Lucida Sans"/>
              </a:rPr>
              <a:t>http://vidyoportal.cern.ch/flex.html?roomdirect.html&amp;key=hJyvnjcRuVLC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Monday 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952560" y="1419120"/>
            <a:ext cx="8091360" cy="44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Tuesday 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1"/>
          <a:stretch/>
        </p:blipFill>
        <p:spPr>
          <a:xfrm>
            <a:off x="923760" y="1509840"/>
            <a:ext cx="7979040" cy="41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Wednesday 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6" name="Picture 2" descr=""/>
          <p:cNvPicPr/>
          <p:nvPr/>
        </p:nvPicPr>
        <p:blipFill>
          <a:blip r:embed="rId1"/>
          <a:stretch/>
        </p:blipFill>
        <p:spPr>
          <a:xfrm>
            <a:off x="817560" y="1182600"/>
            <a:ext cx="7900920" cy="34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Upcoming even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838080" y="1328760"/>
            <a:ext cx="80409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8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Kyiv, UA, May 13-15, 2013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GF37: March 11-13, Charlottesville, VA, U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ISGC &amp; APGridPMA: March 22, Taipei, TW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9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th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September 9-11, Bucharest, RO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15840" y="6415200"/>
            <a:ext cx="987480" cy="426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3-01-10T14:25:13Z</dcterms:modified>
  <cp:revision>603</cp:revision>
  <dc:subject/>
  <dc:title>European Grid Policy Management Authority</dc:title>
</cp:coreProperties>
</file>