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9CB747-7CA3-4CBE-9656-BF1F38F6B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DD2D57-E24B-4E49-B201-5D07D2F0873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A004C1-D719-4302-AFBE-B266198DEEB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17462-9D94-495C-A6C6-0D815F98214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2CADC-F5B7-48DF-B133-A41378E7EFC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A9F5F-65D0-4BC1-8B95-894A3EAF1B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99EED-17C5-4CC2-9245-69EFAACB91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E5D7-A1E9-48D7-99CD-0E13A489D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6B7FE-020C-4086-8D4B-E3FA20F8D3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AE8E0-88B4-4B0D-9E89-2149BAB0F8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3BA93-0B6A-4BDC-B981-A0C181DB8B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CA1F0-DE6A-4E06-A2A6-3EA6D73EB4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77252-E59F-4924-B27A-DAD760A53B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0E67A-3FBA-4CB8-9F38-12872CD137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33120" y="274680"/>
            <a:ext cx="685332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8E27B-92FB-4D03-8566-7DDBC6D1AA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FACF8-E920-4217-B910-8FF47A7C0D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E18B9-BB3D-4ACC-B159-0C5FEC0FB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4D37B-AFA0-44E3-8A9C-D3E5255C76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D86DA-7309-40D5-868A-9CB9DA00C8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BE1F7-56AC-4B88-8BE6-CADC79F0E5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71AA2-AC48-498E-A045-A699DC19AD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E53B3-691A-49BB-8E1E-35C53181686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7F740-5312-49AA-9241-3D1CCE47E7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833120" y="274680"/>
            <a:ext cx="685332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AB05-10B6-48E7-8840-C0283649C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4136C-F054-4562-8D11-C421E53F8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33120" y="274680"/>
            <a:ext cx="685332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7B19-7F60-4FD9-8D9C-F71A97893D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3429B-9DEC-4242-A76A-77A8BF25FE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7F2AB-E28D-4619-9031-BBB386E6B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14727-784E-4F12-BABA-94AB9598D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2440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A842C-0B42-4122-8CB6-C7C0C08A75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grpSp>
        <p:nvGrpSpPr>
          <p:cNvPr id="41" name="Group 7"/>
          <p:cNvGrpSpPr/>
          <p:nvPr/>
        </p:nvGrpSpPr>
        <p:grpSpPr>
          <a:xfrm>
            <a:off x="5403960" y="214200"/>
            <a:ext cx="3527280" cy="1287000"/>
            <a:chOff x="5403960" y="214200"/>
            <a:chExt cx="3527280" cy="1287000"/>
          </a:xfrm>
        </p:grpSpPr>
        <p:sp>
          <p:nvSpPr>
            <p:cNvPr id="42" name="WordArt 5"/>
            <p:cNvSpPr txBox="1"/>
            <p:nvPr/>
          </p:nvSpPr>
          <p:spPr>
            <a:xfrm>
              <a:off x="5457960" y="2142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" name="Text Box 6"/>
            <p:cNvSpPr/>
            <p:nvPr/>
          </p:nvSpPr>
          <p:spPr>
            <a:xfrm>
              <a:off x="5403960" y="8586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02440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ED865D-866F-4338-849B-666FF1DA49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dsimmel@psc.edu" TargetMode="External"/><Relationship Id="rId2" Type="http://schemas.openxmlformats.org/officeDocument/2006/relationships/hyperlink" Target="mailto:Scott@DigiCert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rek Simm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(with few mods by David Kelsey)</a:t>
            </a:r>
            <a:br>
              <a:rPr sz="24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50920" y="4941720"/>
            <a:ext cx="871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8000"/>
                </a:solidFill>
                <a:latin typeface="Calibri"/>
              </a:rPr>
              <a:t>APGridPMA Meeting</a:t>
            </a:r>
            <a:br>
              <a:rPr sz="2600"/>
            </a:br>
            <a:r>
              <a:rPr b="0" lang="en-GB" sz="2600" spc="-1" strike="noStrike">
                <a:solidFill>
                  <a:srgbClr val="008000"/>
                </a:solidFill>
                <a:latin typeface="Calibri"/>
              </a:rPr>
              <a:t>Taipei, Taiw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March 22, 201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SHA-2 Deployment Timeline discussion</a:t>
            </a:r>
            <a:endParaRPr b="0" lang="en-US" sz="32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AGPMA members voted and did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NOT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approve the SHA-2 timeline as described in David Groep’s e-mail of September 10, 2012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An alternate SHA-2 deployment timeline, addressing TAGPMA concerns, has been developed and is available for review at</a:t>
            </a:r>
            <a:br>
              <a:rPr sz="3200"/>
            </a:b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http://tagpma.es.net/wiki/bin/view/Main/SHA2Timeline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ents and questions are welcome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Slide Number Placeholder 7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21E884-1983-406B-BDF8-1B68C4988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Leadership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urrent TAGPMA Membership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ommunication Infrastructure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Conference Calls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17 &amp; 18 (IGTF All Hands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HA-2 Deployment Timeline discussion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B097D2-F313-4943-9892-5EA2105E1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Leadership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urrent Officers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hair: Derek Simmel (PSC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immel@psc.edu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Vice Chair: Scott Rea (DigiCert + REBCA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cott@DigiCert.com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retary: Ale Stolk (ULAGrid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stolk@ula.ve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Slide Number Placeholder 7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D7E910-961D-4467-AC03-9ABD39D4F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039680" y="1117440"/>
          <a:ext cx="7066080" cy="5389560"/>
        </p:xfrm>
        <a:graphic>
          <a:graphicData uri="http://schemas.openxmlformats.org/drawingml/2006/table">
            <a:tbl>
              <a:tblPr/>
              <a:tblGrid>
                <a:gridCol w="1667160"/>
                <a:gridCol w="1655640"/>
                <a:gridCol w="2158920"/>
                <a:gridCol w="158436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resent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/R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C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hiva Murugananth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id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ger Imp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BDS AN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gio Liett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omm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ve Bea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R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reyas Chol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ctor Hazlew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ek Simme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dra Jaqu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Saka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8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AM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to Huiman Carrasc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od Rebell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A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jandra Stol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isco Martine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AN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res Holgu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L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ula Veno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win Gain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B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an Sil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LC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tzer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ve Kels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SE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Marstell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DETYS / UT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rube Urri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CLA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/L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is A. Núñe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26 Members from North, Central and South America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overing Canada, US, Mexico, Venezuela, Chile, Peru, Argentina, Brazil, Colombia and Panama.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21 IGTF Accredited CAs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12 Classic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DigiCert(2) – US, UFF BrGrid &amp; UFF LACGrid - Brazil, ANSPGrid – Brazil, UNLPGrid - Argentina, REUNA – Chile, ULAGrid – Venezuela, GridCanada, UNAM – Mexico, UNIANDES - Colombia. 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DOE Grid accredited by EUGridPMA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7 SLC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NCSA x 3, FermiLabs, NERSC, PSC, NICS UTK - U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2 MIC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NCSA – US and CILogon – U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E0BF6B-66C3-46F7-8C60-0B3E4C139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TACC retired their membership in TAGPMA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As should be removed from IGTF &amp; TACAR distribution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4 CA accreditations in-process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2 Classic pending (SENAMHI – Peru, InCommon – US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2 MICS pending (SDSC, NCAR – US)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nCommon CA (Comodo for low-cost host certs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8 Relying Parties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FNAL, OSG, XSEDE, THEgrid, LCG, REBCA, CIDETYS/UTP, redCLARA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New members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nCommon voted in as new prospective AP member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OGF has expressed interest in membership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Slide Number Placeholder 7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FA4181-B5B6-4E91-9A86-249BF2C4B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ommunication Infrastructur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GTF Website http://www.igtf.net</a:t>
            </a: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AGPMA Website http://www.tagpma.org </a:t>
            </a: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Hosts static, public information &amp; profiles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Overhaul still way overdue </a:t>
            </a:r>
            <a:r>
              <a:rPr b="0" lang="en-US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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AGPMA twiki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http(s)://tagpma.es.net/wiki  </a:t>
            </a: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hosts in-process TAGPMA documents, notes, tutorials etc.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ontains agenda and minutes from monthly meetings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Mailing lists tagpma-general, tagpma-private </a:t>
            </a: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ailing lists have been moved over to Google Apps for Education, also enabling Calendar, Docs &amp; Sites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-mail any issues direct to the Chair (dsimmel@psc.edu)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6C917-2497-419A-9C2F-DCF1240ED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Conference Calls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Regular Video Conference Calls are now Monthly, at 12noon Eastern (US) time on the 2nd Wednesday of each month. 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Next call will be April 10, 2013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Video arrangements: RedCLARA VC Espresso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Request for agenda items goes out ~1 week before the next cal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The agenda is usually posted on tagpma-general e-mail list no later than 1 day before the meeting.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1f497d"/>
                </a:solidFill>
                <a:latin typeface="Calibri"/>
              </a:rPr>
              <a:t>All IGTF members and prospective TAGPMA members are welcome to attend our TAGPMA meetings!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D97DC6-8635-4402-AB93-0EF582B85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17 &amp; 18 (IGTF All Hands)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17 – Colorado – May 6-8, 2013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Hosted by the National Center for Atmospheric Research (NCAR, USA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CI meeting also taking place (7-8 May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Link to registration page is now open at </a:t>
            </a:r>
            <a:r>
              <a:rPr b="0" i="1" lang="en-US" sz="1800" spc="-1" strike="noStrike">
                <a:solidFill>
                  <a:srgbClr val="1f497d"/>
                </a:solidFill>
                <a:latin typeface="Calibri"/>
              </a:rPr>
              <a:t>http://indico.rnp.br/conferenceDisplay.py?ovw=True&amp;confId=161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18 – Argentina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dates TBD soon in October ~ November 2013 timeframe - stay tuned for a doodle poll link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AGPMA 18 will be the next IGTF All Hands meeting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AF622-8474-47D8-865E-E374D5B5E9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04:52:24Z</dcterms:created>
  <dc:creator>Derek Simmel</dc:creator>
  <dc:description/>
  <dc:language>en-US</dc:language>
  <cp:lastModifiedBy>Derek Simmel</cp:lastModifiedBy>
  <cp:lastPrinted>2013-01-14T06:34:15Z</cp:lastPrinted>
  <dcterms:modified xsi:type="dcterms:W3CDTF">2013-03-21T14:23:38Z</dcterms:modified>
  <cp:revision>15</cp:revision>
  <dc:subject/>
  <dc:title>PowerPoint Presentation</dc:title>
</cp:coreProperties>
</file>