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5FDC228-9368-43CB-8B8F-31AE52E31D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B88DB33-5D01-4022-B650-052A3471252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94217B1-2FFF-4635-9F07-7E95E36FEA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4608DFB8-2F22-4EED-B359-D5784D1A94A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84B08374-4868-4481-9B05-28090ECA75B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F27BCDA0-35DB-4458-9301-F44B5DE8DBF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B835918C-F7AB-4CAA-9364-A59DED21A10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2E7ADE11-9012-4F2A-8B27-228544D5F39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591D4A56-B01F-43EC-A797-0FEB690D9D5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5DC5ADB2-CFD0-4774-961A-BD034F7A7AC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5CF2C9DC-7C6B-4BA6-BFA9-83DBD46D8EE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1C686A89-9435-40EA-A941-0BCF07C498C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4AF8B55B-2EEE-4A71-95D9-B7D94181052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62B2779A-A68D-4D8C-B474-BD037E528CC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8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 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May 13-15, 201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Kyiv, Ukraine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Lucida Sans"/>
              </a:rPr>
              <a:t>NTUU KPI and the UGrid CA</a:t>
            </a:r>
            <a:br>
              <a:rPr sz="4000"/>
            </a:br>
            <a:endParaRPr b="1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7464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LOGISTICS AND INFO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&amp; Practica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Present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pload your presentations to the agenda pag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://www.eugridpma.org/meetings/2013-05/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follow the link to the on-line agend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ry and share your application/deskto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Modification  password for the whole meeting: 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see board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Adobe connect</a:t>
            </a:r>
            <a:br>
              <a:rPr sz="2400"/>
            </a:br>
            <a:r>
              <a:rPr b="0" lang="en-US" sz="2400" spc="-1" strike="noStrike">
                <a:solidFill>
                  <a:srgbClr val="990000"/>
                </a:solidFill>
                <a:latin typeface="Lucida Sans"/>
              </a:rPr>
              <a:t>  https://webconf.vc.dfn.de/r17159825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idyo desktop client has basic screen sharing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  </a:t>
            </a:r>
            <a:r>
              <a:rPr b="0" lang="en-US" sz="1600" spc="-1" strike="noStrike">
                <a:solidFill>
                  <a:srgbClr val="990000"/>
                </a:solidFill>
                <a:latin typeface="Lucida Sans"/>
              </a:rPr>
              <a:t>http://vidyoportal.cern.ch/flex.html?roomdirect.html&amp;key=hJyvnjcRuVLC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Monday 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2" name="Picture 4" descr=""/>
          <p:cNvPicPr/>
          <p:nvPr/>
        </p:nvPicPr>
        <p:blipFill>
          <a:blip r:embed="rId1"/>
          <a:stretch/>
        </p:blipFill>
        <p:spPr>
          <a:xfrm>
            <a:off x="830160" y="1074600"/>
            <a:ext cx="764712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Tuesday 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Upcoming even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838080" y="1328760"/>
            <a:ext cx="80409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9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th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September 9-11, Bucharest, R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1</a:t>
            </a:r>
            <a:r>
              <a:rPr b="0" lang="en-GB" sz="2400" spc="-1" strike="noStrike" baseline="30000">
                <a:solidFill>
                  <a:srgbClr val="990000"/>
                </a:solidFill>
                <a:latin typeface="Lucida Sans"/>
              </a:rPr>
              <a:t>st</a:t>
            </a: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 week of November: IGTF All Hands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La Plata, AR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3-05-09T01:53:08Z</dcterms:modified>
  <cp:revision>607</cp:revision>
  <dc:subject/>
  <dc:title>European Grid Policy Management Authority</dc:title>
</cp:coreProperties>
</file>