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3.jpeg" ContentType="image/jpeg"/>
  <Override PartName="/ppt/media/image15.png" ContentType="image/pn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647-9719-458F-8D24-719C5BB0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0F6-BF0B-41D2-AF83-2E4E3F41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FFE-3E51-45C7-90B2-839AABC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DB3-B345-4619-B00B-3AA1B438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478A-7EA7-4B7F-BE78-76359106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CCE-A952-4199-8121-1779A690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074-A082-4E3E-9C09-1885A17A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88FC-0744-448F-BDF5-1EB84BA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FB70-742B-438F-B54B-5556EF00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0FAE-42BF-4551-AAC9-C697A3C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310-9909-4F99-B118-38DC6F3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834-4157-423C-A77D-C17EE16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233A-CF7C-49C3-9D40-DBA0052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796-71EF-4AC5-85A9-B329107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4DA-3749-494D-909E-EFC8B6E0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6646-567E-4B37-A662-70BA1932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1853-8FDC-4387-8DD0-0FEAE00D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F0D-E70D-47C0-825D-D666252F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A19D-D1AB-49C2-85DD-E697DB6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3DB3-D7D2-4ACB-A9B0-EFC1433D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D7C4-A54D-4A52-A760-77C096D8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B15E-ED27-49D9-8FE4-BC592E4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2F51-C64C-4E1D-9955-14611CC3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96F7-8E06-47CF-9BDA-82C22B3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0EA7-1C3E-49FC-816D-9DA86DE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D2BC-D173-41E6-BAE1-151FEF9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15BB-2B2F-4092-B1F8-117B816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C17F-EC8D-423A-8871-A913E896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D6E-C1F1-4B42-ABE0-27CA4FAE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1D24-0ACE-48AD-B5B4-B51C65E2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55626-E6BD-41FC-A963-97297A62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2E26-6837-4CF3-8663-EFD12055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CA50-2F7E-4F4E-8A28-308D881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BA80-09B5-4585-A1C7-14728E5E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568C-F6A0-4AFC-8642-67CD2F8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BDB5-36A1-4599-8378-B22B1BC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AFF9-3B2F-41DF-9774-D2AAE6FB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C5D7-541A-478A-B6C1-774FCA9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7E70-71F8-4963-89A9-EF17990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5C4-9932-40CE-8393-89FDFFC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7119-7AB1-4BA4-808B-1C9C7D68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0DCA-D75F-4E05-AFDE-25EEB091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D0E0-266C-493E-B52E-8416B995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E8AF-D3A7-4490-97A1-05ACB2E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A9EA-371B-4774-AE08-D75D463E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2816-B491-47CD-9FF1-6720B85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4C34-2808-48C4-A7D2-9D9428D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0C4F-4C8D-4116-8951-5BDA293A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D6EA-41D8-4ACC-9F65-80CE543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39423-1181-48BE-A8DD-5010FBC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42B-9615-43D1-8C27-ECD9E46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C2CBE-5F92-4F69-BCC3-7782EDF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CC685-12CB-41BF-A766-1808A5C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D4BAB-BBFE-4E10-8B98-E34C703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F13A9-0A9C-4BD0-AEEE-E3D04450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ECA8-E4AE-493A-8B36-066CFCD0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C28-9DD1-4914-8996-58E8060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F12-7937-452F-8F89-88CB461E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D5A-4EDF-4C0F-83FD-AC13E9EB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D02-F42D-49EA-BA1B-C5BAE5B8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AEFB658-AFC4-498D-8F50-71A7C6F6888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5D4D32FB-4BED-466A-AC7E-0EEFFC15083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79E0D5FF-535B-4661-AF6A-C5D75E114AC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AED90DFE-4ADE-4A20-9F93-C14D27B70E4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C5742F06-0D84-4277-8DB7-6F35DDF40F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2DE95204-1701-46C4-98BB-287EA78A782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32A-64B5-451A-8BF4-C5B21E5F1A1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5DA30722-FD91-4F34-BCEA-9FE6BD2B528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9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8BF0-04BE-49FD-8CEA-F9D86DA9E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1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72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12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347B-F466-4B3B-915A-196B6CB1FC1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7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14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62D-1D87-431C-AF8C-1ED56FCFB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210-3446-4328-93F3-430F185294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6896B5A4-4A6C-4808-A332-D0390C925FA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FFF8C7B0-3039-45EE-B7BE-8FABFC85285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913F7E9-A632-44F9-8C52-422C8A46D0F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E6E3C011-B8BF-4D3A-BECC-1762F9258A8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33AA25E7-2407-44CD-9CF2-89FE9070209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3500DCA3-F76A-41A0-8156-A3DD9E44ECC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sara, and EGI.eu O-E-15 and EGI-InSPIRE NA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529272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H:\Home\davidg\Template\Logos\EGI-logo-large01.wmf"/>
          <p:cNvPicPr/>
          <p:nvPr/>
        </p:nvPicPr>
        <p:blipFill>
          <a:blip r:embed="rId2"/>
          <a:stretch/>
        </p:blipFill>
        <p:spPr>
          <a:xfrm>
            <a:off x="6551640" y="5950080"/>
            <a:ext cx="1116000" cy="6267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H:\Home\davidg\EUGridPMA\IGTF\IGTF-logos\IGTF-logo-full.wmf"/>
          <p:cNvPicPr/>
          <p:nvPr/>
        </p:nvPicPr>
        <p:blipFill>
          <a:blip r:embed="rId3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3" descr="H:\Home\davidg\EUGridPMA\Meetings\2013-04-TAGPMA-Boulder\8F587723-C9D8-48EF-8C07-EE3053C0EF70[5].png"/>
          <p:cNvPicPr/>
          <p:nvPr/>
        </p:nvPicPr>
        <p:blipFill>
          <a:blip r:embed="rId4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07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1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7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LIVE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quirements to fulfil – mainly for RPs!</a:t>
            </a:r>
            <a:endParaRPr b="1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Date Placeholder 2"/>
          <p:cNvSpPr/>
          <p:nvPr/>
        </p:nvSpPr>
        <p:spPr>
          <a:xfrm>
            <a:off x="61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7"/>
          <p:cNvGrpSpPr/>
          <p:nvPr/>
        </p:nvGrpSpPr>
        <p:grpSpPr>
          <a:xfrm>
            <a:off x="468360" y="4011480"/>
            <a:ext cx="4390920" cy="2071800"/>
            <a:chOff x="468360" y="4011480"/>
            <a:chExt cx="4390920" cy="2071800"/>
          </a:xfrm>
        </p:grpSpPr>
        <p:pic>
          <p:nvPicPr>
            <p:cNvPr id="837" name="Picture 2" descr=""/>
            <p:cNvPicPr/>
            <p:nvPr/>
          </p:nvPicPr>
          <p:blipFill>
            <a:blip r:embed="rId1"/>
            <a:stretch/>
          </p:blipFill>
          <p:spPr>
            <a:xfrm>
              <a:off x="2843640" y="4155480"/>
              <a:ext cx="169776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Box 9"/>
            <p:cNvSpPr/>
            <p:nvPr/>
          </p:nvSpPr>
          <p:spPr>
            <a:xfrm>
              <a:off x="468360" y="4011480"/>
              <a:ext cx="4390920" cy="20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Incident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ong-term* trace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dependent from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hort-lived commun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st be revoc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e with other informatio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ning and containment hand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0"/>
          <p:cNvGrpSpPr/>
          <p:nvPr/>
        </p:nvGrpSpPr>
        <p:grpSpPr>
          <a:xfrm>
            <a:off x="250920" y="1093680"/>
            <a:ext cx="4249800" cy="2102760"/>
            <a:chOff x="250920" y="1093680"/>
            <a:chExt cx="4249800" cy="2102760"/>
          </a:xfrm>
        </p:grpSpPr>
        <p:sp>
          <p:nvSpPr>
            <p:cNvPr id="840" name="TextBox 11"/>
            <p:cNvSpPr/>
            <p:nvPr/>
          </p:nvSpPr>
          <p:spPr>
            <a:xfrm>
              <a:off x="250920" y="1093680"/>
              <a:ext cx="4249800" cy="21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ivacy and data 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ortant ‘unalienabl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ight’ for 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ion of PII amon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ice providers could allow profi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change of PII often fraught with iss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1" name="Picture 3" descr=""/>
            <p:cNvPicPr/>
            <p:nvPr/>
          </p:nvPicPr>
          <p:blipFill>
            <a:blip r:embed="rId2"/>
            <a:stretch/>
          </p:blipFill>
          <p:spPr>
            <a:xfrm>
              <a:off x="3203640" y="1165680"/>
              <a:ext cx="1153080" cy="15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13"/>
          <p:cNvGrpSpPr/>
          <p:nvPr/>
        </p:nvGrpSpPr>
        <p:grpSpPr>
          <a:xfrm>
            <a:off x="5148360" y="2143080"/>
            <a:ext cx="3781440" cy="1616040"/>
            <a:chOff x="5148360" y="2143080"/>
            <a:chExt cx="3781440" cy="1616040"/>
          </a:xfrm>
        </p:grpSpPr>
        <p:pic>
          <p:nvPicPr>
            <p:cNvPr id="843" name="Picture 4" descr=""/>
            <p:cNvPicPr/>
            <p:nvPr/>
          </p:nvPicPr>
          <p:blipFill>
            <a:blip r:embed="rId3"/>
            <a:stretch/>
          </p:blipFill>
          <p:spPr>
            <a:xfrm>
              <a:off x="7129440" y="2287080"/>
              <a:ext cx="1730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TextBox 15"/>
            <p:cNvSpPr/>
            <p:nvPr/>
          </p:nvSpPr>
          <p:spPr>
            <a:xfrm>
              <a:off x="5148360" y="2143080"/>
              <a:ext cx="3781440" cy="16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Measurement and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blication metr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age metering, 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uditing and compliance 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Box 16"/>
          <p:cNvSpPr/>
          <p:nvPr/>
        </p:nvSpPr>
        <p:spPr>
          <a:xfrm>
            <a:off x="5003640" y="4349880"/>
            <a:ext cx="41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dentity lives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n a policy ecosystem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to protect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en-GB" sz="2000" spc="-1" strike="noStrike">
                <a:solidFill>
                  <a:srgbClr val="c00000"/>
                </a:solidFill>
                <a:latin typeface="Arial"/>
              </a:rPr>
              <a:t>commensurate to their risk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7"/>
          <p:cNvGrpSpPr/>
          <p:nvPr/>
        </p:nvGrpSpPr>
        <p:grpSpPr>
          <a:xfrm>
            <a:off x="4859280" y="1093680"/>
            <a:ext cx="4064040" cy="855000"/>
            <a:chOff x="4859280" y="1093680"/>
            <a:chExt cx="4064040" cy="855000"/>
          </a:xfrm>
        </p:grpSpPr>
        <p:sp>
          <p:nvSpPr>
            <p:cNvPr id="847" name="TextBox 18"/>
            <p:cNvSpPr/>
            <p:nvPr/>
          </p:nvSpPr>
          <p:spPr>
            <a:xfrm>
              <a:off x="4859280" y="1093680"/>
              <a:ext cx="4064040" cy="8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ess Control Attribute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ique bi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ver re-assig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Picture 3" descr=""/>
            <p:cNvPicPr/>
            <p:nvPr/>
          </p:nvPicPr>
          <p:blipFill>
            <a:blip r:embed="rId4"/>
            <a:stretch/>
          </p:blipFill>
          <p:spPr>
            <a:xfrm>
              <a:off x="8504640" y="1412640"/>
              <a:ext cx="315720" cy="52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TextBox 21"/>
          <p:cNvSpPr/>
          <p:nvPr/>
        </p:nvSpPr>
        <p:spPr>
          <a:xfrm>
            <a:off x="581040" y="3305160"/>
            <a:ext cx="406224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Regulato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ed to know who you let in before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8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78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79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82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83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84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85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91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5-07T15:26:06Z</dcterms:modified>
  <cp:revision>244</cp:revision>
  <dc:subject/>
  <dc:title>Slide 1</dc:title>
</cp:coreProperties>
</file>