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C84D7-8116-4336-AF8F-911AA6FEA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85AD2-DB1C-42BA-8E08-65BB66E25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D5CD7-3427-4668-A4E0-1F080F6E7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3BA1A-449A-439D-8596-75FDD9D6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8988E-DAC3-4444-AE4E-4455A0858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5B7DB-F8CE-4B26-89AF-16171A02C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E07AE-7593-4857-BE4B-3AFDE04AE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26C79-2903-4C46-A420-FC76D129D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D56B5-C5D7-4CA8-85B4-B6E0B90B3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A8B9C-9054-4317-9F7B-C7BC91713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4E30B-B3AD-4B2B-9CE8-182061F73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85B13-4881-48B6-A699-5410FD936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2FAC8-AA10-4693-A523-759A95ED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B35B4-F7C8-46C7-AF33-3D280DDB0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6ED08-74E5-47C0-AFA6-8EA8FC582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916C-6205-4055-9340-E745E989A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3B14-C470-42EF-A4CF-4BBA33F6D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AE90-35F7-4B82-975E-2252CF5E0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1398-757E-4044-87AF-15D8FA17A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BFCC-652B-4AA2-AD56-0B3D8A68F5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265B-38A0-4FEF-A082-1A33F88ADB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0B2C-FF19-4DDF-9F8D-E926F04F6F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B3BE-5443-4738-BE0C-FEAC334F5A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B2B7-C8A9-4258-9DF3-F6F99B8B14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4311-7E5E-4736-A40C-C2D6787555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0313-7D37-4A9C-9895-1577D9971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BF2D-7CFF-4890-AA5B-4A0883767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47A5-615D-4BDF-BFED-D2BA4C35C5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194E-3426-4EB0-B8F3-479DE9E0A6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88E2-7500-4D16-A8FB-417BE0C70E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C111-01FA-4808-B14A-2983DB68D8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581F-BDD7-46D1-AF85-100F9DB279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E3F3-E109-4C11-9C33-BA1982CD3B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CFB9-4BD7-434C-8E02-F8C5E28D6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C152-513B-47D9-9BBA-615411EA6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2C75-D329-49F7-B2D7-A435FA1D5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763F-875C-4875-BFC3-7B5CDD03D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A737-3408-4509-A14A-5AEEB934B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99E7-B1BB-46BA-B63A-543F74599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B74D4-6453-445D-BE9B-51CCC77FCB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295DC-A7C5-4B77-A007-8DC2CFAC67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ovw=True&amp;confId=17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 &amp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Alejandra Stol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Buchares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Sep 9th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31880" y="1317600"/>
            <a:ext cx="79549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BE5FB-C1DD-4069-832B-88D309D12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6440" y="1397160"/>
            <a:ext cx="89535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2) InCommon CA CPS evaluation completed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ote to ACCEPT/DECLINE for accreditation currently under way via e-mail vote (due Sept. 11, 201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3) IGTF All Hands Meeting scheduled for November 6-8, 2013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ed by UNLP in La Plata, Argentin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ference details available 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ＭＳ Ｐゴシック"/>
                <a:hlinkClick r:id="rId1"/>
              </a:rPr>
              <a:t>http://indico.rnp.br/conferenceDisplay.py?ovw=True&amp;confId=1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aft agenda to be added shortly - suggestions welcom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meeting is TAGPMA 18 (IGTF All Han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310B-B3B5-49EF-BF4F-C13695637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Ale Stolk (ULAGri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A2741-C6B1-4677-A449-9CBB897D8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1143000"/>
          <a:ext cx="7067520" cy="54547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75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5 Members from North, Central and South Americ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Canada, US, Mexico, Venezuela, Chile, Peru, Argentina, Brazil, Colombia and Panam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 Classic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E Grid accredited by EUGridP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x 3, FermiLab, NERSC, PSC, NICS UTK -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– US and CILogon –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3ADCC-55AB-4AD8-A255-CD54D6255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317600"/>
            <a:ext cx="82296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Classic pending (SENAMHI – Peru, InCommon – U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(Comodo for low-cost host cert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7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FNAL, LCG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voted in as new prospective AP memb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GF has expressed interest in membersh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est expressed (again) by 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2197B-DD5D-44E0-B9D5-7CCF80569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ADE1D-EEF0-475A-86B0-94C47F81F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will be September 11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C0A9B-E947-4E4B-868E-D0D8AE7B9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317600"/>
            <a:ext cx="8229600" cy="58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6B539-F8E6-4A09-BD42-DF524E160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8840" y="1371600"/>
            <a:ext cx="8496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Updated MICS profile to (v.1.3) add the following statement in Section 3.1 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Identity vetting rules for the primary identity management syste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"On the Kantara Initiative Identity Assurance Framework Levels of Assurance scale [Kantara2010], Assurance Level 2 and higher are considered sufficient for MICS PKI identity vetting.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ith the referenc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Kantara2010]  Glade, B. (Ed.). “Identity Assurance Framework: Assurance Levels” Version 2.0 24 April 2010. Kantara Initiative. http://kantarainitiative.org/confluence/download/attachments/41649275/Kantara+IAF-1200-Levels+of+Assurance.pd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9-09T02:42:02Z</dcterms:modified>
  <cp:revision>23</cp:revision>
  <dc:subject/>
  <dc:title>PowerPoint Presentation</dc:title>
</cp:coreProperties>
</file>