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103-9304-4F6D-BA96-139A8355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97D-0A9A-4E34-A790-9596D63F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4FC-682E-4228-B47E-05AB0DEC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4F7C-C488-4CFE-9E60-D44290A9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0011-A348-4137-ABC5-D3D7B6AA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20DB-BBFA-4F99-A11C-98C448CA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3B4-0A0D-4BCE-8272-491AADC9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6539-A377-4796-9AB1-92CB20F5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8357-2C25-4817-B7D5-811E9BC6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1F88-9BF5-4EB4-98D9-023F2C46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753D-2C61-4183-85FA-8D5B949F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D459-3A86-4755-964C-7A2E9091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9752-4B93-4C8D-B426-09D7CA43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DF65-2DCA-4849-B070-7AF70FD6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9A42-9D88-4699-B295-C313C4A9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7F7C-4DDC-4200-9290-9D52D012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252B9-0F02-49C1-9F9A-5861D8D3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E81-5D78-4646-94D9-18292F88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351F-EAB8-429E-96D3-47622824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8720-7981-42D3-9398-651DA5C0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1FA2-5E78-4A6C-B25F-F5725D21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8ED5-0A2D-4DB1-91C3-513B1312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2C86-CD58-4B38-8BF2-055A1648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2D76-009A-40CE-A875-2E9BED8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7EBB-7123-4B94-B328-51C0B986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8422-847B-43F4-B09B-F2C5626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D959-678C-4ADD-A1DE-CA167E67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501C-A44A-44EF-A6E0-F39D0BA5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0AF-A522-4DC2-876D-39CD1816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4783-AEBB-4CB4-A199-2320F620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3839F-ADC8-48ED-B554-99A6B716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51F70-CC14-4267-A26B-5C2BFC16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C118E-7041-4C34-AF0A-7416BA68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C2CC6-520C-4474-A5B6-0AF3EC4E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50F2E-4D58-470F-88DD-62C9737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6F3D9-7100-490C-B777-FFDF1B74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AFF27-446E-421B-BC4A-F9C3AC2D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044DB-577A-4B7B-A740-5D1A8CAB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A5DE0-B182-455C-B461-BB25024A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512-AE29-4335-93BB-7D20388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ABD7D-16F3-44FA-B157-7A72CCF8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D2C0D-2589-475C-9E3F-9EB20E63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9A25-A219-4B46-AA80-AC8DE335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980-82C6-40BA-94B8-C71D9829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61A-F583-4F0C-90BB-58E1241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556-7F7E-4DEC-BEA1-E016A363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D15-EC45-48E5-8E36-5477CD0B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20A-2603-4754-ABE5-64BF3FEA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AC2D3695-BF2F-422C-82A9-1D91BCA7735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170654FE-FF3A-4365-80A9-98618AE1FDA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5E4B972B-CA15-4D59-BAD7-E8FCBFFCCD7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9EF80884-F123-4BCD-9FA7-DCC415DC500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1570C64B-BA13-41B0-878E-D56C3A61B86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AC786D4E-B86E-4F01-BA3F-B708D520135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AF47-7941-47E3-8148-BFE68594879E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66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7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8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9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4726-C435-4A07-902D-4B0626DE770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2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B90C-D87F-4D3A-A8A8-AC5465BA6F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5910-6EDE-4D0F-BC9B-5DA713A17B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F6ED3905-171F-4B0B-8AD2-2D23C546BE7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39D489BB-8046-4399-BF4C-289288CD1E8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BB8FD4C0-3468-488A-95BB-2F87D4AF74E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BAFE0733-8363-4A21-8BD7-CC0EDC719B6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64CD8AA7-9F00-4CC1-85CC-942FCD6ACFA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76045CFD-581F-45CC-80D5-5705BC609D5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URFs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626580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H:\Home\davidg\EUGridPMA\IGTF\IGTF-logos\IGTF-logo-full.wmf"/>
          <p:cNvPicPr/>
          <p:nvPr/>
        </p:nvPicPr>
        <p:blipFill>
          <a:blip r:embed="rId2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3" descr="H:\Home\davidg\EUGridPMA\Meetings\2013-04-TAGPMA-Boulder\8F587723-C9D8-48EF-8C07-EE3053C0EF70[5].png"/>
          <p:cNvPicPr/>
          <p:nvPr/>
        </p:nvPicPr>
        <p:blipFill>
          <a:blip r:embed="rId3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0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4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50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IOTA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0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3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16"/>
          <p:cNvSpPr/>
          <p:nvPr/>
        </p:nvSpPr>
        <p:spPr>
          <a:xfrm>
            <a:off x="5148360" y="109368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policy eco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commensurate to risk level</a:t>
            </a:r>
            <a:br>
              <a:rPr sz="2000"/>
            </a:b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of th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11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12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15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16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17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18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4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7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9-09T08:25:50Z</dcterms:modified>
  <cp:revision>249</cp:revision>
  <dc:subject/>
  <dc:title>Slide 1</dc:title>
</cp:coreProperties>
</file>