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4072-A9EC-4E69-82AB-23A9F1977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705A-E5B8-4C46-9C9F-854DBBB451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3ADE-F299-4B73-A798-D4368E7BDF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B23F0-81CD-4C68-B46F-8594A1A2D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A4BD5-73CC-4A80-AD32-180BD57C7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0364B-B018-4DE6-8250-C6973089D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605DF-0705-4271-9F8F-1218F1498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9CC73-DBC3-46C7-ADA5-80DC9BBDF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60969-0DD1-4DB7-ABD5-68DA2A02A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FC7B7-317D-4F91-8104-2E48043D0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725E5-33F1-4FDE-B105-A9EF3844B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864FD-F1A6-4359-B2A4-B2932C5CD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776FF-47A3-4965-BD12-FEDF97C21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82FA2-EDA5-47E1-9491-026A5FFB0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D105A-F331-4801-8884-A8B3B1049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FFC4F-AA71-4F9D-AE68-96AFFE2FC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9AF8C-3EC4-4825-8486-C84909776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72910-A7C6-403E-BE37-9123FD3F7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9C1AA-D48D-4F2B-828B-D3C2A438D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DA3E47-1A07-4EEE-873E-43A3C440F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B56E8-F892-450E-8F2C-FAD25B696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E4512-C350-479B-9BB2-4778AF83C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3B515-7B0A-44A7-B6A6-D52B3DF16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9D69D-E7C2-42BE-8491-A33196C2E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9847B-4481-4B41-9D54-2441E8C86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46597-F8D6-4E0D-9F91-F00D0B3C5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0E6D7-0D06-4B13-9DE1-A22B4F1AE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941B-30A5-4BEA-AB94-C4F596E3E3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5F68-1589-457C-ADBE-68DF732ACE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AEGIS CA will release private information on judicial order.</a:t>
            </a:r>
            <a:endParaRPr b="1" lang="en-US" sz="18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The procedure is defined in CP/CPS.</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7. (</a:t>
            </a:r>
            <a:r>
              <a:rPr b="1" lang="en-US" sz="2400" spc="-1" strike="noStrike">
                <a:solidFill>
                  <a:srgbClr val="ff0000"/>
                </a:solidFill>
                <a:latin typeface="Arial"/>
              </a:rPr>
              <a:t>C</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entity certificate extensions compliance with Grid Certificate Profile as defined by GFD.125.</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licyidentifier must include the OID or Authentication Profile uncer which the CA was accredited.</a:t>
            </a:r>
            <a:endParaRPr b="1" lang="en-US" sz="1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Our EE certs don’t have Classic AP OID, only CP/CPS OID and distributuion poin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lassic AP OID will be added to EE certs.</a:t>
            </a:r>
            <a:endParaRPr b="1" lang="en-US" sz="18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a:t>
            </a: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ggestions…</a:t>
            </a:r>
            <a:endParaRPr b="1" lang="en-US" sz="3200" spc="-1" strike="noStrike">
              <a:solidFill>
                <a:srgbClr val="ffffff"/>
              </a:solidFill>
              <a:latin typeface="Arial"/>
            </a:endParaRPr>
          </a:p>
        </p:txBody>
      </p:sp>
      <p:sp>
        <p:nvSpPr>
          <p:cNvPr id="14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4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10920" y="1989000"/>
            <a:ext cx="84582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 to version 1.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CP/CPS version: 1.3 (updated after last self audi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1</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EGIS CA Dublin self audit</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states that every change must be approved by the EUGridPMA.</a:t>
            </a:r>
            <a:endParaRPr b="1" lang="en-US" sz="18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requires that each host certificate is linked to a single network entity.</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No action as we don’t use hardware token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RA’s once per year to the CP/CPS. Short outlines of the audit procedures will also be added.</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Dunjica</dc:creator>
  <dc:description/>
  <dc:language>en-US</dc:language>
  <cp:lastModifiedBy>Dunjica</cp:lastModifiedBy>
  <cp:lastPrinted>1904-01-01T00:00:00Z</cp:lastPrinted>
  <dcterms:modified xsi:type="dcterms:W3CDTF">2013-09-08T07:23:58Z</dcterms:modified>
  <cp:revision>149</cp:revision>
  <dc:subject/>
  <dc:title>PowerPoint Presentation</dc:title>
</cp:coreProperties>
</file>