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C5E4B-339A-482F-8D3D-8BA6CD155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B56DB-14DE-4623-BA91-51B50AA84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34473-93D3-4C4C-8A7A-E8403A484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A262C-D697-4512-B0AE-E87A95081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DDAE0-A03E-448D-A18C-31986664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D3A71-6B22-41AE-8D7E-2A0F554CB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507E1-75DC-4588-9856-CF57CE7C3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DAA66-53E4-4988-81EC-02F88C167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394F2-27D2-4BF3-BE89-D38F70037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BC0BD-3A8B-46F5-AF47-7DB855B0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9C449-A83B-4FD4-91C0-7B6456FDC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EFE96-AF1D-4CF7-8B4F-AF1B951A7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62C84-03EB-46F5-83E3-3618BEC6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CC677-77FB-4A04-A23B-9C570F2CF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0E4FA-D0CF-4B29-9D8A-1FA08EDCE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D495-8B8E-4E67-A074-3BC6A4FFE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132F-7895-4B9D-8D4D-D97F39B29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4FCF-C067-467A-AC6D-36120CBA5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1EB1-C85C-453E-8259-AE2D94DD0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A9CD-EC3B-481F-91CB-3B86D82AD3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3E9B-7CF3-45AF-8AA8-8F08DEFBCC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C5FD-9AD8-44D6-9564-F0639977F9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5AA9-9099-4095-89D4-C4E381458E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50F4-3606-41FB-BB9A-15301F9403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001F-398C-4EC4-98B5-DE16332CF2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1875-261E-4754-8EF6-D097D3C67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7569-5CCA-4F60-A870-4FAF4EF22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E76C-BF9B-4A2E-865F-2635EFC9EC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FC89-4A0A-403F-9DFC-B5F8F9EACC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6A27E-6BE2-45E8-8E98-4A21DE270B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5AA0-3ADA-40DC-8DBD-3971C44EAC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A967-F332-4198-9695-7D44024143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7ACA-E494-4A67-87BD-B918B3F09F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7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840" y="131724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7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840" y="3946680"/>
            <a:ext cx="264816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3F6A-FE89-4491-BB8B-D454C18D4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6BF1-F57C-4B70-80A7-C5DF18A93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480" y="-3600"/>
            <a:ext cx="68486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8517-3324-4AB7-880A-64A3E7DEE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F654-9201-4E2E-9FE9-ADFE767AB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4668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88F2-2DA2-4FDB-8B8B-E28EC1006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317240"/>
            <a:ext cx="401364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6680"/>
            <a:ext cx="8224920" cy="24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3861-8B2C-4AB9-82D3-AEEDAD2DF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760" y="6307200"/>
            <a:ext cx="657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150E6-4CEC-430D-832B-7FF85F6038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2"/>
          <p:cNvGrpSpPr/>
          <p:nvPr/>
        </p:nvGrpSpPr>
        <p:grpSpPr>
          <a:xfrm>
            <a:off x="5403960" y="214200"/>
            <a:ext cx="3522600" cy="1287360"/>
            <a:chOff x="5403960" y="214200"/>
            <a:chExt cx="3522600" cy="1287360"/>
          </a:xfrm>
        </p:grpSpPr>
        <p:sp>
          <p:nvSpPr>
            <p:cNvPr id="42" name="WordArt 3"/>
            <p:cNvSpPr txBox="1"/>
            <p:nvPr/>
          </p:nvSpPr>
          <p:spPr>
            <a:xfrm>
              <a:off x="5457960" y="214200"/>
              <a:ext cx="21762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4"/>
            <p:cNvSpPr/>
            <p:nvPr/>
          </p:nvSpPr>
          <p:spPr>
            <a:xfrm>
              <a:off x="5403960" y="858960"/>
              <a:ext cx="352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760" y="6356160"/>
            <a:ext cx="65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BF156-61BC-482A-81B6-CDC61E98F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480" y="-3600"/>
            <a:ext cx="68486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317240"/>
            <a:ext cx="822492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ovw=True&amp;confId=17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Derek Simmel &amp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898989"/>
                </a:solidFill>
                <a:latin typeface="Calibri"/>
              </a:rPr>
              <a:t>Alejandra Stol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ae00"/>
                </a:solidFill>
                <a:latin typeface="Calibri"/>
              </a:rPr>
              <a:t>EUGridPMA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Buchares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Sep 9th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731880" y="1317600"/>
            <a:ext cx="795492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CADAE-A713-424B-B2D3-98577ED62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36440" y="1397160"/>
            <a:ext cx="89535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2) InCommon CA CPS evaluation completed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ote to ACCEPT/DECLINE for accreditation currently under way via e-mail vote (due Sept. 11, 201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3) IGTF All Hands Meeting scheduled for November 6-8, 2013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ed by UNLP in La Plata, Argentin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ference details available 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1560" indent="-227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alibri"/>
                <a:ea typeface="ＭＳ Ｐゴシック"/>
                <a:hlinkClick r:id="rId1"/>
              </a:rPr>
              <a:t>http://indico.rnp.br/conferenceDisplay.py?ovw=True&amp;confId=17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1240" indent="-284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raft agenda to be added shortly - suggestions welcom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317600"/>
            <a:ext cx="822960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Lead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TAGPMA Memb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mmunication Infrastruc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AGPMA Conference Ca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meeting is TAGPMA 18 (IGTF All Han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urrent wor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0E8DD-20F4-40FF-BFDB-EB5394574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317600"/>
            <a:ext cx="82296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hair: Derek Simmel (PSC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simmel@psc.ed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ce Chair: Scott Rea (DigiCert + REBC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cott@DigiCert.co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y: Ale Stolk (ULAGri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stolk@ula.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9E695-32D9-4884-B145-A16F57F22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039680" y="1143000"/>
          <a:ext cx="7067520" cy="545472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60720"/>
                <a:gridCol w="1584000"/>
              </a:tblGrid>
              <a:tr h="3175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s-VE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56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205200"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3528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s-VE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06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317600"/>
            <a:ext cx="82296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5 Members from North, Central and South Americ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vering Canada, US, Mexico, Venezuela, Chile, Peru, Argentina, Brazil, Colombia and Panam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12 Classic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DOE Grid accredited by EUGridP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7 SL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x 3, FermiLab, NERSC, PSC, NICS UTK -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138320" indent="-22392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CSA – US and CILogon – U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2F385-CC45-4546-AA92-E9D09A6B8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57200" y="1317600"/>
            <a:ext cx="82296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Classic pending (SENAMHI – Peru, InCommon – U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2 MICS pending (SDSC, NCAR – US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CA (Comodo for low-cost host cert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7 Relying Parti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(CIDETYS/UTP, FNAL, LCG, OSG, REBCA, redCLARA, XSED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Common voted in as new prospective AP memb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GF has expressed interest in membersh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nterest expressed (again) by Ecuador and Costa Rica in becoming AP member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D1D3E-610B-4C6D-8F0A-3C54C0D11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833480" y="1440"/>
            <a:ext cx="685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3176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static, public information &amp; profi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verhaul still way overdue </a:t>
            </a:r>
            <a:r>
              <a:rPr b="0" lang="en-US" sz="20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hosts in-process TAGPMA documents, notes, tutorials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Contains agenda and minutes from monthly m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-mail any issues direct to the Chair (dsimmel@psc.edu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00E7A-7A5C-4087-9FD1-F75EAA356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83348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1317600"/>
            <a:ext cx="822960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Next call will be September 11, 201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Video arrangements: RedCLARA VC Espress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Request for agenda items goes out ~1 week before the next cal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The agenda is usually posted on tagpma-general e-mail list no later than 1 day before the meet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B80F7-F00C-499C-8A17-3948811FA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833480" y="63360"/>
            <a:ext cx="685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VE" sz="3200" spc="-1" strike="noStrike">
                <a:solidFill>
                  <a:srgbClr val="c0504d"/>
                </a:solidFill>
                <a:latin typeface="Calibri"/>
              </a:rPr>
              <a:t>Current 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1317600"/>
            <a:ext cx="8229600" cy="58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1A188-613B-4E27-8F3F-7E6E81923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58840" y="1371600"/>
            <a:ext cx="84963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Updated MICS profile to (v.1.3) add the following statement in Section 3.1 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Identity vetting rules for the primary identity management system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"On the Kantara Initiative Identity Assurance Framework Levels of Assurance scale [Kantara2010], Assurance Level 2 and higher are considered sufficient for MICS PKI identity vetting."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ith the referenc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[Kantara2010]  Glade, B. (Ed.). “Identity Assurance Framework: Assurance Levels” Version 2.0 24 April 2010. Kantara Initiative. http://kantarainitiative.org/confluence/download/attachments/41649275/Kantara+IAF-1200-Levels+of+Assurance.pd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9-09T02:42:02Z</dcterms:modified>
  <cp:revision>23</cp:revision>
  <dc:subject/>
  <dc:title>PowerPoint Presentation</dc:title>
</cp:coreProperties>
</file>