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D69-D883-4136-A77B-B1FF0ECB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9AF-D75A-4E8C-996B-AE90789E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76B-A060-4D9F-82B8-F19A9D9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DBE5-BDCF-4C13-B70A-A939169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BB3F-EC97-4E21-AAB8-3721CB86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1958-8E3A-43D9-BCFC-577A43A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F81-669D-4ABE-88CD-8F09090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2AF-7A08-4368-AEC3-30A46CEE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ABD-E55C-4504-B715-0124C9D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D53-D851-4349-A68C-18DD8B15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B1BF-F486-4438-A7CB-E6BB821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C76-40D7-4CF9-B86E-CFEC73A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B2F-91EB-4EAA-A206-EAB6B47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AEF5-605A-43D6-A4BA-ED967A0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FE2-E4C4-4B8E-B604-70C541C5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0F3-5463-416B-88DE-7867CF94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43D4-4B1E-4920-912A-48C6B37D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4DC-4C3D-4162-A4CF-7AF4F35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100E-E8EE-4A9A-BF8E-119F644E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6660-07F9-41A7-A8AB-491AADB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1FB2-F665-4F6C-9E85-F718291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EA11-97E6-440E-938A-D3C9563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FD9E1-DAC1-40CD-8B1B-B4FC8BBB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A24C-0393-4FED-94E7-0166095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FC71-A21C-4838-A7B7-C686824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C905-59A5-4230-9BAC-FDEBB87B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8269-AAC4-42EC-B6BA-5B393F4C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7D84-456F-4CFF-8741-D598429A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7A2-50B4-4817-8753-A481101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B3DE-D46F-4E39-8B11-58727A4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07F5-5136-4F3B-9A24-462025E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F83CB-0D99-4713-9227-DECA880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BA7B-1B77-46E8-8227-6B7EA2B6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D413-68F9-46F4-BC24-548E6CB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4D4D-57F6-4418-AD37-ED718FAE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A5F2-11DC-4037-8A74-E4176309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C6D7-245A-4BC2-AB33-35A3D17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CBE6-8848-420B-B654-D98A6C74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532F-536D-4A9B-A5A9-B4B2A15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81C-5BD7-4F29-9E55-18676F7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24F6-43BE-400C-8A7E-E2C37EA5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3C10-1D13-4FB1-B1CB-8ECD6F5B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7B97-FCF0-400A-8802-9575382F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DE2-F3B1-4F15-8BB2-01843295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6DC-4873-4DA1-BC52-FA0A245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B6C-B365-49AF-B93A-1E158F8E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BD8-0C7C-43D1-AEF1-DB03A643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9E8-861F-44E1-AEC7-D0B4B6E6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EA26EF5-7A40-4819-8B2A-0FCB113498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D5AAD750-DD08-4381-9EC5-BDA52ABE446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FC3CCA4-6D52-4C76-923B-85328ECAEB0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C4766605-0685-4F45-92E2-8C298D7737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8AA5B321-8707-4DBC-A8D5-6ADFDDD7416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9E48A3EE-621E-400B-9417-615D2C36194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F5A-2F2D-4297-B766-D595483A3758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66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7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8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9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5E5-CBAA-4CCD-95C5-704D506EF6E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2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12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8E9-C6FD-4518-94F4-D6E2FEA92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A9F6-7C00-45B4-ACAB-A220B8F4CA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3CD0E82D-D8FF-4A58-B65A-2EB1A63A32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5F2661CC-D872-464D-A7C1-DD79EB333E1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2D7D159C-0F9F-411E-81D4-CAB6B2E861F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F6053D5E-ED64-4923-9771-B2EA4D5CBAC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82B7D065-9884-4A03-A56D-E38F65C88F2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EUGridPMA  Kyiv 2013 meeting –  </a:t>
              </a:r>
              <a:fld id="{E241F90F-9928-4DE3-8576-5FEF4FB1A98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URFs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626580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H:\Home\davidg\EUGridPMA\IGTF\IGTF-logos\IGTF-logo-full.wmf"/>
          <p:cNvPicPr/>
          <p:nvPr/>
        </p:nvPicPr>
        <p:blipFill>
          <a:blip r:embed="rId2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3" descr="H:\Home\davidg\EUGridPMA\Meetings\2013-04-TAGPMA-Boulder\8F587723-C9D8-48EF-8C07-EE3053C0EF70[5].png"/>
          <p:cNvPicPr/>
          <p:nvPr/>
        </p:nvPicPr>
        <p:blipFill>
          <a:blip r:embed="rId3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0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4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50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OTA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IOTA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3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6"/>
          <p:cNvSpPr/>
          <p:nvPr/>
        </p:nvSpPr>
        <p:spPr>
          <a:xfrm>
            <a:off x="5148360" y="109368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olicy eco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commensurate to risk level</a:t>
            </a:r>
            <a:br>
              <a:rPr sz="2000"/>
            </a:br>
            <a:r>
              <a:rPr b="0" i="1" lang="en-GB" sz="2000" spc="-1" strike="noStrike">
                <a:solidFill>
                  <a:srgbClr val="c00000"/>
                </a:solidFill>
                <a:latin typeface="Arial"/>
              </a:rPr>
              <a:t>of the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11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12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15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16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17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18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4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7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9-09T08:25:50Z</dcterms:modified>
  <cp:revision>249</cp:revision>
  <dc:subject/>
  <dc:title>Slide 1</dc:title>
</cp:coreProperties>
</file>