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1021816-51AA-473F-B569-0068328439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BF8F1A-E9BF-42C1-B734-FAD32191D2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E2EC52E0-E22B-4035-A62D-49010740804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8202D94E-91BE-4F3F-A7A7-B3A2D8BF86C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95D30C2-9BB8-448B-B350-72250465FA7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6EA2616-2CE1-40FE-8FD0-643BAF65CE8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4A28774E-A661-4B4F-8368-8E68A770C6C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B103F48-9C2D-4361-B372-0BCCD5754A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25C829A-E368-4E8F-B5E6-5141C820D8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F7726C4-D830-4CF9-A921-74F0C8C7E51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7DD4215B-6318-481F-AEB8-F080A26DF7B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D6BA255-563B-4E4C-A173-0AD64ADAF49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1C30BC3-31F2-46A5-85D4-7B71228B700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IOTA Questions for RPs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Sept 9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Bucharest, Romani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TechWednesday top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 certificate renewal guidance (serial numbe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esting possibilities for production use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questionnaire (cntd)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iding certificates from end-users and increased use of credential repo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gress on the IGTF test suite construction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paration for the IGTF All Hands;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GI TF session on identity management requirements;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Basic Premis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globally uniqu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Subject names must be persistent (for the life time of the authorit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t’s about people and robo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Naming of IOTA subjects must be different from other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Questions for RP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/RCs need the ‘real name’ of the person the certificate subjec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s it enough to be able to ask another entity to give you the name (e.g. the VO, community, other site or central LDAP)?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assurance level do you expect from this 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 party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up-front (before or at use ti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need this information at end (e.g. for accounting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or It is sufficient to be able to ask an entity to contact the user on your behalf (like a privacy servic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Should pseudonyms be clearly identifiable (e.g. if they look like a name they should be the real name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Lucida Sans"/>
              </a:rPr>
              <a:t>The email use case will not work: since emailAddress must be embedded in the SAN, but the mail will be pseudonymous as wel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OTA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etting assurance level and responsibil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iven that the name may be a pseudonym and is weakly verified, do you (RP, community) have the mechanisms in place to strongly identify the real user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enforce obfuscated naming for all subject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will you (RP, VO) deal with ‘identity spoofing’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do you currently enrol users in the community? Do you use or rely on the commonName of the subject for adding people to your databases (or get a ‘warm fuzzy’ feeling in association with e.g. unsigned email)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racability by the V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re you set up to provide traceability for your user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you have means and procedures for incident response and mitigatio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uditability, traceabil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ccess to the user information by R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insist that the collection of this data is verifiable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document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of processes be audited periodically (expensive!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hould the chain be auditable? Or contract/sanction-based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 user may and will have many credentials and changing names: does this pose issue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Do you expect e.g. the community to provide a real name up-front with every access request (e.g. in a VOMS generic attribute)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(RCs) need to be able to independently trace the user without involving the user commun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n a registration mechanism, retrievable or callable by the RP, satisfy this requirement (e.g. like the EGEE CIC portal having an ability to send email to the owner of a DN)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the RPs need to be able to trace without involving the C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Which are the ‘emergency cases’ where they expect CA involvement in tracing or contacting subscribers?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Incident respons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 RPs/RCs expect the CA to be involved in incident respon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an incident where you expect CA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What is the level of involvement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a classification of incidents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f there are up-stream IdPs, are you ‘happy’ with just the CA response even if upstream does not participat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 more than pure credential revocation in case of demonstrable credential compromise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see the CA more than a fall back to point to in case LEA comes after you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o you expect/prefer suspension possibilities? Do you have this capability at the RP level (through authorization)?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an you get by with just your own response capability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9-11T08:13:17Z</dcterms:modified>
  <cp:revision>622</cp:revision>
  <dc:subject/>
  <dc:title>European Grid Policy Management Authority</dc:title>
</cp:coreProperties>
</file>