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C06022-5D9B-4449-B0C7-ED4D5AC991C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F4DD1E-20F4-4930-A1FE-470846B01B0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26F6-D4AE-493D-8BCD-A8304FC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28E9-6479-4729-B521-133E350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F57-EF99-4177-913C-9F3CB43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8F0B-B12A-4BD4-AFC1-BBB5257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13D6-CE14-4E56-923C-1F3EBFA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0BB-1A54-4098-9861-C371519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5C9-6266-41CD-AF55-2B7F602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404-B740-41C4-B8E4-AFC6E0AF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7AA1-FF66-4E1A-B1C1-1C7BFF24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E28-08BC-4C6B-9F36-BCA41470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4DD-1AE9-41CE-B32C-109E017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D2A-194F-4FD5-8106-59C8A1A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A81-4B84-4EB8-8520-2F5FB8A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5ED-EF23-497B-8ADE-26D677E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7E7-DE0F-41C0-9C01-B79E9035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79C-7323-487B-BA23-1B36E701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E6E-AD09-4B01-A1C5-30C260C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658-41C0-453B-BDE3-0A3E276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580-5C10-4B6B-8403-41EFB540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57C-C6E2-4287-A9AE-C9C42B03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A1C-9109-472A-BBF6-37E4C77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B12B-C3B1-4239-BEA5-D46A527A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FF3-7F31-4926-9533-5EA57FB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3B5D-27C0-470B-8028-293C8B9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Łącznik prostoliniowy 1"/>
          <p:cNvSpPr/>
          <p:nvPr/>
        </p:nvSpPr>
        <p:spPr>
          <a:xfrm flipH="1">
            <a:off x="1653840" y="177336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Łącznik prostoliniowy 1"/>
          <p:cNvSpPr/>
          <p:nvPr/>
        </p:nvSpPr>
        <p:spPr>
          <a:xfrm flipH="1">
            <a:off x="1653840" y="194472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 Supercomputing and Networking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Podtytuł 2"/>
          <p:cNvGrpSpPr/>
          <p:nvPr/>
        </p:nvGrpSpPr>
        <p:grpSpPr>
          <a:xfrm>
            <a:off x="128520" y="5138640"/>
            <a:ext cx="9015480" cy="1792440"/>
            <a:chOff x="128520" y="5138640"/>
            <a:chExt cx="9015480" cy="1792440"/>
          </a:xfrm>
        </p:grpSpPr>
        <p:pic>
          <p:nvPicPr>
            <p:cNvPr id="186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15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 POLAND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: phone center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snc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valon"/>
                <a:ea typeface="Arial"/>
              </a:rPr>
              <a:t>affiliated to the Institute of Bioorganic Chemistry of the Polish Academy of Sciences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skie Centrum Superkomputerowo - Sieciow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Podtytuł 2"/>
          <p:cNvGrpSpPr/>
          <p:nvPr/>
        </p:nvGrpSpPr>
        <p:grpSpPr>
          <a:xfrm>
            <a:off x="128520" y="5138640"/>
            <a:ext cx="9058320" cy="1792440"/>
            <a:chOff x="128520" y="5138640"/>
            <a:chExt cx="9058320" cy="1792440"/>
          </a:xfrm>
        </p:grpSpPr>
        <p:pic>
          <p:nvPicPr>
            <p:cNvPr id="227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583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 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css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valon"/>
                <a:ea typeface="Arial"/>
              </a:rPr>
              <a:t>afiliowane przy Instytucie Chemii Bioorganicznej P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285767-5C7E-4FAC-8E04-9F8F27039DDA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663327-2BFB-4B0B-A950-E990B1A0ED85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69436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sh Grid C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lf au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weł Woln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i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is is an important change for EUGridPMA. Shouldn’t we collect confirmation from all CAs that SHA2 is put in produc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(the same with other important changes, like key leng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Many issues resulting from new procedures that are not described in 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cept requests via WWW instead of m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erification form in pa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1024-&gt;204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ertificate profile descrip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ew web p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t of minor clarifications and corr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machine is dedicated to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CN is name with optional suff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CA expiration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larify 395 days vs. 1y+1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some misspell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Key Changeover s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CA should perform operational audits of the CA/RA staff at least once per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w? Any guidelin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chould it have auditable for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2. Firm personal aquitanc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certificates: the subject should contact RA in F2F meeting, and present photo-id and/or valid official documents showing that the subject is an acceptable EE as defined by CP/C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configure CA  (immediatel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witch to SHA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P/CPS  (next week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robot certific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write CP/CPS according to RFC364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KI in Po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erena T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Grid Simple C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ionier P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Lo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4" descr="mapa PIONIER"/>
          <p:cNvPicPr/>
          <p:nvPr/>
        </p:nvPicPr>
        <p:blipFill>
          <a:blip r:embed="rId1"/>
          <a:stretch/>
        </p:blipFill>
        <p:spPr>
          <a:xfrm>
            <a:off x="4140360" y="2060640"/>
            <a:ext cx="4248000" cy="43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rted and acredited in 20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al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originally to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As in 7 cities 14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tistics for 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sts and services - 14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- 24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Wykres 1" descr=""/>
          <p:cNvPicPr/>
          <p:nvPr/>
        </p:nvPicPr>
        <p:blipFill>
          <a:blip r:embed="rId1"/>
          <a:stretch/>
        </p:blipFill>
        <p:spPr>
          <a:xfrm>
            <a:off x="272880" y="3233880"/>
            <a:ext cx="8382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 version 0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ecember 1,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ot updated since 2009, but there were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lf-audit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55 (2 with 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2 + 1 not in check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rostokąt 3" descr=""/>
          <p:cNvPicPr/>
          <p:nvPr/>
        </p:nvPicPr>
        <p:blipFill>
          <a:blip r:embed="rId1"/>
          <a:stretch/>
        </p:blipFill>
        <p:spPr>
          <a:xfrm>
            <a:off x="115920" y="1579680"/>
            <a:ext cx="1414440" cy="1565280"/>
          </a:xfrm>
          <a:prstGeom prst="rect">
            <a:avLst/>
          </a:prstGeom>
          <a:ln w="0">
            <a:noFill/>
          </a:ln>
        </p:spPr>
      </p:pic>
      <p:pic>
        <p:nvPicPr>
          <p:cNvPr id="375" name="Prostokąt 4" descr=""/>
          <p:cNvPicPr/>
          <p:nvPr/>
        </p:nvPicPr>
        <p:blipFill>
          <a:blip r:embed="rId2"/>
          <a:stretch/>
        </p:blipFill>
        <p:spPr>
          <a:xfrm>
            <a:off x="128520" y="2230560"/>
            <a:ext cx="1444680" cy="1560240"/>
          </a:xfrm>
          <a:prstGeom prst="rect">
            <a:avLst/>
          </a:prstGeom>
          <a:ln w="0">
            <a:noFill/>
          </a:ln>
        </p:spPr>
      </p:pic>
      <p:pic>
        <p:nvPicPr>
          <p:cNvPr id="376" name="Prostokąt 5" descr=""/>
          <p:cNvPicPr/>
          <p:nvPr/>
        </p:nvPicPr>
        <p:blipFill>
          <a:blip r:embed="rId3"/>
          <a:stretch/>
        </p:blipFill>
        <p:spPr>
          <a:xfrm>
            <a:off x="122400" y="2889360"/>
            <a:ext cx="1444320" cy="1560240"/>
          </a:xfrm>
          <a:prstGeom prst="rect">
            <a:avLst/>
          </a:prstGeom>
          <a:ln w="0">
            <a:noFill/>
          </a:ln>
        </p:spPr>
      </p:pic>
      <p:pic>
        <p:nvPicPr>
          <p:cNvPr id="377" name="Prostokąt 6" descr=""/>
          <p:cNvPicPr/>
          <p:nvPr/>
        </p:nvPicPr>
        <p:blipFill>
          <a:blip r:embed="rId4"/>
          <a:stretch/>
        </p:blipFill>
        <p:spPr>
          <a:xfrm>
            <a:off x="-103320" y="3597120"/>
            <a:ext cx="19130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policyIdentifier must include the OID  for this profile: 1.2.840.113612.5.2.2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RA must validate the association of the certificate signing reque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digest of request to paper verific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ill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HA256 was set as default on August 2013. Soon one middleware group in PSNC protested and we set back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e plan was to switch from beginning of 2014, but it was not d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weł Wolniewicz</dc:creator>
  <dc:description/>
  <dc:language>en-US</dc:language>
  <cp:lastModifiedBy>Paweł Wolniewicz</cp:lastModifiedBy>
  <dcterms:modified xsi:type="dcterms:W3CDTF">2014-05-13T22:57:43Z</dcterms:modified>
  <cp:revision>22</cp:revision>
  <dc:subject/>
  <dc:title>Slajd 1</dc:title>
</cp:coreProperties>
</file>