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CF2F6-0F44-419F-8F6B-B8D0E6BA2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2445F-B012-4413-AD1A-2A6C6C2EA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23F76-C25F-4B2D-B90A-BAF135380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5186F-F340-49B3-A5B3-1587E2443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BC3ED-8C93-4352-B791-763123810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802B0-E268-471C-A5CB-72821F383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96242-700D-4DDD-A6AC-4A411149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31B52-590A-4093-873B-951AA911D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BE60A-E219-4C55-8A77-A856DD053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60DB5-5021-48F0-81EB-CF206784C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4A16D-F7BC-45C5-AABE-C83053A8B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FAD21-3F28-4E7B-A403-4E7CA4301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7D127-C36F-4EC1-AF64-7711380BE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B8F91-03DE-4D40-AA7B-552441B61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E810-0DAF-4B2F-B3AA-3587BD3D2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6B07-FBF4-4D06-8523-9F8ADA496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9029-6300-4108-A438-8D6AF3AF3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EF3F-6079-43AB-BFC2-B23F0D4C1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A9EF-3194-411B-8D2B-CA213AA57E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FE4A-3CED-4163-A424-EA52680311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6B40-5198-43FE-BBF3-0CC29C2017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902A-ED52-4802-9E61-25FB9A7C40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C96A-EC47-4F6B-82B6-3F5A41FFED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0FDB-8554-430F-8F8B-C0BE5281FE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4843-5264-48C2-AD37-CB7366602F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5236-87B8-48F9-A6C4-2C6F8146C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E65C-1AAC-4748-8421-F828DDA9B0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8564-24A4-4CED-B0D2-71E01A844A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6599-9860-4D1E-B6BF-0DD405B24A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B563-3CEB-4CFB-8D13-2EA9B37EAB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0F96-612A-4A59-88F1-1631359E73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12F3-EA15-49EA-863B-D0D58CFB17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D188-ADB5-47CD-8DD3-704D7F7C0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6356-539F-4112-A5C3-639CEC50B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F92D-DEA8-4F67-95EF-E90CE28AA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782B-6217-4E91-B56E-8C3CA60C1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8042-320B-45CB-B922-3CAA7E7B4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0E4A-DBBB-4597-A0B1-F5D1A7B19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2C8A2-D1EE-4357-8E99-FEC4E0242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A3257-53A5-4211-8299-F7AF0F39A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br>
              <a:rPr sz="3200"/>
            </a:b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(delivered by David [Groep|Kelsey]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31</a:t>
            </a:r>
            <a:r>
              <a:rPr b="0" lang="en-GB" sz="2200" spc="-1" strike="noStrike" baseline="30000">
                <a:solidFill>
                  <a:srgbClr val="00ae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 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Tartu, Eston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May 14, 20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Upcoming TAGPMA F2F Meeting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9 (Lehi, Utah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une 4-6, 2014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sted by DigiCer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indico.rnp.br/conferenceDisplay.py?confId=190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20 (Valparaiso, Chile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October 20-22, 2014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-located with CARLA conferenc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indico.rnp.br/conferenceDisplay.py?confId=191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carla2014.hpclatam.org/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ws and Current wor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pcoming Face to face meeting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19 (Lehi, Utah) June 4-6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indico.rnp.br/conferenceDisplay.py?confId=1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20 (Valparaiso, Chile) Oct. 20-22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indico.rnp.br/conferenceDisplay.py?confId=19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ocated with CARLA con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carla2014.hpclatam.org/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6B9BE-7758-4C65-AA3C-F09FBCF10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 Chair for Latin America: Ale Stolk (ULAGri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rdinates activities with Spanish-speaking partners and members and leads TAGPMA </a:t>
            </a:r>
            <a:r>
              <a:rPr b="0" i="1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pañol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meet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TBD - Ale Stolk (ULAGrid) in interi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 Webmaster: TB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new posi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252D6-951B-4E43-8109-1510E3F0D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990720"/>
          <a:ext cx="7067520" cy="565920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6440"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628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628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Wynko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ardo Ja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el Quint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G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Argentina, Brazil, Canada, Chile, Colombia, Mexico, Panama, Peru, U.S.A. and Venezuel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2 IGTF Accredited C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3 Classic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rgentin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LPGri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razil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FF BrGrid &amp; UFF LACGrid, ANSPGri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anad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ridCanad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ile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U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ombi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AND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exico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A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, DOEGrid (EUGridPMA), InComm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enezuel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LAGrid UNA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(3), FermiLab, NERSC, PSC, NICS UTK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, InComm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1D037-9570-4D00-AA40-407A3445E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5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Classic pending CP/CPS (SENAMHI – Peru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CP/CPS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– Operational Review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ILogon BASIC CA – (IOTA) – Operational Review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9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ESNet, FNAL, LCG, OGF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Net moved from AP to R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Prospective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hio Supercomputer Center CA for State of Ohio K-12/Univ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948CD-844E-40FA-A207-58C6D38A5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1317600"/>
            <a:ext cx="822960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ED9CD-6FA3-4914-A464-7E5F03C2B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58840" y="1371600"/>
            <a:ext cx="8496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News and Current Work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OTA Profile 1.1 approved by TAGPMA members for use in accreditation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ILogon BASIC CA is first candid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</a:t>
            </a:r>
            <a:r>
              <a:rPr b="0" i="1" lang="en-US" sz="2400" spc="-1" strike="noStrike">
                <a:solidFill>
                  <a:srgbClr val="1f497d"/>
                </a:solidFill>
                <a:latin typeface="Calibri"/>
              </a:rPr>
              <a:t>Español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meetings launched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panish language monthly cal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0" lang="en-US" sz="2000" spc="-1" strike="noStrike" baseline="30000">
                <a:solidFill>
                  <a:srgbClr val="1f497d"/>
                </a:solidFill>
                <a:latin typeface="Calibri"/>
              </a:rPr>
              <a:t>st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Tuesday each Month, 14:00 UTC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ttp://dev1.redclara.net/sivicv2/8/23982 web conferenc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le Stolk (new Chair for Latin America) leading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-do Lis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ominations accepted for TAGPMA officers (next 2-year term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ngoing Accreditations, Membership renewals, website overhaul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rafting guidance documentation for developers and sysadmi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94480" indent="-43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opics include SHA-2 compliance and profile upd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672E9-B6BC-4600-B9AA-4E87B0D09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nglish Video Conference Calls are Monthly, at 12:00 noon Eastern (US) time on the 2</a:t>
            </a:r>
            <a:r>
              <a:rPr b="0" lang="en-US" sz="2400" spc="-1" strike="noStrike" baseline="30000">
                <a:solidFill>
                  <a:srgbClr val="1f497d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Wednesday of each mon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after June TAGPMA 19 F2F will be July 9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panish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ideo Conference Calls are Monthly, at 14:00 UTC time on the 1</a:t>
            </a:r>
            <a:r>
              <a:rPr b="0" lang="en-US" sz="2400" spc="-1" strike="noStrike" baseline="30000">
                <a:solidFill>
                  <a:srgbClr val="1f497d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Tuesday of each mon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after June TAGPMA 19 F2F will be July 1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B9264-AEDC-4ADB-B592-833FD33E8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4-05-13T19:53:09Z</cp:lastPrinted>
  <dcterms:modified xsi:type="dcterms:W3CDTF">2014-05-13T19:54:21Z</dcterms:modified>
  <cp:revision>39</cp:revision>
  <dc:subject/>
  <dc:title>PowerPoint Presentation</dc:title>
</cp:coreProperties>
</file>